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FB2F-EE1B-4924-A190-295236F903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CCBD-3A82-4959-8AE9-7B9CBFE3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19B-8F65-4CE7-958D-41BAA355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F25-2BD6-419B-9C7A-B2A9B04A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705C-572B-44A2-97A0-8358C9D2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218-ACD8-43A3-B2F8-A81DF9CC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578-EDAF-49D9-AC79-90D36F16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3FAB-EAD9-4CDB-872E-9CD31CC75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E64-3F8D-4C81-9AE0-2075259B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657-DE76-48B3-91A9-E5943E9A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6E56-F554-4BA9-9486-E1E9694F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0F9A-8764-4F51-AD67-7E010733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355-2CFB-4F9C-9741-710080CF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8293-048A-4A12-9975-0B449FC3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2F0-4DF9-4726-AA0C-7F45A6529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CE0-7C81-4082-B5F7-F61C3E3B2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456-4CE9-4AB1-BD43-860443D0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09C-1143-4F14-98FB-91D0A5F1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E39-A2BD-4D1A-A854-04E34FA70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33B-145B-4EFE-87FA-6215BA0E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B34-E4C9-4DE1-9F9C-D3DB87BE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145-0B87-4E0B-97B2-F749CC7B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951-3EE1-43D3-BCB4-CBF41C6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172-67E0-42B6-8ECA-9B6C6348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3C1-4735-4EAF-BA9E-8595D1D8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161-E4EE-4ECC-B46F-9F376198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4D6-A6A4-4E40-A5C2-AD80E97E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59D-005C-4D86-93E2-97DF341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040-89E3-4904-B697-0DC92C9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F03-E368-4A9C-86C4-8956F28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082-3BD5-4E60-8685-B8F6E74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5A5-4CFE-4DE1-A845-43A743E1C42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¿qué actuaciones pueden comprometer responsabilidad Esta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ponsabilidad por actividad líc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emplo histórico: Exprop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el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sacrificio especial”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de la víc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mento atributivo de responsabilidad actuación irregular de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falta de servicio refleja la “culpa o responsabilidad de la organ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troducción de la “falta de servicio” en Chi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L 1289/76, art. 6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funcionen debiendo hacerlo, o lo hagan en forma defici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575, art.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695, art. 1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finición de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ey no la ha definido, pero en todo caso, el leitmotiv del sistema ser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órganos de Administración son responsables de daños que causen p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obstante, Estado tendrá acción de repetición contra el funcionario que hubiere incurrido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person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racterísticas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tituida por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rencia tot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prestación del servicio, por un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rganización irregu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por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uncionamiento defectuos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ard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necesario probar dolo o culpa autor material  daño; sólo es necesari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reditar la falta, deficiente o tardía prestación d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ersona de funcionario no intere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ponsabilidad recaerá únicamente en 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funcionario es individualizable, su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ón y omisión puede o no ser constitutiva falta administrativ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iendo ello independiente existencia de falta de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ierry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42 L. 18.575 resume todo el sistema francés de la 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 aplica 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ctividad material y jurídica de Administ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 “culpa del servicio” (resp. subje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López Sta. Marí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e referencia a un resultado ineficiente o daño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García Mendoz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una nueva y especial forma de responsabilidad pública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responsabilidad no obliga a víctima a probar dolo o culpa en autor material daño, basta el dañ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obstante debe acreditar la falta, deficiente o tardía prestación del servicio, pero ello no le otorgaría algún grado de subjetiv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Calibri"/>
              </a:rPr>
              <a:t>Parámetro de medición de la “falta de servicio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omparación con patrón de refer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derecho común es el buen padre de familia (art. 44 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trón para juzgar conducta Administración está referido a lo qu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 razonablemente exigirs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un comportamiento normal y legal, a un servicio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erto en una realidad particula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una situación especial de paí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ndo posibilidades reales de acción de Administ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dido sus medios, su presupuesto y características prop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001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aso Pavez Jara, Juan con Municipalidad de La Florida 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(caída de niño a piscina, cuyo borde está mojad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Sostiene el libelo que había habido falta de servicio al encontrarse el borde moj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Corte sostuvo que del actuar de la municipalidad había sido perfectamente normal, toda vez que no podía exigírsele que tuviera totalmente secos los bordes de la pisc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Fue la conducta o el hecho (culpable o no, no importa) de la víctima la causante del accidente, puesto que el borde mojado de una pileta no es la consecuencia de omisión municipal alguna, desde </a:t>
            </a:r>
            <a:r>
              <a:rPr b="1" lang="es-ES" sz="2300" spc="-1" strike="noStrike">
                <a:solidFill>
                  <a:srgbClr val="ff0000"/>
                </a:solidFill>
                <a:latin typeface="Calibri"/>
              </a:rPr>
              <a:t>que lo normal es que una piscina esté mojada y resbaladiza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, de manera que de lo que aquí se trata es de riesgos asumidos por la propia víctim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 actuación (unilateral) puede comprometer responsabilidad, en tanto sea extracontr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uede ser positiva o neg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3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osi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l o juríd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terial o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4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nega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–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-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5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de tratarse de actuación irregular o líc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ctuación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6 y 7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dministración responde por actuaciones ilícitas de sus órganos, es decir, infractoras de normas constitucionales y leg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ien ejerce el poder, debe hacerlo conforme al ordenamient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Estado de Dere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Responsabilidad por actividad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lación de caus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ctuación regular o lí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1, inc. 4, y 5, inc. 2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esión de derechos importa antijuridic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recho justifica el obrar permitido, que por ello es lícito, en cambio no justifica ni legitima que como consecuencia de él se ocasione un da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igualdad de cargas públicas, derecho a la propiedad, la equidad, el bien com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6T20:17:12Z</dcterms:modified>
  <cp:revision>163</cp:revision>
  <dc:subject/>
  <dc:title>CONTROL</dc:title>
</cp:coreProperties>
</file>