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4371-91E5-4246-802B-7E5A3BED4B9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2227-14B8-45E4-9361-B3B7C21226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A4B7-8434-420C-A19A-C8560CF5E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8488-E37F-473E-A66A-51FD3C05E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0C41-0D68-47FB-B544-2F9CA7498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B191-0CA8-4DF9-A15B-4FB99D486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AF57-3CC9-46B0-9D8C-EB0817DAC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E13B-EA09-42BD-8839-A61EFC684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8094-1C1E-4749-A6E4-6BBE7DE078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8EEB-D832-4A5C-B382-1CD8EF1CBD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2666-3C62-405D-8CD2-2E50DBC43B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D055-72F5-4A0B-BFDC-16C3F2470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5C96-59EF-49BB-B7C9-4256364267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5C9B-6F67-44B1-905C-FD1A1239DA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C1F6-7911-4A97-B1CF-FC15888F72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2120-349E-49FF-A1CC-63A6C0BBE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751-D9CA-42AA-B065-D645B500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0BE-454D-4C1B-A9DF-AF018ED7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4EF-EBF7-49EB-9D94-258A9FD1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4C8-8F24-4E30-9CA1-13B380FC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685-1441-4C3F-BEDE-C324ADAD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124-D8CB-48B8-A927-067ABDC2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C61-6879-44BB-907B-41466BB7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4AF-52FB-4B5C-A169-C8DA78B1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4D7-2903-415F-9660-EA65BE5D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AF3-2225-46AB-9F74-E2D6C7D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0F1-E384-451E-9C1F-BBF9A155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3A0-F768-4B0A-AA1D-4C433EDF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E63E-060F-4709-A242-19AC6CA5D10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 Unicode MS"/>
              </a:rPr>
              <a:t>Art. 38, inc. 2° CP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S, ingreso N° 4.004-0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 El principio de la responsabilidad del Estado, si bien se encuentra consagrado en el inciso 2º del artículo 38 de la Constitución Política de la República,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no indica cual es su naturaleza, de suerte que para determinarla debe necesariamente recurrirse a la le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¿Toda actuación de un funcionario público es imputable al Fisc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. sólo aquella que puede encuadrarse dentro de la Teoría del Órg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ólo lo obrado por órgano debe entenderse realizado por persona jurídica (no hay “representación” entre ellos) (arts. 6 y 7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. debe tratarse de un órgano que se adscriba a Administración del Estado (art. 1, inc. 2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3. funcionario debe actuar por el órgano en ejercicio de sus funciones (art. 4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l “querer” del funcionario es tenido como la “voluntad administrativa orgánic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ementos del Órg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junto de compet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ersona natural que titulariza su ejerc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tanto, Estado respo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agresor es un funcionario o un órg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funcionario actúa en ejercicio (o con ocasión) de sus fun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funcionario público - órg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Salas Maturana, Alejandro con Fisco y otro (198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 trata de un accidente de tránsito entre un vehículo particular y uno del Ministerio de Hacienda conducido por un carabin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n efecto, de los preceptos que se mencionarán y analizarán a continuación fluye necesariamente la obligación del Estado de responder por la actuación ilícita de sus órganos…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sí si un carabinero se desempeña como chofer de de un vehículo de un Ministerio y causa un daño, se le considera que actuaba en el ejercicio de sus funciones, al no existir prueba que indique lo contrario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actuaciones dañosas provocadas con ocasión de acciones u omisiones de personas privadas que prestan servicios a la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comprometen o no la responsabilidad del Est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ulpa in vigil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. artículo 14, Ley de Firma Electrónica (Ley 19.79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ningún caso la responsabilidad que pueda emanar de una certificación efectuada por un prestador privado acreditado comprometerá la responsabilidad pecuniaria del Estad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Solidaridad del Fisco frente a responsabilidad de órganos personificad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4 Ley 18.5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esis de Oelckers C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Consecuencias del art. 38, inc. 2º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1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no se inclina por ningún sistema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2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establece un sistema objetivo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1: ningún sistema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Estado y municipalidades son justiciables si su acción u omisión lesiona derechos de las person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justiciabilidad se aplica a materias de cualquier índole: contractual o extracontract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actor es la persona lesionada en sus derech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2: responsabilidad obje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stado y municipalidades responden por lesión de derechos independientemente si sus actuaciones son lícitas o ilícit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lesión no se estructura desde perspectiva del autor daño, sino desde condición de una víctima, que no está obligada a soportar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l Estado no puede excusarse en la responsabilidad del funcionario para eludir la suya; su responsabilidad es direct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omic Bezic y otros con Fisco (Corte Suprema, 15.05.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404640"/>
            <a:ext cx="8540640" cy="60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estatal y caracteres específicos no derivan de un determinado cuerpo constitucional, sino que son consecuencia necesaria de la naturaleza del Estado, en cuanto organización jurídica y política de la comun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rdenamiento jurídico no encierra disposiciones de carácter general que establezcan responsabilidades objetivas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 los particulares o el Est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objetiva requiere de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claración explícita del legislador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 describa las circunstancias precisas que pueden generarla (arts. 2327 y 2328 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arts. 6 y 7 CPR como fundantes de la responsabi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Unicode MS"/>
              </a:rPr>
              <a:t>TC, Rol 245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Constitución de 1980 ha establecido la responsabilidad del Estado como un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principio general que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parece claro en diversas disposiciones constitucionales. Citaremos al efecto los artículos 6º y 7º del Capítulo sobre Bases de la Institucionalidad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 estos artículos se concluye que los órganos del Estado, cualquiera que sea su actividad,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tienen responsabilidad si infringen la Constitució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stas normas se complementan con otras disposiciones de la Constitución de donde resulta que </a:t>
            </a:r>
            <a:r>
              <a:rPr b="0" lang="es-CL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si se afectan derechos constitucionales y se causa daño cabe responsabilidad del Estado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Ju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Art. 19, Nº 7, letra i), C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Legisl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19 N° 20 y 24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Actuación de la Administración del Estado y la responsabilid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2-02T13:00:27Z</dcterms:modified>
  <cp:revision>156</cp:revision>
  <dc:subject/>
  <dc:title>CONTROL</dc:title>
</cp:coreProperties>
</file>