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7AB8-A006-4F7E-8636-3795D0A83F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AE58-3896-4563-8064-357D67D905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E36B-D896-4449-8643-8280924C5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734D-754D-4719-8394-E4F620719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E6E1-9CD9-4BCD-8534-3AD8D580A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0DF0-9B4E-4002-8634-50590B8F7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443B-8231-4B93-96F7-DBA03F16B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DF6B-70DA-430F-985A-0B460CC4C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9888-0CA4-4C1B-A3BA-619688B1E6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160D-F717-43A8-973F-A855BF56D5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754C-20C0-4CDC-92D1-3394C20AD3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0C01-C8AF-4FD2-9913-27A203932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9B02-AF1C-456B-83C5-A52B3D29AE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1EC9-D0FD-42C2-BCFA-1FB08DD1A1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9BF6-60C6-4D34-A8E6-3760966211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2FC5-B54D-4317-A6EB-A77F6DF16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F4D-B99C-4E3B-B1FF-E863CA9E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2C1-A685-4A7A-88F0-87E6742F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127-0F05-47EC-BA8B-22FAF6D9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269-F470-4755-93FD-66388443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048-3C6F-4FF6-BD15-74038C88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C93-6865-424B-9AC3-0B168C46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B52-ECC8-4794-8FE5-C0EF9DFD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278-485D-4209-A802-6730081F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69B-1E9E-4F61-97D9-2CDC6A1C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0F5-03A0-4414-8FE2-874B5371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C02-3D26-4147-B4BF-5DD0D76D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211-05DA-4BD4-A905-D21F989B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293E-4298-4A73-A7CB-5E058886939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 Unicode MS"/>
              </a:rPr>
              <a:t>Art. 38, inc. 2° CP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S, ingreso N° 4.004-0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 El principio de la responsabilidad del Estado, si bien se encuentra consagrado en el inciso 2º del artículo 38 de la Constitución Política de la República,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no indica cual es su naturaleza, de suerte que para determinarla debe necesariamente recurrirse a la le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¿Toda actuación de un funcionario público es imputable al Fisc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. sólo aquella que puede encuadrarse dentro de la Teoría del Órg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ólo lo obrado por órgano debe entenderse realizado por persona jurídica (no hay “representación” entre ellos) (arts. 6 y 7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. debe tratarse de un órgano que se adscriba a Administración del Estado (art. 1, inc. 2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3. funcionario debe actuar por el órgano en ejercicio de sus funciones (art. 4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l “querer” del funcionario es tenido como la “voluntad administrativa orgánic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ementos del Órg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junto de compet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ersona natural que titulariza su ejerc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tanto, Estado respo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agresor es un funcionario o un órg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funcionario actúa en ejercicio (o con ocasión) de sus fun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funcionario público - órg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Salas Maturana, Alejandro con Fisco y otro (198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 trata de un accidente de tránsito entre un vehículo particular y uno del Ministerio de Hacienda conducido por un carabin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n efecto, de los preceptos que se mencionarán y analizarán a continuación fluye necesariamente la obligación del Estado de responder por la actuación ilícita de sus órganos…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sí si un carabinero se desempeña como chofer de de un vehículo de un Ministerio y causa un daño, se le considera que actuaba en el ejercicio de sus funciones, al no existir prueba que indique lo contrario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actuaciones dañosas provocadas con ocasión de acciones u omisiones de personas privadas que prestan servicios a la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comprometen o no la responsabilidad del Est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ulpa in vigil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. artículo 14, Ley de Firma Electrónica (Ley 19.79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ningún caso la responsabilidad que pueda emanar de una certificación efectuada por un prestador privado acreditado comprometerá la responsabilidad pecuniaria del Estad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Solidaridad del Fisco frente a responsabilidad de órganos personificad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4 Ley 18.5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esis de Oelckers C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Consecuencias del art. 38, inc. 2º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1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no se inclina por ningún sistema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2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establece un sistema objetivo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1: ningún sistema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Estado y municipalidades son justiciables si su acción u omisión lesiona derechos de las person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justiciabilidad se aplica a materias de cualquier índole: contractual o extracontract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actor es la persona lesionada en sus derech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2: responsabilidad obje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stado y municipalidades responden por lesión de derechos independientemente si sus actuaciones son lícitas o ilícit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lesión no se estructura desde perspectiva del autor daño, sino desde condición de una víctima, que no está obligada a soportar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l Estado no puede excusarse en la responsabilidad del funcionario para eludir la suya; su responsabilidad es direct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omic Bezic y otros con Fisco (Corte Suprema, 15.05.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404640"/>
            <a:ext cx="8540640" cy="60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estatal y caracteres específicos no derivan de un determinado cuerpo constitucional, sino que son consecuencia necesaria de la naturaleza del Estado, en cuanto organización jurídica y política de la comun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rdenamiento jurídico no encierra disposiciones de carácter general que establezcan responsabilidades objetivas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 los particulares o el Est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objetiva requiere de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claración explícita del legislador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 describa las circunstancias precisas que pueden generarla (arts. 2327 y 2328 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arts. 6 y 7 CPR como fundantes de la responsabi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Unicode MS"/>
              </a:rPr>
              <a:t>TC, Rol 245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Constitución de 1980 ha establecido la responsabilidad del Estado como un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principio general que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parece claro en diversas disposiciones constitucionales. Citaremos al efecto los artículos 6º y 7º del Capítulo sobre Bases de la Institucionalidad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 estos artículos se concluye que los órganos del Estado, cualquiera que sea su actividad,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tienen responsabilidad si infringen la Constitució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stas normas se complementan con otras disposiciones de la Constitución de donde resulta que </a:t>
            </a:r>
            <a:r>
              <a:rPr b="0" lang="es-CL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si se afectan derechos constitucionales y se causa daño cabe responsabilidad del Estado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Ju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Art. 19, Nº 7, letra i), C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Legisl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19 N° 20 y 24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Actuación de la Administración del Estado y la responsabilid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2-02T13:00:27Z</dcterms:modified>
  <cp:revision>156</cp:revision>
  <dc:subject/>
  <dc:title>CONTROL</dc:title>
</cp:coreProperties>
</file>