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F2B13-731C-4215-AFA7-54F9642C78C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62ED8-C723-48A2-8C9E-D1972131384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2EC3F-98B0-4556-801E-5C09768546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A0CA1-15FA-45D5-A49A-B395AD2B25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88712-AF07-4671-96B4-265B4C2501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FDAC0-9B99-487A-BB48-C73C17FED0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59D6D-4F3B-4D83-96FE-E4753E8826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BFDAB-29EF-4385-A28E-ED56960DF9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51E6E-E9C3-4BEC-AEAD-C084C9FF075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BD817-D6D2-4E2E-A869-D9A2A025F0E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78CA0-CBBE-4406-AA7B-2F19FACD55C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93F8C-6A33-4AB3-891B-DA0A27EB9B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5DD29-7F9F-49A2-B980-0FD02BA10C7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F2302-6416-44DD-9BC9-06835A1F7F1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031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EC6E7-1E4D-43A0-A612-E08C4DEB51B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9F0B4-623D-47F0-8C24-683C9D144C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0E75-76A1-46DE-9C63-036291F93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2AF1-34C4-4382-A1EE-19C3B967F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8D29-560D-4164-8EE1-A31891DA9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F7F5-DE34-47F4-A94D-A7B5B95DE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031B-B972-4A17-9466-7ED2A022E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C430-0548-4BD6-868C-9B52C72B1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AA9E-AD33-4032-B39C-0AFB19F79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EDA5-76E8-48F5-BB57-89B1C40B7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CBE9-E1DB-46DD-8502-8DD68FE69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FC10-E05A-435B-850E-C3CB5327B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B1FA-F687-4420-807D-3262D679C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F14E-8E80-4400-AB4E-111BD5A01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ccbf9">
            <a:alpha val="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EA790-D94B-4F78-965D-60ACEA6AA88D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</a:rPr>
              <a:t>Responsabilidad del Estado Administrador (3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 Unicode MS"/>
              </a:rPr>
              <a:t>Art. 38, inc. 2° CP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S, ingreso N° 4.004-03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.. El principio de la responsabilidad del Estado, si bien se encuentra consagrado en el inciso 2º del artículo 38 de la Constitución Política de la República, </a:t>
            </a: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no indica cual es su naturaleza, de suerte que para determinarla debe necesariamente recurrirse a la ley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alibri"/>
              </a:rPr>
              <a:t>¿Toda actuación de un funcionario público es imputable al Fisc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1. sólo aquella que puede encuadrarse dentro de la Teoría del Órga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sólo lo obrado por órgano debe entenderse realizado por persona jurídica (no hay “representación” entre ellos) (arts. 6 y 7 CP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2. debe tratarse de un órgano que se adscriba a Administración del Estado (art. 1, inc. 2 L. 18.57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3. funcionario debe actuar por el órgano en ejercicio de sus funciones (art. 4 L. 18.575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el “querer” del funcionario es tenido como la “voluntad administrativa orgánica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Elementos del Órgan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Conjunto de competenci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alibri"/>
              </a:rPr>
              <a:t>Persona natural que titulariza su ejercic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alibri"/>
              </a:rPr>
              <a:t>Por tanto, Estado respond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Si el agresor es un funcionario o un órgan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alibri"/>
              </a:rPr>
              <a:t>Si el funcionario actúa en ejercicio (o con ocasión) de sus funcion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Calibri"/>
              </a:rPr>
              <a:t>funcionario público - órgan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s-ES_tradnl" sz="2000" spc="-1" strike="noStrike">
                <a:solidFill>
                  <a:srgbClr val="000000"/>
                </a:solidFill>
                <a:latin typeface="Calibri"/>
              </a:rPr>
              <a:t>Salas Maturana, Alejandro con Fisco y otro (1986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Se trata de un accidente de tránsito entre un vehículo particular y uno del Ministerio de Hacienda conducido por un carabine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En efecto, de los preceptos que se mencionarán y analizarán a continuación fluye necesariamente la obligación del Estado de responder por la actuación ilícita de sus órganos…”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Así si un carabinero se desempeña como chofer de de un vehículo de un Ministerio y causa un daño, se le considera que actuaba en el ejercicio de sus funciones, al no existir prueba que indique lo contrario”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Proble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las actuaciones dañosas provocadas con ocasión de acciones u omisiones de personas privadas que prestan servicios a la Administra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¿comprometen o no la responsabilidad del Estado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Culpa in vigilan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j. artículo 14, Ley de Firma Electrónica (Ley 19.799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n ningún caso la responsabilidad que pueda emanar de una certificación efectuada por un prestador privado acreditado comprometerá la responsabilidad pecuniaria del Estado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¿Solidaridad del Fisco frente a responsabilidad de órganos personificado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Art. 4 Ley 18.57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alibri"/>
              </a:rPr>
              <a:t>Tesis de Oelckers Cam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Consecuencias del art. 38, inc. 2º C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700" spc="-1" strike="noStrike">
                <a:solidFill>
                  <a:srgbClr val="000000"/>
                </a:solidFill>
                <a:latin typeface="Arial"/>
              </a:rPr>
              <a:t>Tesis 1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CPR no se inclina por ningún sistema de responsabilidad extracontractual de la Administración del Estado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Arial"/>
              </a:rPr>
              <a:t>Tesis 2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CPR establece un sistema objetivo de responsabilidad extracontractual de la Administración del Estado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</a:rPr>
              <a:t>Derivaciones de tesis 1: ningún sistema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29480" indent="-42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 Unicode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Arial Unicode MS"/>
              </a:rPr>
              <a:t>Estado y municipalidades son justiciables si su acción u omisión lesiona derechos de las persona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2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29480" indent="-42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 Unicode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Arial Unicode MS"/>
              </a:rPr>
              <a:t>La justiciabilidad se aplica a materias de cualquier índole: contractual o extracontractu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2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29480" indent="-42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 Unicode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Arial Unicode MS"/>
              </a:rPr>
              <a:t>actor es la persona lesionada en sus derechos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2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29480" indent="-42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 Unicode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Arial Unicode MS"/>
              </a:rPr>
              <a:t>la Administración no está obligada a responder por solo hecho u omisión que lesione un derecho: debe ser condenada a ello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2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2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</a:rPr>
              <a:t>Derivaciones de tesis 2: responsabilidad objeti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0040" y="1285920"/>
            <a:ext cx="8229600" cy="50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 algn="just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 Unicode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 Unicode MS"/>
              </a:rPr>
              <a:t>Estado y municipalidades responden por lesión de derechos independientemente si sus actuaciones son lícitas o ilícita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447840" indent="0" algn="just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 algn="just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 Unicode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 Unicode MS"/>
              </a:rPr>
              <a:t>la lesión no se estructura desde perspectiva del autor daño, sino desde condición de una víctima, que no está obligada a soportarl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447840" indent="0" algn="just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 algn="just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 Unicode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 Unicode MS"/>
              </a:rPr>
              <a:t>el Estado no puede excusarse en la responsabilidad del funcionario para eludir la suya; su responsabilidad es direct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447840" indent="0" algn="just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 algn="just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 Unicode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 Unicode MS"/>
              </a:rPr>
              <a:t>la Administración no está obligada a responder por solo hecho u omisión que lesione un derecho: debe ser condenada a ello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</a:rPr>
              <a:t>Domic Bezic y otros con Fisco (Corte Suprema, 15.05.200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404640"/>
            <a:ext cx="8540640" cy="60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252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45252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</a:t>
            </a:r>
            <a:r>
              <a:rPr b="0" lang="es-ES_tradnl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sponsabilidad estatal y caracteres específicos no derivan de un determinado cuerpo constitucional, sino que son consecuencia necesaria de la naturaleza del Estado, en cuanto organización jurídica y política de la comunid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252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252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.</a:t>
            </a:r>
            <a:r>
              <a:rPr b="0" lang="es-ES_tradnl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l </a:t>
            </a:r>
            <a:r>
              <a:rPr b="0" lang="es-ES_tradnl" sz="2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ordenamiento jurídico no encierra disposiciones de carácter general que establezcan responsabilidades objetivas </a:t>
            </a:r>
            <a:r>
              <a:rPr b="0" lang="es-ES_tradnl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ara los particulares o el Estad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252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 Unicode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esponsabilidad objetiva requiere de </a:t>
            </a:r>
            <a:r>
              <a:rPr b="0" lang="es-ES_tradnl" sz="2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claración explícita del legislador </a:t>
            </a:r>
            <a:r>
              <a:rPr b="0" lang="es-ES_tradnl" sz="2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que describa las circunstancias precisas que pueden generarla (arts. 2327 y 2328 C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Los arts. 6 y 7 CPR como fundantes de la responsabil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Unicode MS"/>
              </a:rPr>
              <a:t>TC, Rol 245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La Constitución de 1980 ha establecido la responsabilidad del Estado como un </a:t>
            </a:r>
            <a:r>
              <a:rPr b="0" lang="es-ES" sz="2000" spc="-1" strike="noStrike">
                <a:solidFill>
                  <a:srgbClr val="ff0000"/>
                </a:solidFill>
                <a:latin typeface="Arial Unicode MS"/>
                <a:ea typeface="Times New Roman"/>
              </a:rPr>
              <a:t>principio general que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aparece claro en diversas disposiciones constitucionales. Citaremos al efecto los artículos 6º y 7º del Capítulo sobre Bases de la Institucionalidad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De estos artículos se concluye que los órganos del Estado, cualquiera que sea su actividad, </a:t>
            </a:r>
            <a:r>
              <a:rPr b="0" lang="es-ES" sz="2000" spc="-1" strike="noStrike">
                <a:solidFill>
                  <a:srgbClr val="ff0000"/>
                </a:solidFill>
                <a:latin typeface="Arial Unicode MS"/>
                <a:ea typeface="Times New Roman"/>
              </a:rPr>
              <a:t>tienen responsabilidad si infringen la Constitución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Estas normas se complementan con otras disposiciones de la Constitución de donde resulta que </a:t>
            </a:r>
            <a:r>
              <a:rPr b="0" lang="es-CL" sz="2000" spc="-1" strike="noStrike">
                <a:solidFill>
                  <a:srgbClr val="ff0000"/>
                </a:solidFill>
                <a:latin typeface="Arial Unicode MS"/>
                <a:ea typeface="Times New Roman"/>
              </a:rPr>
              <a:t>si se afectan derechos constitucionales y se causa daño cabe responsabilidad del Estado</a:t>
            </a:r>
            <a:r>
              <a:rPr b="0" lang="es-CL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;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</a:rPr>
              <a:t>Responsabilidad del Estado Jue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 Unicode MS"/>
              </a:rPr>
              <a:t>Sujeto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 Unicode MS"/>
              </a:rPr>
              <a:t>ESTADO (fisco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 Unicode MS"/>
              </a:rPr>
              <a:t>Fuente jurídica constitucional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Unicode MS"/>
              </a:rPr>
              <a:t>Art. 19, Nº 7, letra i), CP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Unicode MS"/>
              </a:rPr>
              <a:t>(arts. 6º y 7º, CP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Unicode MS"/>
              </a:rPr>
              <a:t>(arts. 1º, inc. 3º, 4º y 5º, CPR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</a:rPr>
              <a:t>Responsabilidad del Estado Legislad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 Unicode MS"/>
              </a:rPr>
              <a:t>Sujeto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 Unicode MS"/>
              </a:rPr>
              <a:t>ESTADO (fisco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 Unicode MS"/>
              </a:rPr>
              <a:t>Fuente jurídica constitucional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Unicode MS"/>
              </a:rPr>
              <a:t>(?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Unicode MS"/>
              </a:rPr>
              <a:t>(Art. 6º y 7º, CP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Unicode MS"/>
              </a:rPr>
              <a:t>(arts. 1º, inc. 3º, 4º y 5º, 19 N° 20 y 24 CPR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9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00000"/>
                </a:solidFill>
                <a:latin typeface="Calibri"/>
              </a:rPr>
              <a:t>Actuación de la Administración del Estado y la responsabilidad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2T17:02:18Z</dcterms:created>
  <dc:creator>Claudio</dc:creator>
  <dc:description/>
  <dc:language>en-US</dc:language>
  <cp:lastModifiedBy>Claudio Moraga</cp:lastModifiedBy>
  <dcterms:modified xsi:type="dcterms:W3CDTF">2011-12-02T13:00:27Z</dcterms:modified>
  <cp:revision>156</cp:revision>
  <dc:subject/>
  <dc:title>CONTROL</dc:title>
</cp:coreProperties>
</file>