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2401-BDEE-41A3-B394-04AB20A831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CC1F-3247-4D9D-B501-AADF4F93B7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785A-59A2-4F3F-A8F7-3790C679D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4DF0-E602-4A92-BB33-C4A95A649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7014-E1CD-4A30-B655-246BE8E1A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4A27-6EB5-4AFA-A8B9-66D028AF1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1496-8641-435E-AC3C-B54C7AF6A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F0E7-20F1-45FC-97E2-CD3F9939F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795F-FB0A-4407-9964-B7281CBC46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604A-5A9C-4BDF-A7A8-F07517CC96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1FAF-2CBB-4AFF-BA42-28A96FEE2A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E868-1EEC-4E83-ADAC-05E876FD5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7E6D-63B9-4B6F-9BA7-004AB0ABE9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0311-27D4-4A01-A547-0D183C85E3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11B4-E2BF-4B39-9741-7913EFC8E5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E118-7618-4D2F-9B9A-314634A9B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2E0-5335-423A-8E41-ABA3085A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C76-173C-436B-9328-30D4C7E5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055-415C-4369-BC45-24A3847F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68D-8EF8-461D-A2BD-543DC481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4A9-D965-45FE-B3F8-838F21FF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F39-B7F9-4A15-8B44-EDA98FD4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B27-6A0E-4051-8D72-D03B74C8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148-4939-4EC3-A797-64B9476C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186-70AA-46C0-883F-7757B9B9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A1C-A8BE-48D0-8BE3-C554F531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808-40B9-4CDE-B220-FD81ECFD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2CE-18CD-43F3-B16E-A9D93017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bf9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7859-542A-4408-90E7-173411C49FC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 (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 Unicode MS"/>
              </a:rPr>
              <a:t>Art. 38, inc. 2° CP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S, ingreso N° 4.004-0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 El principio de la responsabilidad del Estado, si bien se encuentra consagrado en el inciso 2º del artículo 38 de la Constitución Política de la República,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no indica cual es su naturaleza, de suerte que para determinarla debe necesariamente recurrirse a la le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¿Toda actuación de un funcionario público es imputable al Fisc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. sólo aquella que puede encuadrarse dentro de la Teoría del Órg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ólo lo obrado por órgano debe entenderse realizado por persona jurídica (no hay “representación” entre ellos) (arts. 6 y 7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. debe tratarse de un órgano que se adscriba a Administración del Estado (art. 1, inc. 2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3. funcionario debe actuar por el órgano en ejercicio de sus funciones (art. 4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l “querer” del funcionario es tenido como la “voluntad administrativa orgánic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ementos del Órg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junto de compet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ersona natural que titulariza su ejerc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tanto, Estado respo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agresor es un funcionario o un órg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funcionario actúa en ejercicio (o con ocasión) de sus fun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funcionario público - órg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Salas Maturana, Alejandro con Fisco y otro (198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e trata de un accidente de tránsito entre un vehículo particular y uno del Ministerio de Hacienda conducido por un carabin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n efecto, de los preceptos que se mencionarán y analizarán a continuación fluye necesariamente la obligación del Estado de responder por la actuación ilícita de sus órganos…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sí si un carabinero se desempeña como chofer de de un vehículo de un Ministerio y causa un daño, se le considera que actuaba en el ejercicio de sus funciones, al no existir prueba que indique lo contrario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actuaciones dañosas provocadas con ocasión de acciones u omisiones de personas privadas que prestan servicios a la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comprometen o no la responsabilidad del Est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ulpa in vigil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. artículo 14, Ley de Firma Electrónica (Ley 19.79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ningún caso la responsabilidad que pueda emanar de una certificación efectuada por un prestador privado acreditado comprometerá la responsabilidad pecuniaria del Estad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Solidaridad del Fisco frente a responsabilidad de órganos personificad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4 Ley 18.5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esis de Oelckers Ca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Consecuencias del art. 38, inc. 2º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1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no se inclina por ningún sistema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2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establece un sistema objetivo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1: ningún sistema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Estado y municipalidades son justiciables si su acción u omisión lesiona derechos de las person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justiciabilidad se aplica a materias de cualquier índole: contractual o extracontract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actor es la persona lesionada en sus derech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2: responsabilidad obje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stado y municipalidades responden por lesión de derechos independientemente si sus actuaciones son lícitas o ilícit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lesión no se estructura desde perspectiva del autor daño, sino desde condición de una víctima, que no está obligada a soportar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l Estado no puede excusarse en la responsabilidad del funcionario para eludir la suya; su responsabilidad es direct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omic Bezic y otros con Fisco (Corte Suprema, 15.05.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404640"/>
            <a:ext cx="8540640" cy="60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estatal y caracteres específicos no derivan de un determinado cuerpo constitucional, sino que son consecuencia necesaria de la naturaleza del Estado, en cuanto organización jurídica y política de la comun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rdenamiento jurídico no encierra disposiciones de carácter general que establezcan responsabilidades objetivas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 los particulares o el Esta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objetiva requiere de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claración explícita del legislador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 describa las circunstancias precisas que pueden generarla (arts. 2327 y 2328 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arts. 6 y 7 CPR como fundantes de la responsabi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Unicode MS"/>
              </a:rPr>
              <a:t>TC, Rol 245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Constitución de 1980 ha establecido la responsabilidad del Estado como un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principio general que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parece claro en diversas disposiciones constitucionales. Citaremos al efecto los artículos 6º y 7º del Capítulo sobre Bases de la Institucionalidad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 estos artículos se concluye que los órganos del Estado, cualquiera que sea su actividad,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tienen responsabilidad si infringen la Constitució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stas normas se complementan con otras disposiciones de la Constitución de donde resulta que </a:t>
            </a:r>
            <a:r>
              <a:rPr b="0" lang="es-CL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si se afectan derechos constitucionales y se causa daño cabe responsabilidad del Estado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Ju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Art. 19, Nº 7, letra i), C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Legisl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19 N° 20 y 24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Actuación de la Administración del Estado y la responsabilid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2-02T13:00:27Z</dcterms:modified>
  <cp:revision>156</cp:revision>
  <dc:subject/>
  <dc:title>CONTROL</dc:title>
</cp:coreProperties>
</file>