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A2C18-F15F-4ACD-AAB5-AFA58C92841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1031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0C931-3484-4B9D-B30A-EFB6838FFE2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AB3DF-AF39-4BB0-A176-AB7BB92785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71927-3229-46E0-9CC8-1759BADB1F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4294E-9B1A-4631-94F4-EFECA81D66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C25A6-B187-4052-B8E2-4B46568E27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85265-C630-4563-BE40-77437158D6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B9676-92BC-4219-A6EC-DE0743FC6C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 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3 Marcador de número de diapositiva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74BCA-F6FA-4E67-B87E-1C53624EAC7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1031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DEB47-94BB-4823-9318-00DB73074C7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1031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788E2-B734-4407-BB54-6927656DAE0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031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9BEB6-FDAC-4D6C-89DA-15ECEAAF2C1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031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9605E-C09A-4DD5-8D9D-9287F4C0F59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1031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2038B-D2E1-43C2-AF37-03B9338A7E4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1031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F753C-AE16-4099-93C0-D0039599034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2DA12-6963-4EEC-BE4B-83918ACDC3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BB985-0AD4-4A68-83BD-787DD6699A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C0D41-4408-4BC6-AD1A-0751EA160E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7D5D3-211C-4A0E-A421-6923BFC439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87AA1-E5C6-493D-933D-E3C39BF5EA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97238-0174-44E8-97D0-87654D11EB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B661-898A-41CE-9CD4-B5790CA6E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0FC6-B21F-4793-9793-45CA444E6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2A13-FFA0-44E9-B3C8-0211DB5B7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3D52-E31B-4874-80F7-FA0113044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68A9-8112-4819-9A77-C198EFB7C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C61B-D5EF-4AAA-A8CE-DEB7F134C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A538-AFDA-4DA0-8FDE-DC9C0F8C5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4CE9-63E9-44BC-8C0F-A8BCDB920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CC1C-57A8-49EE-87DC-FF86D5938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609C-C0CD-44A7-BB71-F72ECC2CF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00F6-DEA9-463E-AF2B-F951EBD73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498C-DB16-49C9-9CE2-FF9A6D6A5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ccbf9">
            <a:alpha val="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D031F-CDB2-428E-9152-EBF582538484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1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Beltrán, Yolanda con Fisco (1997): muerte de hijo de actora, a las 22 hrs. de 15.09.1987 por un Carabinero en estado de ebriedad (ese día el autor efectuó servicio de primer turno desde las 7 a 14.30 hrs. y a las 23.15 se encontraba de franco)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699920"/>
            <a:ext cx="8540640" cy="47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s-CL" sz="1900" spc="-1" strike="noStrike">
                <a:solidFill>
                  <a:srgbClr val="000000"/>
                </a:solidFill>
                <a:latin typeface="Arial"/>
                <a:ea typeface="Arial"/>
              </a:rPr>
              <a:t>Si el hecho de la muerte de la persona no guarda relación con la labor funcionaria de quien la provocó, pues </a:t>
            </a:r>
            <a:r>
              <a:rPr b="0" lang="es-CL" sz="1900" spc="-1" strike="noStrike">
                <a:solidFill>
                  <a:srgbClr val="ff0000"/>
                </a:solidFill>
                <a:latin typeface="Arial"/>
                <a:ea typeface="Arial"/>
              </a:rPr>
              <a:t>no fue cometido en un acto de servicio ni con ocasión del mismo</a:t>
            </a:r>
            <a:r>
              <a:rPr b="0" lang="es-CL" sz="1900" spc="-1" strike="noStrike">
                <a:solidFill>
                  <a:srgbClr val="000000"/>
                </a:solidFill>
                <a:latin typeface="Arial"/>
                <a:ea typeface="Arial"/>
              </a:rPr>
              <a:t>, cabe concluir que se trata de un hecho jurídico de carácter personal, que se rige por el derecho común en lo referente a indemnizaciones y no por el derecho público no obligando, por ende, al Fisco.”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s-CL" sz="1900" spc="-1" strike="noStrike">
                <a:solidFill>
                  <a:srgbClr val="000000"/>
                </a:solidFill>
                <a:latin typeface="Arial"/>
                <a:ea typeface="Arial"/>
              </a:rPr>
              <a:t>Los actos personales del funcionario realizados </a:t>
            </a:r>
            <a:r>
              <a:rPr b="1" lang="es-CL" sz="1900" spc="-1" strike="noStrike">
                <a:solidFill>
                  <a:srgbClr val="ff0000"/>
                </a:solidFill>
                <a:latin typeface="Arial"/>
                <a:ea typeface="Arial"/>
              </a:rPr>
              <a:t>fuera de su horario de trabajo</a:t>
            </a:r>
            <a:r>
              <a:rPr b="0" lang="es-CL" sz="19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es-CL" sz="1900" spc="-1" strike="noStrike">
                <a:solidFill>
                  <a:srgbClr val="000000"/>
                </a:solidFill>
                <a:latin typeface="Arial"/>
                <a:ea typeface="Arial"/>
              </a:rPr>
              <a:t>no revisten el carácter de actos de servicio, aunque el hecho se haya cometido con un </a:t>
            </a:r>
            <a:r>
              <a:rPr b="1" lang="es-CL" sz="1900" spc="-1" strike="noStrike">
                <a:solidFill>
                  <a:srgbClr val="ff0000"/>
                </a:solidFill>
                <a:latin typeface="Arial"/>
                <a:ea typeface="Arial"/>
              </a:rPr>
              <a:t>arma fiscal</a:t>
            </a:r>
            <a:r>
              <a:rPr b="1" lang="es-CL" sz="1900" spc="-1" strike="noStrike">
                <a:solidFill>
                  <a:srgbClr val="000000"/>
                </a:solidFill>
                <a:latin typeface="Arial"/>
                <a:ea typeface="Arial"/>
              </a:rPr>
              <a:t>.”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9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s-ES" sz="1900" spc="-1" strike="noStrike">
                <a:solidFill>
                  <a:srgbClr val="000000"/>
                </a:solidFill>
                <a:latin typeface="Arial"/>
                <a:ea typeface="Arial"/>
              </a:rPr>
              <a:t>Que de acuerdo a las normas del derecho común tampoco cabe responsabilidad al Fisco (arts. 2314 y s., 2320, 2322 y 2329 Código Civil)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s-ES" sz="1900" spc="-1" strike="noStrike">
                <a:solidFill>
                  <a:srgbClr val="000000"/>
                </a:solidFill>
                <a:latin typeface="Arial"/>
                <a:ea typeface="Arial"/>
              </a:rPr>
              <a:t>Toda persona es responsable de sus propios actos y si bien los empresarios responden por los actos de sus dependientes, ello ocurre mientras estén bajo su cuidado, es decir, </a:t>
            </a:r>
            <a:r>
              <a:rPr b="1" lang="es-ES" sz="1900" spc="-1" strike="noStrike">
                <a:solidFill>
                  <a:srgbClr val="ff0000"/>
                </a:solidFill>
                <a:latin typeface="Arial"/>
                <a:ea typeface="Arial"/>
              </a:rPr>
              <a:t>mientras pueda ejercerse un control sobre el funcionario</a:t>
            </a:r>
            <a:r>
              <a:rPr b="0" lang="es-ES" sz="1900" spc="-1" strike="noStrike">
                <a:solidFill>
                  <a:srgbClr val="ff0000"/>
                </a:solidFill>
                <a:latin typeface="Arial"/>
                <a:ea typeface="Arial"/>
              </a:rPr>
              <a:t>, </a:t>
            </a:r>
            <a:r>
              <a:rPr b="0" lang="es-ES" sz="1900" spc="-1" strike="noStrike">
                <a:solidFill>
                  <a:srgbClr val="000000"/>
                </a:solidFill>
                <a:latin typeface="Arial"/>
                <a:ea typeface="Arial"/>
              </a:rPr>
              <a:t>encontrándose éste en el ejercicio de sus labores, pero no en los actos de su vida privada.”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2640" indent="0" algn="just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603360" y="259920"/>
            <a:ext cx="8216640" cy="62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Art. 62 DL 1289/76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"La responsabilidad extracontractual procederá, principalmente, para indemnizar los perjuicios que sufran uno o más usuarios de los servicios municipales, cuando estos </a:t>
            </a:r>
            <a:r>
              <a:rPr b="1" lang="es-ES" sz="2200" spc="-1" strike="noStrike">
                <a:solidFill>
                  <a:srgbClr val="ff0000"/>
                </a:solidFill>
                <a:latin typeface="Arial"/>
              </a:rPr>
              <a:t>no funcionen debiendo hacerlo, o lo hagan en forma deficiente</a:t>
            </a: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Art. 142 LOCM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Courier New"/>
              </a:rPr>
              <a:t>“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Courier New"/>
              </a:rPr>
              <a:t>Las municipalidades incurrirán en responsabilidad por los daños que causen, la que procederá́ principalmente por </a:t>
            </a:r>
            <a:r>
              <a:rPr b="0" lang="es-ES" sz="2200" spc="-1" strike="noStrike">
                <a:solidFill>
                  <a:srgbClr val="ff0000"/>
                </a:solidFill>
                <a:latin typeface="Arial"/>
                <a:ea typeface="Courier New"/>
              </a:rPr>
              <a:t>falta de servicio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Courier New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Courier New"/>
              </a:rPr>
              <a:t>“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Courier New"/>
              </a:rPr>
              <a:t>No obstante, las municipalidades tendrán derecho a repetir en contra del funcionario que hubiere incurrido en </a:t>
            </a:r>
            <a:r>
              <a:rPr b="0" lang="es-ES" sz="2200" spc="-1" strike="noStrike">
                <a:solidFill>
                  <a:srgbClr val="ff0000"/>
                </a:solidFill>
                <a:latin typeface="Arial"/>
                <a:ea typeface="Courier New"/>
              </a:rPr>
              <a:t>falta perso</a:t>
            </a:r>
            <a:r>
              <a:rPr b="0" lang="es-ES" sz="2200" spc="-1" strike="noStrike">
                <a:solidFill>
                  <a:srgbClr val="ff0000"/>
                </a:solidFill>
                <a:latin typeface="Arial"/>
                <a:ea typeface="Arial"/>
              </a:rPr>
              <a:t>nal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.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4604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Arial"/>
                <a:ea typeface="Arial"/>
              </a:rPr>
              <a:t>Neira Rivas, Gloria y Poupin Neira, Juan con Fisco de Chile (2000): </a:t>
            </a:r>
            <a:r>
              <a:rPr b="1" lang="es-ES_tradnl" sz="2300" spc="-1" strike="noStrike">
                <a:solidFill>
                  <a:srgbClr val="000000"/>
                </a:solidFill>
                <a:latin typeface="Arial"/>
                <a:ea typeface="Arial"/>
              </a:rPr>
              <a:t>detención de Arsenio Poupin por funcionarios militares, que tenían la calidad de servidores público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699920"/>
            <a:ext cx="8540640" cy="47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Art. 38.2 CPR y art. 4 LOCBGAE, contienen el </a:t>
            </a:r>
            <a:r>
              <a:rPr b="0" lang="es-ES_tradnl" sz="2100" spc="-1" strike="noStrike">
                <a:solidFill>
                  <a:srgbClr val="ff0000"/>
                </a:solidFill>
                <a:latin typeface="Arial"/>
              </a:rPr>
              <a:t>derecho que le asiste a todo particular de ser reparado</a:t>
            </a: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 frente a las actuaciones que le provoquen daño, sea de una acción u omisión del órgano público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CPR establece una </a:t>
            </a:r>
            <a:r>
              <a:rPr b="1" lang="es-ES_tradnl" sz="2100" spc="-1" strike="noStrike">
                <a:solidFill>
                  <a:srgbClr val="ff0000"/>
                </a:solidFill>
                <a:latin typeface="Arial"/>
              </a:rPr>
              <a:t>responsabilidad orgánica</a:t>
            </a: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: la imputación del daño recae directamente sobre el órgano administrativo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si bien en el caso de autos </a:t>
            </a:r>
            <a:r>
              <a:rPr b="0" lang="es-ES_tradnl" sz="2100" spc="-1" strike="noStrike">
                <a:solidFill>
                  <a:srgbClr val="ff0000"/>
                </a:solidFill>
                <a:latin typeface="Arial"/>
              </a:rPr>
              <a:t>no se ha podido determinar o precisar la o las personas responsables del hecho</a:t>
            </a: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, ello no obsta que la acción civil pueda prosperar, puesto que, </a:t>
            </a:r>
            <a:r>
              <a:rPr b="1" lang="es-ES_tradnl" sz="2100" spc="-1" strike="noStrike">
                <a:solidFill>
                  <a:srgbClr val="ff0000"/>
                </a:solidFill>
                <a:latin typeface="Arial"/>
              </a:rPr>
              <a:t>no es responsabilidad de estos demandantes que no se los haya podido individualizar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igueroa Gallardo con Fisco de Chile (200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213920"/>
            <a:ext cx="8540640" cy="52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La falta de servicio que irroga </a:t>
            </a:r>
            <a:r>
              <a:rPr b="1" lang="es-ES_tradnl" sz="2200" spc="-1" strike="noStrike">
                <a:solidFill>
                  <a:srgbClr val="ff0000"/>
                </a:solidFill>
                <a:latin typeface="Arial"/>
              </a:rPr>
              <a:t>directamente responsabilidad 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al Estado, en los términos del artículo 44 de la Carta Fundamental (sic), se produc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just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i sus órganos administrativos no actúan, debiendo hacerlo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i su actuación es tardía o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i ellos funcionan defectuosamente causando perjuicio a los usuarios o destinatarios del servicio público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y, si bien estos últimos </a:t>
            </a:r>
            <a:r>
              <a:rPr b="1" lang="es-ES_tradnl" sz="2200" spc="-1" strike="noStrike">
                <a:solidFill>
                  <a:srgbClr val="ff0000"/>
                </a:solidFill>
                <a:latin typeface="Arial"/>
              </a:rPr>
              <a:t>no requieren individualizar ni perseguir al funcionario</a:t>
            </a:r>
            <a:r>
              <a:rPr b="0" lang="es-ES_tradnl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cuya acción u omisión personal origina la falta, en cambio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deben </a:t>
            </a: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invocar y acreditar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la existencia de esta falla en la actividad del órgano administrativo, y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que ella es la </a:t>
            </a: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causa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del daño experimentado por el patrimonio de la víctima.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érez Llona, Ma. Cristina con Municip. Las Condes (1999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7360"/>
            <a:ext cx="8540640" cy="492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 </a:t>
            </a: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deber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de las municipalidades la </a:t>
            </a: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vigilancia y salvaguardia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 vías de tránsito públicos en zonas urban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forme art. 100 Ley Tránsito, Municipalidad debe mantener o hacer mantener señales de advertencia de peligro en caso de ejecución de trabajos en las cal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forme art. 137 LOCM (hoy 142), Municipalidad es responsable principalmente por </a:t>
            </a: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falta de servici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i la causa del daño es el mal estado de la acera o vereda, lugar que se encontraba sin protección adecuada ni señalización de peligro, solo cabe concluir que Municipalidad es respons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risóstomo, Ma. Luisa con Municip. Concepción (199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920" y="1571760"/>
            <a:ext cx="8540640" cy="490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“… </a:t>
            </a: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Cualquiera que sea el ámbito en que se examine la responsabilidad de la Municipalidad por accidentes sufridos por las personas en las vías públicas por ausencia o inadecuada señalización de lugares de peligro para el tránsito de peatones,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sea que se entienda que es una </a:t>
            </a:r>
            <a:r>
              <a:rPr b="1" lang="es-ES_tradnl" sz="2100" spc="-1" strike="noStrike">
                <a:solidFill>
                  <a:srgbClr val="000000"/>
                </a:solidFill>
                <a:latin typeface="Arial"/>
              </a:rPr>
              <a:t>responsabilidad objetiva</a:t>
            </a: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sea que se aplique la teoría de la </a:t>
            </a:r>
            <a:r>
              <a:rPr b="1" lang="es-ES_tradnl" sz="2100" spc="-1" strike="noStrike">
                <a:solidFill>
                  <a:srgbClr val="000000"/>
                </a:solidFill>
                <a:latin typeface="Arial"/>
              </a:rPr>
              <a:t>falta de servicio,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ella debe indemnizar a la víctima, </a:t>
            </a:r>
            <a:r>
              <a:rPr b="0" lang="es-ES_tradnl" sz="2100" spc="-1" strike="noStrike">
                <a:solidFill>
                  <a:srgbClr val="ff0000"/>
                </a:solidFill>
                <a:latin typeface="Arial"/>
              </a:rPr>
              <a:t>desde que ha omitido su deber de mantener un paseo peatonal de manera expedita para su tránsito</a:t>
            </a: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, como asimismo de mantener señales de advertencia al público del peligro que corrían en determinados lugares, omisión que ocasionó el accidente de la actora …”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ja García, Domingo y otro con Municip. Talcahuano (1999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267920"/>
            <a:ext cx="854064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Municipalidad es responsable de los daños que produzca en las personas sea por su actividad, sea por </a:t>
            </a:r>
            <a:r>
              <a:rPr b="0" lang="es-CL" sz="1900" spc="-1" strike="noStrike">
                <a:solidFill>
                  <a:srgbClr val="ff0000"/>
                </a:solidFill>
                <a:latin typeface="Arial"/>
              </a:rPr>
              <a:t>deficiencias en la prestación de sus servicios como en la ausencia de mantención </a:t>
            </a: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de un mástil colocado en una plazoleta pública que careciendo de los soportes y debida firmeza, cae sobre un niño, produciéndole la muert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la CPR (art. 38.2), y Ley 18.575 (art. 4) y Ley 18.695 (art. 137) establecen </a:t>
            </a:r>
            <a:r>
              <a:rPr b="1" lang="es-CL" sz="1900" spc="-1" strike="noStrike">
                <a:solidFill>
                  <a:srgbClr val="ff0000"/>
                </a:solidFill>
                <a:latin typeface="Arial"/>
              </a:rPr>
              <a:t>responsabilidad objetiva del Estado</a:t>
            </a: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, de sus órganos y de la Municipalida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76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ff0000"/>
                </a:solidFill>
                <a:latin typeface="Arial"/>
              </a:rPr>
              <a:t>siendo objetiva la responsabilidad </a:t>
            </a: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del Estado, no es obligación del ofendido o del que ha sufrido el daño probar la existencia de dolo o culpa en el autor de ést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76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ff0000"/>
                </a:solidFill>
                <a:latin typeface="Arial"/>
              </a:rPr>
              <a:t>no es procedente aplicar </a:t>
            </a: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a la responsabilidad del Estado las normas de la responsabilidad extracontractual contenidas en el </a:t>
            </a:r>
            <a:r>
              <a:rPr b="0" lang="es-CL" sz="1900" spc="-1" strike="noStrike">
                <a:solidFill>
                  <a:srgbClr val="ff0000"/>
                </a:solidFill>
                <a:latin typeface="Arial"/>
              </a:rPr>
              <a:t>Código Civil </a:t>
            </a: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puesto que ellas son total y absolutamente distintas no sólo en su origen sino también en su propósito o fin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2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ivera con Municipalidad de La Unión (200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El hecho de suscribir una Municipalidad un </a:t>
            </a:r>
            <a:r>
              <a:rPr b="1" lang="es-CL" sz="2100" spc="-1" strike="noStrike">
                <a:solidFill>
                  <a:srgbClr val="ff0000"/>
                </a:solidFill>
                <a:latin typeface="Arial"/>
              </a:rPr>
              <a:t>convenio de ejecución participativa de pavimentación</a:t>
            </a:r>
            <a:r>
              <a:rPr b="0" lang="es-CL" sz="2100" spc="-1" strike="noStrike">
                <a:solidFill>
                  <a:srgbClr val="ff0000"/>
                </a:solidFill>
                <a:latin typeface="Arial"/>
              </a:rPr>
              <a:t> con el Serviu, … no la habilita a descargarse de la responsabilidad propia</a:t>
            </a: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 ni la exime de su obligación de indemnizar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Desde el momento que la municipalidad </a:t>
            </a:r>
            <a:r>
              <a:rPr b="0" lang="es-CL" sz="2100" spc="-1" strike="noStrike">
                <a:solidFill>
                  <a:srgbClr val="ff0000"/>
                </a:solidFill>
                <a:latin typeface="Arial"/>
              </a:rPr>
              <a:t>le corresponde aplicar de manera privativa</a:t>
            </a: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 las disposiciones sobre construcción y urbanización, debe entonces responder por las pavimentaciones defectuosa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Aplica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Falta de servicio municipal en caso de acción por omisió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Sostiene que los contratos administrativos no liberan de responsabilidad a los órganos administrativos, por incumplimiento de deberes legales privativo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274680"/>
            <a:ext cx="7991280" cy="517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s-CL" sz="2800" spc="-1" strike="noStrike">
                <a:solidFill>
                  <a:srgbClr val="000000"/>
                </a:solidFill>
                <a:latin typeface="Arial Unicode MS"/>
              </a:rPr>
              <a:t>Responsabilidad Institucional del Estado </a:t>
            </a:r>
            <a:br>
              <a:rPr sz="2800"/>
            </a:br>
            <a:r>
              <a:rPr b="0" lang="es-CL" sz="2800" spc="-1" strike="noStrike">
                <a:solidFill>
                  <a:srgbClr val="000000"/>
                </a:solidFill>
                <a:latin typeface="Arial Unicode MS"/>
              </a:rPr>
              <a:t>en la C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 Unicode MS"/>
              </a:rPr>
              <a:t>Responsabilidad Institucional en el Estado en la C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Responsabilidad del Estado Administrad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Responsabilidad del Estado Jue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Responsabilidad del Estado Legislad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 Unicode MS"/>
              </a:rPr>
              <a:t>Responsabilidad del Estado Administrad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 Unicode MS"/>
              </a:rPr>
              <a:t>Sujeto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Arial Unicode MS"/>
              </a:rPr>
              <a:t>Art. 1°, inc. 2 L. 18.575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 Unicode MS"/>
              </a:rPr>
              <a:t>“</a:t>
            </a:r>
            <a:r>
              <a:rPr b="0" lang="es-ES_tradnl" sz="2200" spc="-1" strike="noStrike">
                <a:solidFill>
                  <a:srgbClr val="000000"/>
                </a:solidFill>
                <a:latin typeface="Arial Unicode MS"/>
              </a:rPr>
              <a:t>La Administración del Estado estará constituida por los Ministerios, las Intendencias, las Gobernaciones y los órganos y servicios públicos creados para el cumplimiento de la función administrativa, incluidos la Contraloría General de la República, el Banco Central, las Fuerzas Armadas y las Fuerzas de Orden y Seguridad Pública, los Gobiernos Regionales, las Municipalidades y las empresas creadas por ley.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 Unicode MS"/>
              </a:rPr>
              <a:t>C/Sagredo Pizarro, Jorge, y Topp Collins, Carlos (1985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40640" cy="54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91680" indent="-33552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a responsabilidad del Estado, ... debe surgir en este caso ... de la </a:t>
            </a:r>
            <a:r>
              <a:rPr b="1" lang="es-CL" sz="18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responsabilidad por el hecho ajeno</a:t>
            </a:r>
            <a:r>
              <a:rPr b="0" lang="es-CL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pero, para que ésta se dé, es necesario que el hechor o hechores estén </a:t>
            </a:r>
            <a:r>
              <a:rPr b="0" lang="es-CL" sz="18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bajo el cuidado del tercero demandado</a:t>
            </a:r>
            <a:r>
              <a:rPr b="0" lang="es-CL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91680" indent="-33552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n el caso de autos, supuesto de aceptarse ... que esa relación de cuidado pueda ser también de índole administrativa, es obvio que en este supuesto deba restringirse al </a:t>
            </a:r>
            <a:r>
              <a:rPr b="1" lang="es-CL" sz="18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cuidado dentro del servicio o respecto de actuaciones ejecutadas con ocasión de él</a:t>
            </a:r>
            <a:r>
              <a:rPr b="0" lang="es-CL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dada la naturaleza de esa dependencia, no pudiendo estimarse que se cumpla con esas exigencias, ..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91680" indent="-33552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 Unicode MS"/>
              </a:rPr>
              <a:t>responsabilidad Estado por hecho de quien está a su cuidado (hecho ajeno), debe restringirse a cuidado </a:t>
            </a:r>
            <a:r>
              <a:rPr b="0" lang="es-CL" sz="1800" spc="-1" strike="noStrike">
                <a:solidFill>
                  <a:srgbClr val="ff0000"/>
                </a:solidFill>
                <a:latin typeface="Arial Unicode MS"/>
              </a:rPr>
              <a:t>dentro del servicio o actuaciones ejecutadas con ocasión de é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91680" indent="-33552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 Unicode MS"/>
              </a:rPr>
              <a:t>en los casos concretos de autos, hechores actuaron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 Unicode MS"/>
              </a:rPr>
              <a:t>en horas de franco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 Unicode MS"/>
              </a:rPr>
              <a:t>sin uso uniformes ni de armas fiscales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 Unicode MS"/>
              </a:rPr>
              <a:t>en hechos que nada tienen que ver con el empleo o función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 Unicode MS"/>
              </a:rPr>
              <a:t>hechos que los habrían podido cometer igualmente si en esos momentos ya no hubiesen pertenecido a la institució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 Unicode MS"/>
              </a:rPr>
              <a:t>Responsabilidad del Estado Administrador (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 Unicode MS"/>
              </a:rPr>
              <a:t>Fuente Jurídica Constituciona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Unicode MS"/>
              </a:rPr>
              <a:t>Art. 6º, inc. 3º, C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Unicode MS"/>
              </a:rPr>
              <a:t>Art. 7º, inc. 3º, C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Unicode MS"/>
              </a:rPr>
              <a:t>¿Art. 38, inc. 2º, CPR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Unicode MS"/>
              </a:rPr>
              <a:t>(arts. 1º, inc. 3º, 4º y 5º, CPR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915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Fuentes Lizana con Almonacid y Fisco (1996): 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  <a:ea typeface="Arial"/>
              </a:rPr>
              <a:t>violencia</a:t>
            </a:r>
            <a:br>
              <a:rPr sz="2200"/>
            </a:br>
            <a:r>
              <a:rPr b="0" lang="es-CL" sz="2200" spc="-1" strike="noStrike">
                <a:solidFill>
                  <a:srgbClr val="000000"/>
                </a:solidFill>
                <a:latin typeface="Arial"/>
                <a:ea typeface="Arial"/>
              </a:rPr>
              <a:t>innecesaria haciéndose ejercicio abusivo de función polici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54064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57240" indent="0" algn="just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100" spc="-1" strike="noStrike">
                <a:solidFill>
                  <a:srgbClr val="000000"/>
                </a:solidFill>
                <a:latin typeface="Arial Unicode MS"/>
              </a:rPr>
              <a:t>“</a:t>
            </a:r>
            <a:r>
              <a:rPr b="0" lang="es-CL" sz="2100" spc="-1" strike="noStrike">
                <a:solidFill>
                  <a:srgbClr val="000000"/>
                </a:solidFill>
                <a:latin typeface="Arial Unicode MS"/>
              </a:rPr>
              <a:t>Encontrándose acreditada la existencia del delito penal cometido por el demandado </a:t>
            </a:r>
            <a:r>
              <a:rPr b="1" lang="es-CL" sz="2100" spc="-1" strike="noStrike">
                <a:solidFill>
                  <a:srgbClr val="ff0000"/>
                </a:solidFill>
                <a:latin typeface="Arial Unicode MS"/>
              </a:rPr>
              <a:t>en acto de servicio</a:t>
            </a:r>
            <a:r>
              <a:rPr b="0" lang="es-CL" sz="2100" spc="-1" strike="noStrike">
                <a:solidFill>
                  <a:srgbClr val="ff0000"/>
                </a:solidFill>
                <a:latin typeface="Arial Unicode MS"/>
              </a:rPr>
              <a:t> </a:t>
            </a:r>
            <a:r>
              <a:rPr b="0" lang="es-CL" sz="2100" spc="-1" strike="noStrike">
                <a:solidFill>
                  <a:srgbClr val="000000"/>
                </a:solidFill>
                <a:latin typeface="Arial Unicode MS"/>
              </a:rPr>
              <a:t>como carabinero, …, necesario es declarar que al demandante le asiste el derecho a ser civilmente indemnizado tanto por el funcionario referido como por el Fisco, en cuanto </a:t>
            </a:r>
            <a:r>
              <a:rPr b="1" lang="es-CL" sz="2100" spc="-1" strike="noStrike">
                <a:solidFill>
                  <a:srgbClr val="ff0000"/>
                </a:solidFill>
                <a:latin typeface="Arial Unicode MS"/>
              </a:rPr>
              <a:t>es responsable del hecho de sus órganos o agentes</a:t>
            </a:r>
            <a:r>
              <a:rPr b="0" lang="es-CL" sz="2100" spc="-1" strike="noStrike">
                <a:solidFill>
                  <a:srgbClr val="ff0000"/>
                </a:solidFill>
                <a:latin typeface="Arial Unicode MS"/>
              </a:rPr>
              <a:t>”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just">
              <a:lnSpc>
                <a:spcPct val="10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Arial Unicode MS"/>
              </a:rPr>
              <a:t>Ideas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Arial Unicode MS"/>
              </a:rPr>
              <a:t>Responsabilidad solidaria en la comisión de delitos civil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Arial Unicode MS"/>
              </a:rPr>
              <a:t>Estado responde con sus funcionarios por los delitos que éstos comete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Arial Unicode MS"/>
              </a:rPr>
              <a:t>Estado tiene responsabilidad orgánica y funcionario responsabilidad subjetiva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eríodo Normativa Pública – 198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000080"/>
            <a:ext cx="8377200" cy="547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ndependencia responsabilidad de sujetos públicos y sujetos privad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e aplica única y exclusivamente normativa públi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rts. 6, 7, 19 N° 20, 19 N° 24, 38, 41 N° 8, C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rt. 4 y 4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Ley 18.57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rt. 142 LOC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uchs y Plath con Fisco (1908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umario: cerveza arrojada al ma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plica principio de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esponsabilidad institucional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Gobierno debe indemnizar perjuicios causados durante una huelga por fuerza armada que, obedeciendo orden superior arroja al mar bebidas para impedir que caiga en poder de huelguist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deber de la autoridad de mantener ante todo el orden público, </a:t>
            </a: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no la faculta para adoptar el primer medio que se le presenta ni la exime de la obligación de recurrir entre varios, a los que menos daños ocasionen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l derecho de los particular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o probándose que arrojar al agua mercancía fuese medio necesario y único de impedir su apropiación por huelguistas, debe el Fisco indemnizar el daño causado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asos de indefinición de las normas fundantes del sistem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428480"/>
            <a:ext cx="8540640" cy="50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240" indent="0" algn="just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724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Arial"/>
              </a:rPr>
              <a:t>Causa c/ César Miranda Galvez y otros por homicidio de </a:t>
            </a:r>
            <a:r>
              <a:rPr b="1" lang="es-ES" sz="2500" spc="-1" strike="noStrike">
                <a:solidFill>
                  <a:srgbClr val="000000"/>
                </a:solidFill>
                <a:latin typeface="Arial"/>
              </a:rPr>
              <a:t>Nattino, Parada y Guerrero</a:t>
            </a:r>
            <a:r>
              <a:rPr b="0" lang="es-ES" sz="2500" spc="-1" strike="noStrike">
                <a:solidFill>
                  <a:srgbClr val="000000"/>
                </a:solidFill>
                <a:latin typeface="Arial"/>
              </a:rPr>
              <a:t>, se condenó Fisco, fundándose en arts. 5, 6, 7 y 38 CP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7240" indent="0" algn="just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724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Arial"/>
              </a:rPr>
              <a:t>Causa </a:t>
            </a:r>
            <a:r>
              <a:rPr b="1" lang="es-ES" sz="2500" spc="-1" strike="noStrike">
                <a:solidFill>
                  <a:srgbClr val="000000"/>
                </a:solidFill>
                <a:latin typeface="Arial"/>
              </a:rPr>
              <a:t>Lionel Beraud</a:t>
            </a:r>
            <a:r>
              <a:rPr b="0" lang="es-ES" sz="2500" spc="-1" strike="noStrike">
                <a:solidFill>
                  <a:srgbClr val="000000"/>
                </a:solidFill>
                <a:latin typeface="Arial"/>
              </a:rPr>
              <a:t> condenó Fisco amparándose en el art. 38, inc. 2°, CPR, y en el art. 4 Ley 18.575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300"/>
            </a:br>
            <a:r>
              <a:rPr b="1" lang="es-CL" sz="2300" spc="-1" strike="noStrike">
                <a:solidFill>
                  <a:srgbClr val="000000"/>
                </a:solidFill>
                <a:latin typeface="Arial"/>
                <a:ea typeface="Arial"/>
              </a:rPr>
              <a:t>Hexagon Ltda. con Fisco (1987): </a:t>
            </a:r>
            <a:r>
              <a:rPr b="0" lang="es-CL" sz="2300" spc="-1" strike="noStrike">
                <a:solidFill>
                  <a:srgbClr val="000000"/>
                </a:solidFill>
                <a:latin typeface="Arial"/>
                <a:ea typeface="Arial"/>
              </a:rPr>
              <a:t>paralización de las liquidaciones de importación de automóviles marca Pacer y Hornets en 1977</a:t>
            </a:r>
            <a:br>
              <a:rPr sz="2800"/>
            </a:b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196640"/>
            <a:ext cx="8540640" cy="52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2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72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genera responsabilidad para Estado conforme CPR (arts. 6, 7, 19 Nº 24 y 20) y Ley 18.575 (arts. 4 y 42)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72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72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sponsabilidad de Estado no emana de Título XXXV del Libro IV C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72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72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cciones y omisiones de autoridades públicas, efectuadas en calidad de tales, </a:t>
            </a:r>
            <a:r>
              <a:rPr b="0" lang="es-CL" sz="2000" spc="-1" strike="noStrike">
                <a:solidFill>
                  <a:srgbClr val="ff0000"/>
                </a:solidFill>
                <a:latin typeface="Arial"/>
              </a:rPr>
              <a:t>son imputables directamente a Administración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(responsabilidad orgánica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72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72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no indemnizar daño a víctima que jurídicamente no está obligada a soportarlo, constituy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violación al derecho de propiedad al ser privado de lo suy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violación a principio constitucional de la igual repartición de las cargas públicas y de la igualdad ante la le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000000"/>
                </a:solidFill>
                <a:latin typeface="Arial"/>
                <a:ea typeface="Arial"/>
              </a:rPr>
              <a:t>Rodríguez Guaita, G. con SAG (1993): </a:t>
            </a:r>
            <a:r>
              <a:rPr b="0" lang="es-CL" sz="2100" spc="-1" strike="noStrike">
                <a:solidFill>
                  <a:srgbClr val="000000"/>
                </a:solidFill>
                <a:latin typeface="Arial"/>
                <a:ea typeface="Arial"/>
              </a:rPr>
              <a:t>SAG dictó medidas para erradicar un foco de fiebre aftosa detectado en la VII Región, prohibiendo el uso de algunos predio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628640"/>
            <a:ext cx="8540640" cy="48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Arial"/>
                <a:ea typeface="Arial"/>
              </a:rPr>
              <a:t>Responsabilidad orgánica: víctima siempre puede demandar los perjuicios </a:t>
            </a:r>
            <a:r>
              <a:rPr b="0" lang="es-CL" sz="2300" spc="-1" strike="noStrike">
                <a:solidFill>
                  <a:srgbClr val="ff0000"/>
                </a:solidFill>
                <a:latin typeface="Arial"/>
                <a:ea typeface="Arial"/>
              </a:rPr>
              <a:t>directamente a la Administració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Arial"/>
                <a:ea typeface="Arial"/>
              </a:rPr>
              <a:t>Responsabilidad objetiva: art. 38 CPR consagra el principio de que todo daño ocasionado por la Administración debe ser indemnizado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Arial"/>
                <a:ea typeface="Arial"/>
              </a:rPr>
              <a:t>Falta personal: </a:t>
            </a:r>
            <a:r>
              <a:rPr b="0" lang="es-ES" sz="2300" spc="-1" strike="noStrike">
                <a:solidFill>
                  <a:srgbClr val="000000"/>
                </a:solidFill>
                <a:latin typeface="Arial"/>
                <a:ea typeface="Arial"/>
              </a:rPr>
              <a:t>el vínculo que puede surgir entre la Administración y el funcionario que incurre en falta personal es una materia </a:t>
            </a:r>
            <a:r>
              <a:rPr b="0" lang="ja-JP" sz="2300" spc="-1" strike="noStrike">
                <a:solidFill>
                  <a:srgbClr val="ff0000"/>
                </a:solidFill>
                <a:latin typeface="Arial"/>
                <a:ea typeface="Arial"/>
              </a:rPr>
              <a:t>“</a:t>
            </a:r>
            <a:r>
              <a:rPr b="0" lang="es-ES" sz="2300" spc="-1" strike="noStrike">
                <a:solidFill>
                  <a:srgbClr val="ff0000"/>
                </a:solidFill>
                <a:latin typeface="Arial"/>
                <a:ea typeface="Arial"/>
              </a:rPr>
              <a:t>inter-orgánica</a:t>
            </a:r>
            <a:r>
              <a:rPr b="0" lang="ja-JP" sz="2300" spc="-1" strike="noStrike">
                <a:solidFill>
                  <a:srgbClr val="ff0000"/>
                </a:solidFill>
                <a:latin typeface="Arial"/>
                <a:ea typeface="Arial"/>
              </a:rPr>
              <a:t>”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100"/>
            </a:br>
            <a:r>
              <a:rPr b="1" lang="es-CL" sz="2100" spc="-1" strike="noStrike">
                <a:solidFill>
                  <a:srgbClr val="000000"/>
                </a:solidFill>
                <a:latin typeface="Arial"/>
                <a:ea typeface="Arial"/>
              </a:rPr>
              <a:t>Tirado con Municipalidad de La Reina</a:t>
            </a:r>
            <a:r>
              <a:rPr b="0" lang="es-CL" sz="2100" spc="-1" strike="noStrike">
                <a:solidFill>
                  <a:srgbClr val="000000"/>
                </a:solidFill>
                <a:latin typeface="Arial"/>
                <a:ea typeface="Arial"/>
              </a:rPr>
              <a:t> (1981): </a:t>
            </a:r>
            <a:r>
              <a:rPr b="0" lang="es-ES_tradnl" sz="2100" spc="-1" strike="noStrike">
                <a:solidFill>
                  <a:srgbClr val="000000"/>
                </a:solidFill>
                <a:latin typeface="Arial"/>
                <a:ea typeface="Arial"/>
              </a:rPr>
              <a:t>daño sufrido de caído en una excavación profunda en una calle de la comuna, que carecía de las señalizaciones de tránsito necesarios para evitar este tipo de accidentes</a:t>
            </a:r>
            <a:br>
              <a:rPr sz="2100"/>
            </a:b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1844640"/>
            <a:ext cx="8540640" cy="463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Municipalidad tiene el </a:t>
            </a:r>
            <a:r>
              <a:rPr b="0" lang="es-ES_tradnl" sz="2300" spc="-1" strike="noStrike">
                <a:solidFill>
                  <a:srgbClr val="ff0000"/>
                </a:solidFill>
                <a:latin typeface="Arial"/>
              </a:rPr>
              <a:t>deber legal de inspeccionar </a:t>
            </a: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las obras de urbanización: deber de velar que las aceras se mantengan expeditas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no puede haber infracción de normas del Código Civil cuando la sentencia ha aplicado principio de </a:t>
            </a:r>
            <a:r>
              <a:rPr b="0" lang="es-ES_tradnl" sz="2300" spc="-1" strike="noStrike">
                <a:solidFill>
                  <a:srgbClr val="ff0000"/>
                </a:solidFill>
                <a:latin typeface="Arial"/>
              </a:rPr>
              <a:t>responsabilidad objetiva del art. 62 Ley Orgánica de Municipalidades, </a:t>
            </a: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descartando la responsabilidad por la culpabilidad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575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ff0000"/>
                </a:solidFill>
                <a:latin typeface="Arial"/>
              </a:rPr>
              <a:t>no es necesario acreditar que hubo de parte de uno o más funcionarios, empleados u obreros de dicha Municipalidad, negligencia en desempeño de sus obligacione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2T17:02:18Z</dcterms:created>
  <dc:creator>Claudio</dc:creator>
  <dc:description/>
  <dc:language>en-US</dc:language>
  <cp:lastModifiedBy>Claudio Moraga</cp:lastModifiedBy>
  <dcterms:modified xsi:type="dcterms:W3CDTF">2011-11-30T12:32:46Z</dcterms:modified>
  <cp:revision>151</cp:revision>
  <dc:subject/>
  <dc:title>CONTROL</dc:title>
</cp:coreProperties>
</file>