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BF464-7488-4278-AF1A-A9F9DD07B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9F79E-5811-42A4-B772-4B506A204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3827A-7A2C-4332-8924-2EE7AA171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7571F-7E12-4BC6-B79F-E824782B3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FCC03-4B97-4495-BE78-76E846F83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004D8-CC94-4818-9279-7F7F2C52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52A92-7DE5-485A-B70B-C9C1D6676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E3F1E-DAC2-4D7B-B36C-D75F40A7F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82939-6CA8-46C9-9257-95141ADA9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5F9E-69D5-4459-8D03-51135D2D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58F65-94BF-46D8-883A-86BB83468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D3E8B-3BEF-4112-A717-D2FB481BF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ED9E-D647-4141-9B65-8505B66C9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39280" y="4220640"/>
            <a:ext cx="8201160" cy="2016360"/>
          </a:xfrm>
          <a:prstGeom prst="rect">
            <a:avLst/>
          </a:prstGeom>
          <a:noFill/>
          <a:ln w="0">
            <a:noFill/>
          </a:ln>
        </p:spPr>
        <p:txBody>
          <a:bodyPr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versidad de Chile</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ultad de Derecho</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recho Civil III</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undo Semestre, 2011</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fesor Rodrigo Gil L.</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yudante: Guillermo Chahuán Chahuá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0"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so varía según los casos y marca diferencias entre prescripciones de “largo tiempo” y de “corto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uspensión de la prescripción” y la “interrupción de la prescripción”: hechos que impiden el transcurso del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e</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de cuándo corre el plazo de prescripción?</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qué forma se computa?</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ál es el rol de las estipulaciones modificatorias de las part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2" name="PlaceHolder 2"/>
          <p:cNvSpPr>
            <a:spLocks noGrp="1"/>
          </p:cNvSpPr>
          <p:nvPr>
            <p:ph/>
          </p:nvPr>
        </p:nvSpPr>
        <p:spPr>
          <a:xfrm>
            <a:off x="457200" y="1692000"/>
            <a:ext cx="8229600" cy="47084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de cuándo corre el plazo de prescripción?</a:t>
            </a:r>
            <a:endParaRPr b="0" lang="en-US" sz="20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sde que la obligación se haya hecho exigible” (Art. 2514 CC)</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pciones por ley: </a:t>
            </a:r>
            <a:r>
              <a:rPr b="0" lang="en-US" sz="1800" spc="-1" strike="noStrike">
                <a:solidFill>
                  <a:srgbClr val="000000"/>
                </a:solidFill>
                <a:latin typeface="Arial"/>
              </a:rPr>
              <a:t>Acción pauliana (Art. 1880 CC): desde la celebración del acto o contrato; Acción por responsabilidad extracontractual (Art. 2332 CC): desde la perpetración del hecho.</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qué forma se computan los plazos?</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ículos 48 a 50 CC</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ál es el rol de las estipulaciones de las partes?, ¿Pueden alterar los plazos de prescripción?</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en contra: </a:t>
            </a:r>
            <a:r>
              <a:rPr b="0" lang="en-US" sz="1800" spc="-1" strike="noStrike">
                <a:solidFill>
                  <a:srgbClr val="000000"/>
                </a:solidFill>
                <a:latin typeface="Arial"/>
              </a:rPr>
              <a:t>carácter de orden público de la prescripción e irrenunciabilidad antes de que se halla cumplida</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 </a:t>
            </a:r>
            <a:r>
              <a:rPr b="0" lang="en-US" sz="1800" spc="-1" strike="noStrike">
                <a:solidFill>
                  <a:srgbClr val="000000"/>
                </a:solidFill>
                <a:latin typeface="Arial"/>
              </a:rPr>
              <a:t>Sólo ese argumento opera respecto de convenciones que amplíen los plazos, no las que los disminuy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4"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actividad de las partes</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creedor (interrupción civil) ni deudor (interrupción natural) actúen respecto de ell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one capacidad para actuar: precisamente en la suspensión de la prescripción se funda en la protección a los incapaces.</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ueba de la prescripción</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698 Inc. 1° CC: “Incumbe probar las obligaciones o su extinción al que alega aquéllas o é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I. Clasificación de la prescripción extintiva</a:t>
            </a:r>
            <a:endParaRPr b="0" lang="en-US" sz="20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es</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personal ordinar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ón personal ejecutiv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cciones de obligaciones accesorias</a:t>
            </a:r>
            <a:endParaRPr b="0" lang="en-US" sz="18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es</a:t>
            </a:r>
            <a:endParaRPr b="0" lang="en-US" sz="20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real de dominio y Acción de petición de herenc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ones reales provenientes de limitaciones al dominio</a:t>
            </a:r>
            <a:endParaRPr b="0" lang="en-US" sz="18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8" name="PlaceHolder 2"/>
          <p:cNvSpPr>
            <a:spLocks noGrp="1"/>
          </p:cNvSpPr>
          <p:nvPr>
            <p:ph/>
          </p:nvPr>
        </p:nvSpPr>
        <p:spPr>
          <a:xfrm>
            <a:off x="457200" y="1768320"/>
            <a:ext cx="8229600" cy="47088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e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ón personal ordinari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zo: regla general para la prescripción extintiv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o distinto requiere norma expresa</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ón ejecutiv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e: Subsiste otros 2 años como acción ordinaria (Art. 2515 inc. 2° CC)</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plazo de acción ejecutiva de un cheque protestado contra los obligados al pago: 1 año desde la fecha del protesto</a:t>
            </a:r>
            <a:endParaRPr b="0" lang="en-US" sz="1400" spc="-1" strike="noStrike">
              <a:solidFill>
                <a:srgbClr val="000000"/>
              </a:solidFill>
              <a:latin typeface="Arial"/>
            </a:endParaRPr>
          </a:p>
          <a:p>
            <a:pPr lvl="4" marL="2057400" indent="0" algn="just">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cciones de obligaciones accesorias (Art. 2516 C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ribe al momento de prescribir la acción principal</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cripciones de largo tiempo</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es</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17 CC: </a:t>
            </a:r>
            <a:r>
              <a:rPr b="0" lang="en-US" sz="1600" spc="-1" strike="noStrike">
                <a:solidFill>
                  <a:srgbClr val="000000"/>
                </a:solidFill>
                <a:latin typeface="Arial"/>
              </a:rPr>
              <a:t>“Toda acción por la cual se reclama un derecho se extingue por la prescripción adquisitiva del mismo derecho”</a:t>
            </a: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ones de dominio (reivindicatoria) y de herencia (acción de petición de herencia)</a:t>
            </a:r>
            <a:endParaRPr b="0"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se extingue cuando un tercero adquiere dominio o derecho real de herencia por prescripción adquisitiva</a:t>
            </a:r>
            <a:endParaRPr b="0" lang="en-US" sz="14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consecuencia: no hay plazo único:</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reivindicatoria: Prescripción ordinaria: 2 años (bienes muebles) y 5 años (bienes inmuebles) / Prescripción extraordinaria: 10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petición de herencia: Ordinaria (5 años) y Extrordinaria (10 Años)</a:t>
            </a:r>
            <a:endParaRPr b="0" lang="en-US" sz="1400" spc="-1" strike="noStrike">
              <a:solidFill>
                <a:srgbClr val="000000"/>
              </a:solidFill>
              <a:latin typeface="Arial"/>
            </a:endParaRPr>
          </a:p>
          <a:p>
            <a:pPr lvl="4" marL="2057400" indent="0" algn="just">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ones derivadas de limitaciones al dominio:</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fructo, uso y habitación, y Servidumbres:</a:t>
            </a:r>
            <a:endParaRPr b="0" lang="en-US" sz="16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ión: Claro Solar (5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essandri (Cuando se adquiere derecho de usufructo por prescripción adquisitiva)</a:t>
            </a:r>
            <a:endParaRPr b="0" lang="en-US" sz="14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dumbres: 3 años desde que se dejó de gozar</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 Interrupción de la prescripción</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Cese en la inactividad de alguna de las partes lo que produce como consecuencia que se pierda todo el tiempo que ya ha corrido de prescripción”.</a:t>
            </a:r>
            <a:br>
              <a:rPr sz="1800"/>
            </a:br>
            <a:r>
              <a:rPr b="0" lang="es-CL" sz="1800" spc="-1" strike="noStrike">
                <a:solidFill>
                  <a:srgbClr val="000000"/>
                </a:solidFill>
                <a:latin typeface="Arial"/>
              </a:rPr>
              <a:t> </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i="1" lang="es-ES" sz="1600" spc="-1" strike="noStrike">
                <a:solidFill>
                  <a:srgbClr val="000000"/>
                </a:solidFill>
                <a:latin typeface="Arial"/>
              </a:rPr>
              <a:t>Según este concepto el fundamento de la institución es el tantas veces indicado, la prescripción supone un abandono por parte del titular del derecho, que nada ocurra durante un tiempo respecto a éste. Si el acreedor se hace presente cobrando el crédito, o el deudor reconoce su obligación ha quedado afectado uno de los presupuestos de la prescripción, y se ha roto la presunción de extinción del crédito; reuniéndose los requisitos legales que examinaremos, se produce la interrupción de la prescripción</a:t>
            </a:r>
            <a:r>
              <a:rPr b="0" lang="es-CL" sz="1600" spc="-1" strike="noStrike">
                <a:solidFill>
                  <a:srgbClr val="000000"/>
                </a:solidFill>
                <a:latin typeface="Arial"/>
              </a:rPr>
              <a:t>”. (Abeliuk)</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mbito de aplicación de la interrupción de la prescripción</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plica a la prescripción extintiva ordinaria, pero también a la prescripción de acciones de corto tiempo, con una modalidad especial.</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lasificación (Art. 2518 CC):</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Natural</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Civil</a:t>
            </a:r>
            <a:endParaRPr b="0" lang="en-US" sz="16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4" name="PlaceHolder 2"/>
          <p:cNvSpPr>
            <a:spLocks noGrp="1"/>
          </p:cNvSpPr>
          <p:nvPr>
            <p:ph/>
          </p:nvPr>
        </p:nvSpPr>
        <p:spPr>
          <a:xfrm>
            <a:off x="457200" y="1555920"/>
            <a:ext cx="8229600" cy="476856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ificación de la Interrupción de la prescripción</a:t>
            </a:r>
            <a:endParaRPr b="0" lang="en-US" sz="2000" spc="-1" strike="noStrike">
              <a:solidFill>
                <a:srgbClr val="000000"/>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atural</a:t>
            </a:r>
            <a:r>
              <a:rPr b="0" lang="es-CL" sz="2000" spc="-1" strike="noStrike">
                <a:solidFill>
                  <a:srgbClr val="000000"/>
                </a:solidFill>
                <a:latin typeface="Arial"/>
              </a:rPr>
              <a:t>: Reconocer el deudor la obligación, ya sea expresa o tácitamente (Art. 2518 inc. 2°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 acto que importe un reconocimiento de la deuda</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resa o tácitamente</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mejanza/Diferencia con “Renuncia a la prescripción”: momento en que ocurre.</a:t>
            </a:r>
            <a:endParaRPr b="0" lang="en-US" sz="18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ivil</a:t>
            </a:r>
            <a:r>
              <a:rPr b="0" lang="es-CL" sz="2000" spc="-1" strike="noStrike">
                <a:solidFill>
                  <a:srgbClr val="000000"/>
                </a:solidFill>
                <a:latin typeface="Arial"/>
              </a:rPr>
              <a:t>: “Por la demanda judicial, salvo los casos enumerados en el Art. 2503” (Art. 2518 inc. 3°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usión en torno al concepto de “demanda judicial”: 2 opiniones</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sitos:</a:t>
            </a:r>
            <a:endParaRPr b="0" lang="en-US" sz="18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Notificación de la demanda en forma legal”</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no se haya producido desistimiento de la demanda o abandono del procedimiento</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l demandado no haya obtenido “sentencia absolutoria”: discusión al respe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6" name="PlaceHolder 2"/>
          <p:cNvSpPr>
            <a:spLocks noGrp="1"/>
          </p:cNvSpPr>
          <p:nvPr>
            <p:ph/>
          </p:nvPr>
        </p:nvSpPr>
        <p:spPr>
          <a:xfrm>
            <a:off x="457200" y="1555920"/>
            <a:ext cx="8229600" cy="476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de la interrupción</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pierde todo el tiempo transcurrido</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s relativos de la interrupció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ciones: Obligaciones solidarias e indivisibles / Obligaciones accesorias (Art. 2516 C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8229600" cy="470844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I. Suspensión de la prescripción</a:t>
            </a:r>
            <a:endParaRPr b="0" lang="en-US" sz="20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i="1" lang="es-ES_tradnl" sz="1800" spc="-1" strike="noStrike">
                <a:solidFill>
                  <a:srgbClr val="000000"/>
                </a:solidFill>
                <a:latin typeface="Arial"/>
              </a:rPr>
              <a:t>La suspensión es un beneficio que el legislador otorga a los acreedores incapaces y a la mujer casada bajo el régimen de sociedad conyugal para que la prescripción no corra en su contra mientras dure la incapacidad o la sociedad conyugal</a:t>
            </a:r>
            <a:r>
              <a:rPr b="0" lang="es-CL" sz="1800" spc="-1" strike="noStrike">
                <a:solidFill>
                  <a:srgbClr val="000000"/>
                </a:solidFill>
                <a:latin typeface="Arial"/>
              </a:rPr>
              <a:t>” (ABELIUK)</a:t>
            </a:r>
            <a:endParaRPr b="0" lang="en-US" sz="1800" spc="-1" strike="noStrike">
              <a:solidFill>
                <a:srgbClr val="000000"/>
              </a:solidFill>
              <a:latin typeface="Arial"/>
            </a:endParaRPr>
          </a:p>
          <a:p>
            <a:pPr lvl="1" marL="7207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 2520 CC</a:t>
            </a:r>
            <a:r>
              <a:rPr b="0" lang="es-CL" sz="1800" spc="-1" strike="noStrike">
                <a:solidFill>
                  <a:srgbClr val="000000"/>
                </a:solidFill>
                <a:latin typeface="Arial"/>
              </a:rPr>
              <a:t>: “La prescripción que extingue la obligación se suspende a favor de las personas enumeradas en los números 1 y 2 del artículo 2509. Transcurridos 10 años no se tomará en cuenta las suspensiones mencionadas en el inciso precedente”</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1 del Art. 2509 CC: “Menores, dementes, sordos o sordomudos que no pueden darse a entender claramente, y todos los que estén bajo potestad paterna, o bajo tutela o curaduría”.</a:t>
            </a:r>
            <a:endParaRPr b="0" lang="en-US" sz="16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2 del Art. 2509 CC: “Mujer casada en sociedad conyugal”</a:t>
            </a:r>
            <a:endParaRPr b="0" lang="en-US" sz="1600" spc="-1" strike="noStrike">
              <a:solidFill>
                <a:srgbClr val="000000"/>
              </a:solidFill>
              <a:latin typeface="Arial"/>
            </a:endParaRPr>
          </a:p>
          <a:p>
            <a:pPr lvl="1" marL="720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fecto</a:t>
            </a:r>
            <a:r>
              <a:rPr b="0" lang="es-CL" sz="1800" spc="-1" strike="noStrike">
                <a:solidFill>
                  <a:srgbClr val="000000"/>
                </a:solidFill>
                <a:latin typeface="Arial"/>
              </a:rPr>
              <a:t>: Impide que continúe transcurriendo el plazo de prescripción</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ímite: 10 años: plazo máximo de estabilización de todas las situaciones jurídicas</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4708440"/>
          </a:xfrm>
          <a:prstGeom prst="rect">
            <a:avLst/>
          </a:prstGeom>
          <a:noFill/>
          <a:ln w="0">
            <a:noFill/>
          </a:ln>
        </p:spPr>
        <p:txBody>
          <a:bodyPr anchor="t">
            <a:normAutofit fontScale="94000"/>
          </a:bodyPr>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 Introducción</a:t>
            </a:r>
            <a:endParaRPr b="0" lang="en-US" sz="2000" spc="-1" strike="noStrike">
              <a:solidFill>
                <a:srgbClr val="000000"/>
              </a:solidFill>
              <a:latin typeface="Arial"/>
            </a:endParaRPr>
          </a:p>
          <a:p>
            <a:pPr marL="322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bicación sistemática</a:t>
            </a:r>
            <a:r>
              <a:rPr b="0" lang="en-US" sz="1800" spc="-1" strike="noStrike">
                <a:solidFill>
                  <a:srgbClr val="000000"/>
                </a:solidFill>
                <a:latin typeface="Arial"/>
              </a:rPr>
              <a:t>: Final del libro IV del Código Civil, a partir del artículo 2492</a:t>
            </a:r>
            <a:endParaRPr b="0" lang="en-US" sz="1800" spc="-1" strike="noStrike">
              <a:solidFill>
                <a:srgbClr val="000000"/>
              </a:solidFill>
              <a:latin typeface="Arial"/>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en Derecho Civil se habla de prescripción podemos estarnos refiriendo a </a:t>
            </a:r>
            <a:r>
              <a:rPr b="1" lang="en-US" sz="1800" spc="-1" strike="noStrike">
                <a:solidFill>
                  <a:srgbClr val="000000"/>
                </a:solidFill>
                <a:latin typeface="Arial"/>
              </a:rPr>
              <a:t>dos instituciones distinta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Adquisitiva o Usucapión: modo de adquirir el dominio (Art. 2498 a 2514 CC)</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Extintiva o Liberatoria: modo de extinguir las obligaciones (Art. 2514 a 2524 CC)</a:t>
            </a:r>
            <a:endParaRPr b="0" lang="en-US" sz="1600" spc="-1" strike="noStrike">
              <a:solidFill>
                <a:srgbClr val="000000"/>
              </a:solidFill>
              <a:latin typeface="Arial"/>
            </a:endParaRPr>
          </a:p>
          <a:p>
            <a:pPr lvl="1" marL="6984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perjuicio de que constituyen instituciones jurídicas distintas, ambos tipos de prescripciones </a:t>
            </a:r>
            <a:r>
              <a:rPr b="1" lang="en-US" sz="1800" spc="-1" strike="noStrike">
                <a:solidFill>
                  <a:srgbClr val="000000"/>
                </a:solidFill>
                <a:latin typeface="Arial"/>
              </a:rPr>
              <a:t>están reguladas conjuntamente</a:t>
            </a:r>
            <a:r>
              <a:rPr b="0" lang="en-US" sz="1800" spc="-1" strike="noStrike">
                <a:solidFill>
                  <a:srgbClr val="000000"/>
                </a:solidFill>
                <a:latin typeface="Arial"/>
              </a:rPr>
              <a:t>. Razone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istórica: el Código Civil Francés así lo hacía</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Lógica: Tienen normas comunes y se basan en un elemento distintivo común: el paso del tiempo con el objetivo de dar estabilidad a las relaciones jurídic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0"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X. Paralelo entre Interrupción de la prescripción y Suspensión de la prescrip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1" name=""/>
          <p:cNvGraphicFramePr/>
          <p:nvPr/>
        </p:nvGraphicFramePr>
        <p:xfrm>
          <a:off x="684360" y="2997360"/>
          <a:ext cx="8064360" cy="3159000"/>
        </p:xfrm>
        <a:graphic>
          <a:graphicData uri="http://schemas.openxmlformats.org/drawingml/2006/table">
            <a:tbl>
              <a:tblPr/>
              <a:tblGrid>
                <a:gridCol w="1439640"/>
                <a:gridCol w="3024360"/>
                <a:gridCol w="3600360"/>
              </a:tblGrid>
              <a:tr h="34596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rup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s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da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rompen inactiv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cio concedido por el legisl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a fav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cualquier perso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lo respecto de quienes ha sido concedid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cer perder todo el tiem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ide que siga corriendo, pero no se pierde todo lo transcurrid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iene límite de plaz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e toma en cuenta luego de 10 añ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en relación 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o tipo de prescrip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era respecto de las prescripciones de corto plaz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3" name="PlaceHolder 2"/>
          <p:cNvSpPr>
            <a:spLocks noGrp="1"/>
          </p:cNvSpPr>
          <p:nvPr>
            <p:ph/>
          </p:nvPr>
        </p:nvSpPr>
        <p:spPr>
          <a:xfrm>
            <a:off x="468360" y="191592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ripciones con un plazo menor a 5 años: excepciones a regla general del Art. 2515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da entre los Art. 2521 a 2524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ificació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escripciones de corto tiempo de 3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rescripciones de corto tiempo de 2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Prescripciones de corto tiempo de 1 añ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rescripciones de corto tiempo especiales</a:t>
            </a: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escripciones de corto tiempo de 3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1° CC: “Prescriben en 3 años las acciones a favor o en contra del </a:t>
            </a:r>
            <a:r>
              <a:rPr b="0" lang="en-US" sz="1600" spc="-1" strike="noStrike" u="sng">
                <a:solidFill>
                  <a:srgbClr val="000000"/>
                </a:solidFill>
                <a:uFillTx/>
                <a:latin typeface="Arial"/>
              </a:rPr>
              <a:t>Fisco y de las Municipalidades</a:t>
            </a:r>
            <a:r>
              <a:rPr b="0" lang="en-US" sz="1600" spc="-1" strike="noStrike">
                <a:solidFill>
                  <a:srgbClr val="000000"/>
                </a:solidFill>
                <a:latin typeface="Arial"/>
              </a:rPr>
              <a:t> provenientes de </a:t>
            </a:r>
            <a:r>
              <a:rPr b="0" lang="en-US" sz="1600" spc="-1" strike="noStrike" u="sng">
                <a:solidFill>
                  <a:srgbClr val="000000"/>
                </a:solidFill>
                <a:uFillTx/>
                <a:latin typeface="Arial"/>
              </a:rPr>
              <a:t>toda clase de impuestos</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rrelevancia práctica por regulaciones especiales tributarias</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Prescripciones de corto tiempo de 2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2 CC: “Prescriben en 2 años los honorarios de jueces, abogados, procuradores; los de médicos y cirujanos; los de directores o profesores de colegios y escuelas; los de ingenieros y agrimensores, y en general, de los que </a:t>
            </a:r>
            <a:r>
              <a:rPr b="0" lang="en-US" sz="1600" spc="-1" strike="noStrike" u="sng">
                <a:solidFill>
                  <a:srgbClr val="000000"/>
                </a:solidFill>
                <a:uFillTx/>
                <a:latin typeface="Arial"/>
              </a:rPr>
              <a:t>ejercen cualquiera profesión liberal</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e tratarse de honorarios y deben emanar del ejercicio de una profesión liberal</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7"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3" marL="160020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Prescripciones de corto tiempo de 1 año</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2 CC: “Prescribe en 1 año la acción de los mercaderes, proveedores y artesanos pro el precio de los artículos que despachan al menudeo. La de toda clase de personas por el precio de servicios que se prestan periódica o accidentalmente; como posaderos, acarreadores, mensajeros, barberos, et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dichas determinadas personas, “al por menor”, o de servicios que se prestan periódicamente.</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9"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NO se suspenden</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2523 CC</a:t>
            </a:r>
            <a:r>
              <a:rPr b="0" lang="en-US" sz="1800" spc="-1" strike="noStrike">
                <a:solidFill>
                  <a:srgbClr val="000000"/>
                </a:solidFill>
                <a:latin typeface="Arial"/>
              </a:rPr>
              <a:t>: “Las prescripciones mencionadas en los dos artículos precedentes corren contra toda clase de personas, y no admiten suspensión algun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SÍ se interrumpen, pero la interrupción opera de distinto modo: doctrinariamente se le ha denominado “interversión”.</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1"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natura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1 CC: “Desde que interviene pagaré u obligación escrita, o concesión de plazo por el acreedor”</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exige un documento que de constancia de la deuda o que se conceda un plazo (en este caso no se exige que sea por escrito)</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civi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2 CC: “Desde que interviene requerimiento”</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ión en torno al vocablo “requerimiento”</a:t>
            </a:r>
            <a:endParaRPr b="0" lang="en-US" sz="1400" spc="-1" strike="noStrike">
              <a:solidFill>
                <a:srgbClr val="000000"/>
              </a:solidFill>
              <a:latin typeface="Arial"/>
            </a:endParaRPr>
          </a:p>
          <a:p>
            <a:pPr lvl="3" marL="16002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o especial:</a:t>
            </a:r>
            <a:r>
              <a:rPr b="0" lang="en-US" sz="1800" spc="-1" strike="noStrike">
                <a:solidFill>
                  <a:srgbClr val="000000"/>
                </a:solidFill>
                <a:latin typeface="Arial"/>
              </a:rPr>
              <a:t> </a:t>
            </a:r>
            <a:r>
              <a:rPr b="1" lang="en-US" sz="1800" spc="-1" strike="noStrike">
                <a:solidFill>
                  <a:srgbClr val="000000"/>
                </a:solidFill>
                <a:latin typeface="Arial"/>
              </a:rPr>
              <a:t>“Interversión”: </a:t>
            </a:r>
            <a:r>
              <a:rPr b="0" lang="en-US" sz="1800" spc="-1" strike="noStrike">
                <a:solidFill>
                  <a:srgbClr val="000000"/>
                </a:solidFill>
                <a:latin typeface="Arial"/>
              </a:rPr>
              <a:t>Art. 2523 inc. final: “En ambos casos sucede a la prescripción de corto tiempo la del artículo 2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3" name="PlaceHolder 2"/>
          <p:cNvSpPr>
            <a:spLocks noGrp="1"/>
          </p:cNvSpPr>
          <p:nvPr>
            <p:ph/>
          </p:nvPr>
        </p:nvSpPr>
        <p:spPr>
          <a:xfrm>
            <a:off x="468360" y="1523880"/>
            <a:ext cx="8229600" cy="47088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1" marL="720720" indent="-2772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24 CC:</a:t>
            </a:r>
            <a:r>
              <a:rPr b="0" lang="en-US" sz="1600" spc="-1" strike="noStrike">
                <a:solidFill>
                  <a:srgbClr val="000000"/>
                </a:solidFill>
                <a:latin typeface="Arial"/>
              </a:rPr>
              <a:t> “Las prescripciones de corto tiempo a que están sujetas las acciones especiales que nacen de ciertos actos o contratos, se mencionan en los títulos respectivos, y corren también contra toda persona; salvo que expresamente se establezca lo contrario”</a:t>
            </a:r>
            <a:endParaRPr b="0" lang="en-US" sz="1600" spc="-1" strike="noStrike">
              <a:solidFill>
                <a:srgbClr val="000000"/>
              </a:solidFill>
              <a:latin typeface="Arial"/>
            </a:endParaRPr>
          </a:p>
          <a:p>
            <a:pPr lvl="1" marL="7207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de corto tiempo</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les aplican las reglas sobre interrupción del artículo 2523</a:t>
            </a:r>
            <a:endParaRPr b="0" lang="en-US" sz="1800" spc="-1" strike="noStrike">
              <a:solidFill>
                <a:srgbClr val="000000"/>
              </a:solidFill>
              <a:latin typeface="Arial"/>
            </a:endParaRPr>
          </a:p>
          <a:p>
            <a:pPr lvl="1" marL="7207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suspenden, salvo las excepciones</a:t>
            </a:r>
            <a:r>
              <a:rPr b="0" lang="en-US" sz="1400" spc="-1" strike="noStrike">
                <a:solidFill>
                  <a:srgbClr val="000000"/>
                </a:solidFill>
                <a:latin typeface="Arial"/>
              </a:rPr>
              <a:t>:</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nulidad relativa sí se suspende a favor de los herederos menores hasta que cumplen la mayoría de edad.</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reforma de testamento: Legitimario, que a la apertura de la sucesión no tiene la libre administración de sus bienes, el plazo de 4 años se cuenta desde “el día que tomares esa administ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pic>
        <p:nvPicPr>
          <p:cNvPr id="95" name="Picture 4" descr=""/>
          <p:cNvPicPr/>
          <p:nvPr/>
        </p:nvPicPr>
        <p:blipFill>
          <a:blip r:embed="rId1"/>
          <a:stretch/>
        </p:blipFill>
        <p:spPr>
          <a:xfrm rot="21472800">
            <a:off x="899640" y="1533240"/>
            <a:ext cx="7345440" cy="5324400"/>
          </a:xfrm>
          <a:prstGeom prst="rect">
            <a:avLst/>
          </a:prstGeom>
          <a:ln w="0">
            <a:noFill/>
          </a:ln>
        </p:spPr>
      </p:pic>
      <p:sp>
        <p:nvSpPr>
          <p:cNvPr id="96" name="PlaceHolder 2"/>
          <p:cNvSpPr>
            <a:spLocks noGrp="1"/>
          </p:cNvSpPr>
          <p:nvPr>
            <p:ph/>
          </p:nvPr>
        </p:nvSpPr>
        <p:spPr>
          <a:xfrm>
            <a:off x="395280" y="1197000"/>
            <a:ext cx="8229600" cy="58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Diferencias entre Prescripción y Caducida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6"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qué debe existir una institución como la prescripción?</a:t>
            </a:r>
            <a:endParaRPr b="0" lang="en-US" sz="18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íticas</a:t>
            </a:r>
            <a:r>
              <a:rPr b="0" lang="en-US" sz="1600" spc="-1" strike="noStrike">
                <a:solidFill>
                  <a:srgbClr val="000000"/>
                </a:solidFill>
                <a:latin typeface="Arial"/>
              </a:rPr>
              <a:t>: puede amparar el despojo y en muchos casos irá en pro de deudores inescrupulosos</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stabilidad para las relaciones jurídicas</a:t>
            </a:r>
            <a:r>
              <a:rPr b="0" lang="en-US" sz="1600" spc="-1" strike="noStrike">
                <a:solidFill>
                  <a:srgbClr val="000000"/>
                </a:solidFill>
                <a:latin typeface="Arial"/>
              </a:rPr>
              <a:t>: “</a:t>
            </a:r>
            <a:r>
              <a:rPr b="0" i="1" lang="en-US" sz="1600" spc="-1" strike="noStrike">
                <a:solidFill>
                  <a:srgbClr val="000000"/>
                </a:solidFill>
                <a:latin typeface="Arial"/>
              </a:rPr>
              <a:t>Si no mediara la prescripción liberatoria, sería menester guardar o establecer las constancias de extinción de toda obligación por los siglos de los siglos, ya que en cualquier tiempo los herederos del deudor, y los herederos de los herederos, podrían verse expuestos a un cobro de la deuda, sin poder justificar la cancelación de ella que alegan</a:t>
            </a:r>
            <a:r>
              <a:rPr b="0" lang="en-US" sz="1600" spc="-1" strike="noStrike">
                <a:solidFill>
                  <a:srgbClr val="000000"/>
                </a:solidFill>
                <a:latin typeface="Arial"/>
              </a:rPr>
              <a:t>”. (Abeliuk)</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8"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esunción de pago y sanción a negligencia del acreedor</a:t>
            </a:r>
            <a:r>
              <a:rPr b="0" lang="en-US" sz="1600" spc="-1" strike="noStrike">
                <a:solidFill>
                  <a:srgbClr val="000000"/>
                </a:solidFill>
                <a:latin typeface="Arial"/>
              </a:rPr>
              <a:t>: Es presumible que, cuando ya ha pasado un tiempo prudente, si el acreedor no ha exigido el pago, es porque el deudor ya lo ha realizado. Y si este no lo ha realizado, es porque el acreedor ha sido negligente en la protección de su patrimonio.</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vedad</a:t>
            </a:r>
            <a:r>
              <a:rPr b="0" lang="en-US" sz="1800" spc="-1" strike="noStrike">
                <a:solidFill>
                  <a:srgbClr val="000000"/>
                </a:solidFill>
                <a:latin typeface="Arial"/>
              </a:rPr>
              <a:t>: pese a estar prescrita la obligación (y de ese modo dar estabilidad a las relaciones jurídicas y sancionar al acreedor negligente) si el deudor paga, se otorga el derecho al acreedor a retener lo pagado: se trata del pago de una obligación natural (Art. 1470 N° 2 CC)</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0" name="PlaceHolder 2"/>
          <p:cNvSpPr>
            <a:spLocks noGrp="1"/>
          </p:cNvSpPr>
          <p:nvPr>
            <p:ph/>
          </p:nvPr>
        </p:nvSpPr>
        <p:spPr>
          <a:xfrm>
            <a:off x="457200" y="1523880"/>
            <a:ext cx="8229600" cy="4708800"/>
          </a:xfrm>
          <a:prstGeom prst="rect">
            <a:avLst/>
          </a:prstGeom>
          <a:noFill/>
          <a:ln w="0">
            <a:noFill/>
          </a:ln>
        </p:spPr>
        <p:txBody>
          <a:bodyPr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I. Concepto</a:t>
            </a:r>
            <a:endParaRPr b="0" lang="en-US" sz="20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ículo 2492 CC</a:t>
            </a:r>
            <a:r>
              <a:rPr b="0" lang="en-US" sz="1800" spc="-1" strike="noStrike">
                <a:solidFill>
                  <a:srgbClr val="000000"/>
                </a:solidFill>
                <a:latin typeface="Arial"/>
              </a:rPr>
              <a:t>: “La </a:t>
            </a:r>
            <a:r>
              <a:rPr b="0" i="1" lang="en-US" sz="1800" spc="-1" strike="noStrike">
                <a:solidFill>
                  <a:srgbClr val="000000"/>
                </a:solidFill>
                <a:latin typeface="Arial"/>
              </a:rPr>
              <a:t>prescripción</a:t>
            </a:r>
            <a:r>
              <a:rPr b="0" lang="en-US" sz="1800" spc="-1" strike="noStrike">
                <a:solidFill>
                  <a:srgbClr val="000000"/>
                </a:solidFill>
                <a:latin typeface="Arial"/>
              </a:rPr>
              <a:t> es un </a:t>
            </a:r>
            <a:r>
              <a:rPr b="0" lang="en-US" sz="1800" spc="-1" strike="noStrike" u="sng">
                <a:solidFill>
                  <a:srgbClr val="000000"/>
                </a:solidFill>
                <a:uFillTx/>
                <a:latin typeface="Arial"/>
              </a:rPr>
              <a:t>modo</a:t>
            </a:r>
            <a:r>
              <a:rPr b="0" lang="en-US" sz="1800" spc="-1" strike="noStrike">
                <a:solidFill>
                  <a:srgbClr val="000000"/>
                </a:solidFill>
                <a:latin typeface="Arial"/>
              </a:rPr>
              <a:t> de adquirir las cosas ajenas, o </a:t>
            </a:r>
            <a:r>
              <a:rPr b="0" lang="en-US" sz="1800" spc="-1" strike="noStrike" u="sng">
                <a:solidFill>
                  <a:srgbClr val="000000"/>
                </a:solidFill>
                <a:uFillTx/>
                <a:latin typeface="Arial"/>
              </a:rPr>
              <a:t>de extinguir las acciones y derechos ajenos, por</a:t>
            </a:r>
            <a:r>
              <a:rPr b="0" lang="en-US" sz="1800" spc="-1" strike="noStrike">
                <a:solidFill>
                  <a:srgbClr val="000000"/>
                </a:solidFill>
                <a:latin typeface="Arial"/>
              </a:rPr>
              <a:t> haberse poseído las cosas o </a:t>
            </a:r>
            <a:r>
              <a:rPr b="0" lang="en-US" sz="1800" spc="-1" strike="noStrike" u="sng">
                <a:solidFill>
                  <a:srgbClr val="000000"/>
                </a:solidFill>
                <a:uFillTx/>
                <a:latin typeface="Arial"/>
              </a:rPr>
              <a:t>no haberse ejercido dichas acciones y derechos durante un cierto lapso de tiempo, y concurriendo los demás requisitos legales</a:t>
            </a:r>
            <a:r>
              <a:rPr b="0" lang="en-US" sz="1800" spc="-1" strike="noStrike">
                <a:solidFill>
                  <a:srgbClr val="000000"/>
                </a:solidFill>
                <a:latin typeface="Arial"/>
              </a:rPr>
              <a:t>. Una acción o derecho se dice </a:t>
            </a:r>
            <a:r>
              <a:rPr b="0" i="1" lang="en-US" sz="1800" spc="-1" strike="noStrike">
                <a:solidFill>
                  <a:srgbClr val="000000"/>
                </a:solidFill>
                <a:latin typeface="Arial"/>
              </a:rPr>
              <a:t>prescribir</a:t>
            </a:r>
            <a:r>
              <a:rPr b="0" lang="en-US" sz="1800" spc="-1" strike="noStrike">
                <a:solidFill>
                  <a:srgbClr val="000000"/>
                </a:solidFill>
                <a:latin typeface="Arial"/>
              </a:rPr>
              <a:t> cuando se extingue por la prescripción”</a:t>
            </a:r>
            <a:endParaRPr b="0" lang="en-US" sz="1800" spc="-1" strike="noStrike">
              <a:solidFill>
                <a:srgbClr val="000000"/>
              </a:solidFill>
              <a:latin typeface="Arial"/>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e</a:t>
            </a:r>
            <a:r>
              <a:rPr b="0" lang="en-US" sz="1800" spc="-1" strike="noStrike">
                <a:solidFill>
                  <a:srgbClr val="000000"/>
                </a:solidFill>
                <a:latin typeface="Arial"/>
              </a:rPr>
              <a:t>: Prescripción Extintiva </a:t>
            </a:r>
            <a:r>
              <a:rPr b="0" lang="en-US" sz="1800" spc="-1" strike="noStrike" u="sng">
                <a:solidFill>
                  <a:srgbClr val="000000"/>
                </a:solidFill>
                <a:uFillTx/>
                <a:latin typeface="Arial"/>
              </a:rPr>
              <a:t>no extingue la obligación, sino que las acciones</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cisión del CC en el Art. 1567 N° 10 y en el Art. 2520: prescripción como un “modo de extinguir las obligaciones”.</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extingue la obligación civil, es decir, de la cual deriva una acción para hacer exigible la pretensión, ya que la obligación subsiste, pero como obligación natural</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produce la liberación del deudor, no porque se haya extinguido la obligación, sino porque el acreedor no tiene medio alguno para poder forzar al deudor a la realización de la prestación debi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2" name="PlaceHolder 2"/>
          <p:cNvSpPr>
            <a:spLocks noGrp="1"/>
          </p:cNvSpPr>
          <p:nvPr>
            <p:ph/>
          </p:nvPr>
        </p:nvSpPr>
        <p:spPr>
          <a:xfrm>
            <a:off x="457200" y="1447560"/>
            <a:ext cx="8229600" cy="52578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V. Reglas comunes a toda prescripción</a:t>
            </a:r>
            <a:endParaRPr b="0" lang="en-US" sz="20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a prescripción debe ser alega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La prescripción debe ser alegada</a:t>
            </a:r>
            <a:endParaRPr b="0" lang="en-US" sz="1600" spc="-1" strike="noStrike">
              <a:solidFill>
                <a:srgbClr val="000000"/>
              </a:solidFill>
              <a:latin typeface="Arial"/>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493 CC: “El que quiera aprovecharse de la prescripción debe alegarla; el juez no puede declararla de oficio”</a:t>
            </a:r>
            <a:endParaRPr b="0" lang="en-US" sz="16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en materia civil?: Prescripción de la acción ejecutiva</a:t>
            </a:r>
            <a:endParaRPr b="0" lang="en-US" sz="1400" spc="-1" strike="noStrike">
              <a:solidFill>
                <a:srgbClr val="000000"/>
              </a:solidFill>
              <a:latin typeface="Arial"/>
            </a:endParaRPr>
          </a:p>
          <a:p>
            <a:pPr lvl="2" marL="111996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s de alegar la prescripción</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e señalarse la forma en que ella ha operado</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scutiblemente puede alegarse como excepción (en cualquier estado del juicio antes de la citación para oír sentencia en primera instancia y vista de la causa en segunda instancia)</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discute si puede alegarse como acción</a:t>
            </a:r>
            <a:endParaRPr b="0" lang="en-US" sz="1400" spc="-1" strike="noStrike">
              <a:solidFill>
                <a:srgbClr val="000000"/>
              </a:solidFill>
              <a:latin typeface="Arial"/>
            </a:endParaRPr>
          </a:p>
          <a:p>
            <a:pPr lvl="3" marL="15681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eliuk: “</a:t>
            </a:r>
            <a:r>
              <a:rPr b="0" i="1" lang="en-US" sz="1400" spc="-1" strike="noStrike">
                <a:solidFill>
                  <a:srgbClr val="000000"/>
                </a:solidFill>
                <a:latin typeface="Arial"/>
              </a:rPr>
              <a:t>La ley ha limitado a exigir que alegue la prescripción, pero no le restringe la forma de hacerlo</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4" name="PlaceHolder 2"/>
          <p:cNvSpPr>
            <a:spLocks noGrp="1"/>
          </p:cNvSpPr>
          <p:nvPr>
            <p:ph/>
          </p:nvPr>
        </p:nvSpPr>
        <p:spPr>
          <a:xfrm>
            <a:off x="457200" y="1700280"/>
            <a:ext cx="8229600" cy="4913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ble limitación</a:t>
            </a:r>
            <a:endParaRPr b="0" lang="en-US" sz="18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ede ser renunciada expresa o tácitamente sólo una vez cumplida” (Art. 2494 inc. 1° CC)</a:t>
            </a:r>
            <a:endParaRPr b="0" lang="en-US" sz="18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que se pierda el objetivo de estabilidad en las relaciones jurídicas: razón de orden público</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ede ser expresa o tácit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expresa: </a:t>
            </a:r>
            <a:r>
              <a:rPr b="0" lang="en-US" sz="1400" spc="-1" strike="noStrike">
                <a:solidFill>
                  <a:srgbClr val="000000"/>
                </a:solidFill>
                <a:latin typeface="Arial"/>
              </a:rPr>
              <a:t>declaración formal de renuncia</a:t>
            </a:r>
            <a:endParaRPr b="0" lang="en-US" sz="14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tácita: </a:t>
            </a:r>
            <a:r>
              <a:rPr b="0" lang="en-US" sz="1400" spc="-1" strike="noStrike">
                <a:solidFill>
                  <a:srgbClr val="000000"/>
                </a:solidFill>
                <a:latin typeface="Arial"/>
              </a:rPr>
              <a:t>“Cuando el que puede alegarla manifiesta por un hecho suyo que reconoce el derecho del dueño o acreedor; por ejemplo, cuando cumplidas las condiciones legales de la prescripción, el poseedor de la cosa la toma en arriendo, o el que debe dinero paga intereses o pide plazo” (Art. 2494 inc. 2° CC)</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o puede renunciar la prescripción sino el que puede enajenar” (Art. 2495 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2.497 CC: “Las reglas relativas a la prescripción se aplican igualmente a favor y en contra del Estado, de las iglesias, de las municipalidades, de los establecimientos y corporaciones nacionales, y de los individuos particulares que tienen la libre administración de lo suyo”</a:t>
            </a:r>
            <a:r>
              <a:rPr b="0" lang="es-CL" sz="1800" spc="-1" strike="noStrike">
                <a:solidFill>
                  <a:srgbClr val="000000"/>
                </a:solidFill>
                <a:latin typeface="Arial"/>
              </a:rPr>
              <a:t> </a:t>
            </a:r>
            <a:endParaRPr b="0" lang="en-US" sz="18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zones históricas de la norma</a:t>
            </a:r>
            <a:endParaRPr b="0" lang="en-US" sz="1600" spc="-1" strike="noStrike">
              <a:solidFill>
                <a:srgbClr val="000000"/>
              </a:solidFill>
              <a:latin typeface="Arial"/>
            </a:endParaRPr>
          </a:p>
          <a:p>
            <a:pPr lvl="2" marL="11430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cepción: Suspensión a favor de los quienes no tienen la libre administración de sus bienes (Art. 2509 CC)</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8"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Que exista inactividad de las partes</a:t>
            </a:r>
            <a:endParaRPr b="0" lang="en-US" sz="18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 general: prescriptibilidad</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scriptibilidad siempre requiere norma expresa</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os: Acción de partición (Art. 1317 CC), Reclamación de estado civil (Art. 320 CC), Acción de demarcación y cerra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20:15:49Z</dcterms:created>
  <dc:creator>gchahuan</dc:creator>
  <dc:description/>
  <dc:language>en-US</dc:language>
  <cp:lastModifiedBy>gchahuan</cp:lastModifiedBy>
  <dcterms:modified xsi:type="dcterms:W3CDTF">2012-01-26T15:03:30Z</dcterms:modified>
  <cp:revision>137</cp:revision>
  <dc:subject/>
  <dc:title>Delitos de mera expropiación: Daños</dc:title>
</cp:coreProperties>
</file>