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9F0-692A-430D-930E-E82BDB37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C9A-1E60-43B4-858E-61BF24C8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B65-6870-47DF-BBF5-08B2CF0C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AB9-19A0-4C0D-9176-3E9CC10A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9BD-DF3D-4F11-AA21-1EDE5DFE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E6E-A2DB-47FE-A82F-11DB0B00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24E-E29F-47C6-96E6-C9AD6207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45E-9D20-4AEE-A13C-2A6410ED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1D1-4639-478D-AB45-9DBCCD87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EC3-C0F4-45A7-8F5C-E286F086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514-37B8-473B-BE82-0049DB0B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C49-2AE7-491C-B937-A2280ADC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89CE-0962-4232-B99F-38284824F3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Y CODIFICA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ÓDI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NACIÓN SISTEMÉTICA DE LEYES QUE ABARCA VARIAS MATERIAS E INSTITUCIONES JURÍDICAS EN FORMA ARMÓ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COPILACIÓN LE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ECCIÓN LEYES AGRUPADAS POR ORDEN CRONOLÓGICO O MATERIAS. CADA LEY CONSERVA INDIVIDUA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PARALEL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ÓDI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NUE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HERENCIA IN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NACIÓN LÓGICA, SISTEMÁTICA Y COHER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100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COPI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JURÍDICO PREEXIS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BLES NORMAS CONTRADICTO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NACIÓN CRONOLÓGICA O POR MATE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PROCESO DE CODIFICA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/X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ENT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USNATURALISMO RACIONALISTA E ILUSTRACIÓN/DERECHO ROMANO/INFLUENCIA POSITIVISTA/LATINOAMÉRICA: IDEALES DE INDEPEND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DIFICACIÓN: CONSTITUCIÓN Y LEY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0976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R: ANDRÉS BE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OS PROYECTOS: 1841-1845/1846-1847/1853/18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ULGACIÓN: 14 DE DICIEMBRE, 18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GENCIA: 1 ENERO 1857 (PERÍODO VACANCIA LEG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9680" y="1122120"/>
            <a:ext cx="78343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ENTE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CIVIL ESPAÑOL: FAMILIA Y DERECHO SUCES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ROMANO: PROPIEDAD: TÍTULO Y MO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ALEMÁN: POSESIÓN INSCRITA DE LOS INMUE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FRANCÉS: CONTRATO Y OBLIG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7200" y="38088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000" y="1120320"/>
            <a:ext cx="776124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 PRELIMINAR: TEORÍA DE LA LEY Y DEFINI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: DE LAS PERSONAS: EXISTENCIA DE LAS PERSONAS, MATRIMONIO, FILI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I: DE LOS BIENES, Y DE SU DOMINIO, POSESIÓN, USO Y GOCE: DERECHOS REALES. DERECHO REAL DE HERENCIA (LIBRO III), DERECHO DE PRENDA E HIPOTECA (LIBRO IV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38088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II: DE LA SUCESIÓN POR CAUSA DE MUERTE, Y DE LAS DONACIONES ENTRE V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O IV: DE LAS OBLIGACIONES EN GENERAL Y DE LOS CONTRA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ÍCULO FINAL: VIGENCIA DEL 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ÍTULOS/PÁRRAFOS/ARTÍCULOS/INCI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57200" y="38088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CÓDIGO CIVIL CHI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PRINCIPIOS DEL CC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NOMÍA DE LA VOLUNT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ENA 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RIQUECIMIENTO SIN CA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2:26:16Z</dcterms:created>
  <dc:creator>PwC</dc:creator>
  <dc:description/>
  <dc:language>en-US</dc:language>
  <cp:lastModifiedBy>Astrid</cp:lastModifiedBy>
  <dcterms:modified xsi:type="dcterms:W3CDTF">2011-11-17T01:50:02Z</dcterms:modified>
  <cp:revision>7</cp:revision>
  <dc:subject/>
  <dc:title>CÓDIGO Y CODIFICACIÓN</dc:title>
</cp:coreProperties>
</file>