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AB24-368A-47C5-9DB9-2A93022E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D8A-7CBC-456A-A373-EF8D9A1C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8DF5-C005-4CDC-A4E6-C6D615F0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3A76-61DD-45ED-8E11-0F5B6E75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DCFC-30D7-454D-9B2E-20F0D5A3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236-6705-4FEE-B400-03007D78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352C-437D-4D32-9310-DA94EE96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C099-91DA-45C7-991B-72D7BD3A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B0F-DEC4-402C-A756-4E06BFF9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0DE5-E21F-469C-8C0B-7205BA6D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0A02-CB1B-4716-8CA9-29B45C97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CE6B-E690-4D02-A247-3DF0E214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3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7209-C459-46DD-AFF3-76D43FCA18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CÓDIGO Y CODIFICA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ÓDI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NACIÓN SISTEMÉTICA DE LEYES QUE ABARCA VARIAS MATERIAS E INSTITUCIONES JURÍDICAS EN FORMA ARMÓN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COPILACIÓN LE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ECCIÓN LEYES AGRUPADAS POR ORDEN CRONOLÓGICO O MATERIAS. CADA LEY CONSERVA INDIVIDUA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PARALELO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ÓDI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NUE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HERENCIA INTER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NACIÓN LÓGICA, SISTEMÁTICA Y COHER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100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COPI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L JURÍDICO PREEXIST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BLES NORMAS CONTRADICTOR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NACIÓN CRONOLÓGICA O POR MATER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PROCESO DE CODIFICA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/XI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ENTES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USNATURALISMO RACIONALISTA E ILUSTRACIÓN/DERECHO ROMANO/INFLUENCIA POSITIVISTA/LATINOAMÉRICA: IDEALES DE INDEPEND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DIFICACIÓN: CONSTITUCIÓN Y LEYES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CÓDIGO CIVIL CHILENO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0976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R: ANDRÉS BE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IOS PROYECTOS: 1841-1845/1846-1847/1853/18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ULGACIÓN: 14 DE DICIEMBRE, 18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GENCIA: 1 ENERO 1857 (PERÍODO VACANCIA LEG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09680" y="1122120"/>
            <a:ext cx="78343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ENTE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CIVIL ESPAÑOL: FAMILIA Y DERECHO SUCESO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ROMANO: PROPIEDAD: TÍTULO Y MO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ALEMÁN: POSESIÓN INSCRITA DE LO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FRANCÉS: CONTRATO Y OBLIG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57200" y="380880"/>
            <a:ext cx="8229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CÓDIGO CIVIL CHIL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000" y="1120320"/>
            <a:ext cx="776124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ÍTULO PRELIMINAR: TEORÍA DE LA LEY Y DEFINI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O I: DE LAS PERSONAS: EXISTENCIA DE LAS PERSONAS, MATRIMONIO, FILI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O II: DE LOS BIENES, Y DE SU DOMINIO, POSESIÓN, USO Y GOCE: DERECHOS REALES. DERECHO REAL DE HERENCIA (LIBRO III), DERECHO DE PRENDA E HIPOTECA (LIBRO IV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57200" y="380880"/>
            <a:ext cx="8229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CÓDIGO CIVIL CHIL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O III: DE LA SUCESIÓN POR CAUSA DE MUERTE, Y DE LAS DONACIONES ENTRE V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O IV: DE LAS OBLIGACIONES EN GENERAL Y DE LOS CONTRA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ÍCULO FINAL: VIGENCIA DEL C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ÍTULOS/PÁRRAFOS/ARTÍCULOS/INCI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57200" y="380880"/>
            <a:ext cx="8229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CÓDIGO CIVIL CHIL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PRINCIPIOS DEL CC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NOMÍA DE LA VOLUNT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ENA 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RIQUECIMIENTO SIN CA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12:26:16Z</dcterms:created>
  <dc:creator>PwC</dc:creator>
  <dc:description/>
  <dc:language>en-US</dc:language>
  <cp:lastModifiedBy>Astrid</cp:lastModifiedBy>
  <dcterms:modified xsi:type="dcterms:W3CDTF">2011-11-17T01:50:02Z</dcterms:modified>
  <cp:revision>7</cp:revision>
  <dc:subject/>
  <dc:title>CÓDIGO Y CODIFICACIÓN</dc:title>
</cp:coreProperties>
</file>