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58F-A532-441B-BC8B-B04C12D0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D96-4E5C-4380-8A4D-9B83E36C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FD0-8C67-4553-9C49-77B75697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AAE-D669-480A-90DA-EA5C2FCC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B8F-DC5C-4C94-8800-F631826D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E82-E734-47E8-B81D-325C959F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EC7-D70A-47FC-A0DE-D1ADF52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7AD-0055-4C2E-AEB7-53E77E97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6E0-EE0B-4C76-A3DF-D7E4A749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24C-D7A4-450D-AD8A-85E75E32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4EF-2AA9-4068-A0C2-4BA8D0FD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7A3-15AA-42C1-9325-6CCE5F22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1BFA-FE25-4AC1-9DD2-213714870F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Y CODIFICA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ÓDI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NACIÓN SISTEMÉTICA DE LEYES QUE ABARCA VARIAS MATERIAS E INSTITUCIONES JURÍDICAS EN FORMA ARMÓ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COPILACIÓN LE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ECCIÓN LEYES AGRUPADAS POR ORDEN CRONOLÓGICO O MATERIAS. CADA LEY CONSERVA INDIVIDU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PARALEL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ÓDI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NUE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HERENCIA INT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NACIÓN LÓGICA, SISTEMÁTICA Y COHER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100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COPI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 JURÍDICO PREEXIS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BLES NORMAS CONTRADICTO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NACIÓN CRONOLÓGICA O POR MATE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PROCESO DE CODIFICA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/X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ENTES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USNATURALISMO RACIONALISTA E ILUSTRACIÓN/DERECHO ROMANO/INFLUENCIA POSITIVISTA/LATINOAMÉRICA: IDEALES DE INDEPEND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DIFICACIÓN: CONSTITUCIÓN Y LEYE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CIVIL CHILEN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0976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R: ANDRÉS BE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OS PROYECTOS: 1841-1845/1846-1847/1853/18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ULGACIÓN: 14 DE DICIEMBRE, 18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GENCIA: 1 ENERO 1857 (PERÍODO VACANCIA LEG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09680" y="1122120"/>
            <a:ext cx="78343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ENTE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CIVIL ESPAÑOL: FAMILIA Y DERECHO SUCES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ROMANO: PROPIEDAD: TÍTULO Y MO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ALEMÁN: POSESIÓN INSCRITA DE LO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FRANCÉS: CONTRATO Y OBLIG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7200" y="38088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CIVIL CHI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000" y="1120320"/>
            <a:ext cx="776124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PRELIMINAR: TEORÍA DE LA LEY Y DEFINI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O I: DE LAS PERSONAS: EXISTENCIA DE LAS PERSONAS, MATRIMONIO, FILI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O II: DE LOS BIENES, Y DE SU DOMINIO, POSESIÓN, USO Y GOCE: DERECHOS REALES. DERECHO REAL DE HERENCIA (LIBRO III), DERECHO DE PRENDA E HIPOTECA (LIBRO I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7200" y="38088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CIVIL CHI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O III: DE LA SUCESIÓN POR CAUSA DE MUERTE, Y DE LAS DONACIONES ENTRE V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O IV: DE LAS OBLIGACIONES EN GENERAL Y DE LOS CONTRA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ÍCULO FINAL: VIGENCIA DEL 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S/PÁRRAFOS/ARTÍCULOS/INCI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57200" y="38088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CIVIL CHI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PRINCIPIOS DEL CC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NOMÍA DE LA VOLUNT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ENA 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RIQUECIMIENTO SIN CA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2:26:16Z</dcterms:created>
  <dc:creator>PwC</dc:creator>
  <dc:description/>
  <dc:language>en-US</dc:language>
  <cp:lastModifiedBy>Astrid</cp:lastModifiedBy>
  <dcterms:modified xsi:type="dcterms:W3CDTF">2011-11-17T01:50:02Z</dcterms:modified>
  <cp:revision>7</cp:revision>
  <dc:subject/>
  <dc:title>CÓDIGO Y CODIFICACIÓN</dc:title>
</cp:coreProperties>
</file>