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0F4-1DE0-44DE-B187-4C16FD6F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D40-2171-4BC4-8397-4C42D5DA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32B-7161-4CF4-B581-10381D7B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AF3-C9B8-424C-9F6B-B9E0D56D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50C5-D004-49F6-868F-FF91D9C1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BAA9-3EEE-43DD-A135-9202FDA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E000-F6AF-4FF9-B8E2-C21DA592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5241-088C-4ACE-9A8D-F71D6303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5648-B994-47D8-87F9-9DF99639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0148-AB6F-4C89-9321-A0F04B97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8BE5-6D66-4BEF-93A0-5701D44D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D75-720F-4488-BD08-D2034224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3248-A840-4FE9-B93C-79A2759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2132-99BA-416A-9DE4-2842ECE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938F-C4EA-49E2-8FBF-E019F63E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8CEC-1DCB-486C-A9D7-3CC22527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F9C0-859D-4995-AF85-CC882142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4E942-79B5-4AA5-8395-4E45811B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1D19E-BD94-40E2-B20B-0E744814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29C06-C9F5-4513-91D5-D0AD4B12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1700C-07EC-4674-80BB-A97A3218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7003A-945B-4C72-97B5-671FE95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AEB-9407-4D81-95D3-5E70DA8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3E15D-5701-428D-AB8E-7A43B855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B1ED6-215A-4B67-AC10-0DE2A7B3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86FDD-FA97-4424-91A4-70BB27F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2844D-060A-420B-BBE3-89B0D5B5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1B696-2783-42CF-AD57-5C1FF1D2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2AD90-69D1-44E1-A525-C2FE7FB4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DDD54-3D02-4B0E-A1C2-83C9A812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E4EA-21AF-46FA-9410-F9C0FFE8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B2A0-8704-4F84-B2FB-6325B05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6F756-A8DA-4D5C-BE8C-1E8D0273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E20-DDFC-42F2-B35B-41F25101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D74F4-94ED-46D0-8A70-4FE1424C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1DC39-7079-4962-A377-CB6F6524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866E-46A2-4B5B-B838-7B1D4E91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7F73-17F7-4E76-804C-D8FA48A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9577-AA63-4557-A8D9-203E117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5270-41DF-4238-9EBF-048DC06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BD7E-6BBF-4155-88AA-79F0CCA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A64F-57E1-40F3-8DD7-2B44C9A3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208F-D0AC-4C76-AD25-FE90F20E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E5D8D-F6F6-48A4-A910-0AD2039C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6D7-0241-43EA-BFB7-EA1D902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C6272-1B18-4943-BF2A-9F7F0D7D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80EDF-FAA6-4805-A690-20DE8F8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D10EB-424B-4E82-BAA6-8C291135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52F4A-421B-40F8-9513-B70C0A8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A2DDF-6E04-4110-87F0-1A5ABABF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4135A-D8BA-465F-AB33-683EE41A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CE493-41E2-455B-83F2-34045AE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F612C-6F49-43D2-B36D-5E9F94B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05A98-E0A8-40EA-9FEC-B74B696F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C376E-677E-40CE-B367-E9B4048F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F1E-32F6-4B6F-8501-70FDEE77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A38CE-758C-4156-BF95-6CF6E5D4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7DD71-3423-45AF-A5F0-F4A847EF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89B31-66B8-4C86-B299-C878C7BE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9F5A3-8CBD-4C2E-B04E-972B10DD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DFB78-2D12-4F0A-8AAB-DE0709B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1AD21-5B56-45D8-BCFC-D23D8367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BEB0B-8DAF-489F-AB07-67A71E5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81A3C-6449-49B7-A769-873399C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77085-FA2D-4904-ABE3-EAC60FC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DEA19-A2A9-4F6A-A81D-7D542385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008-FC08-44FF-A9A9-E3EEC94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6D96D-D777-4115-B5C3-3D3AFA71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84062-8884-4E24-9810-C244E687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77247-F826-4138-8067-BC806B45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58BEE-4DD7-4D65-B193-A6FB4848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43AC2-DF62-43C6-97B6-EA9FE7CA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1C54A-162F-4623-A3A2-0C12ECD1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78044-2AE9-4E58-8587-9ABE1C66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22D61-ADEB-487B-80AF-21D532F5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C4DE3-FB74-40E6-8941-D23786B4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91FA6-F4BD-4C8A-BD97-A990B8F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584-FD3B-45B6-9030-827BEC5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542B4-84CE-4B2E-AF07-A10657B5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DAD67-4EA4-4772-8E42-E3172A8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26A49-A070-4ECD-AF25-86DF68D8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8D6E9-5533-4E0C-BE52-7E24968D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8474F0-BB7D-40B9-B172-4DC45895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6BD-0E56-4414-A802-860645E5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D3CC7-EA6B-4842-86A1-49C1E9B76891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16280-3047-43F2-8E5D-C584CCA15E08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á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cd4b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á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fe4d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á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fe4d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0f2e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cd4b6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c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0f2e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c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c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cd4b6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c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c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á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cd4b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91E53-6C30-4C7F-870E-0BC43F55DD86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255F3-D1F4-4CA6-979D-C82429AB59CC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5F7BC-D187-4CDC-9826-BA72017EFDCE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7CD1F-D461-45DF-BED1-90C0EBDC2E40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á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cd4b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á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fe4d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á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fe4d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á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0f2e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c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cd4b6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c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0f2e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c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c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cd4b6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á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cd4b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c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C5222-A0FF-4449-A31E-3AC4A64AED22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4B2CB-D5D0-4F36-BB19-8BA51970D00E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75176-44A8-4EDD-B26F-B44C659CA4E1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8CA09-D825-4D2E-8AE2-A157247F317C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c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c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c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c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á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c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64AB4-52B1-4E65-973E-D0938C6E2EB5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8F523-6A02-44AA-B987-99428C314B44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c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c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á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c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c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c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5C1AF-2D97-4CB0-8CD8-7930B79FD30D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EBBAD-7306-45D4-BDA8-4AB068595ACF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6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5613"/>
                </a:solidFill>
                <a:latin typeface="Century Schoolbook"/>
              </a:rPr>
              <a:t>PRESENTACIÓN</a:t>
            </a:r>
            <a:r>
              <a:rPr b="1" lang="en-US" sz="1000" spc="-1" strike="noStrike">
                <a:solidFill>
                  <a:srgbClr val="8e1411"/>
                </a:solidFill>
                <a:latin typeface="Century Schoolbook"/>
              </a:rPr>
              <a:t>:</a:t>
            </a:r>
            <a:endParaRPr b="0" lang="en-US" sz="1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5613"/>
                </a:solidFill>
                <a:latin typeface="Century Schoolbook"/>
              </a:rPr>
              <a:t>Organización del Trabajo en Terre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5613"/>
                </a:solidFill>
                <a:latin typeface="Century Schoolbook"/>
              </a:rPr>
              <a:t>1º Semestre del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Imagen 3" descr=""/>
          <p:cNvPicPr/>
          <p:nvPr/>
        </p:nvPicPr>
        <p:blipFill>
          <a:blip r:embed="rId1"/>
          <a:stretch/>
        </p:blipFill>
        <p:spPr>
          <a:xfrm>
            <a:off x="3897360" y="3063960"/>
            <a:ext cx="1349280" cy="730080"/>
          </a:xfrm>
          <a:prstGeom prst="rect">
            <a:avLst/>
          </a:prstGeom>
          <a:ln w="0">
            <a:noFill/>
          </a:ln>
        </p:spPr>
      </p:pic>
      <p:pic>
        <p:nvPicPr>
          <p:cNvPr id="354" name="Imagen 4" descr=""/>
          <p:cNvPicPr/>
          <p:nvPr/>
        </p:nvPicPr>
        <p:blipFill>
          <a:blip r:embed="rId2"/>
          <a:stretch/>
        </p:blipFill>
        <p:spPr>
          <a:xfrm>
            <a:off x="2700360" y="1371600"/>
            <a:ext cx="54529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ACTIVIDADES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PLAZAS CIUDADANAS: En ellas los estudiantes responderán dudas directas de los consultantes y las ingresaran a un sistema de atención. La persona recibirá una respuesta de manera inmediata, será citada para una respuesta posterior o recibirá una respuesta por correo dependiendo de la complejidad de la materia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CHARLAS CIUDADANAS: En ellas los estudiantes harán una exposición oral a la comunidad respecto de los temas fijados en el programa de la cátedra. Posteriormente a la presentación podrán responder dudas directas del público asistente. Los asistentes deben ser registrados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INVESTIGACIÓN EN TERRENO: Según la capacitación hecha en clases, los estudiantes recopilarán datos en terreno para la elaboración de informes de diagnostico. La investigación o recopilación de datos en terreno se hará a partir de la segunda visita en terreno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HORARIO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En el primer viaje el curso trabajara en conjunto sin separarse en grupo</a:t>
            </a:r>
            <a:r>
              <a:rPr b="0" lang="es-ES_tradnl" sz="1200" spc="-1" strike="noStrike">
                <a:solidFill>
                  <a:srgbClr val="000000"/>
                </a:solidFill>
                <a:latin typeface="Century Schoolboo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762120" y="2209680"/>
          <a:ext cx="7696080" cy="409284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E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IER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ÁB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MI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ñ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.00-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za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za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 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:00-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mañ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mañ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reso a Santi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a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:00- 5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rlas ciudad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puesta de consul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rlas ciudad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puesta de consul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:00- 1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iaje a Lolol y Pared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raslado de ciu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ta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m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ATENCIÓN DIRECTA AL PÚBLICO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pic>
        <p:nvPicPr>
          <p:cNvPr id="361" name="Marcador de contenido 4" descr=""/>
          <p:cNvPicPr/>
          <p:nvPr/>
        </p:nvPicPr>
        <p:blipFill>
          <a:blip r:embed="rId1"/>
          <a:stretch/>
        </p:blipFill>
        <p:spPr>
          <a:xfrm>
            <a:off x="390600" y="1542960"/>
            <a:ext cx="75470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HOJAS DE ATENCIÓN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tenido de la fich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Fecha/Lugar de la consulta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Nombre del Voluntario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Nombre consultante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UT consultante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Domicilio consult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ateria de la consul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elación entrevis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espuesta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CARNET DE ATENCIÓN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2286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 todos los consultantes debe hacerse entrega de un carnet de atención donde se señalen los datos del estudiante que los atendió y los datos para recontactarse con él o informarle de los avances del proceso de regularización de pequeña propiedad raíz o postulación a subsidios SERVI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REQUERIMIENTOS PARA EL VIAJE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l equipo docente de enfermedades de las cuales padezca el estudia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l equipo docente de remedios que sea necesario tomar durante el vi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ar el equipo docente dos teléfonos de contacto en caso de emergenc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 las familias del viaje y entregar los teléfonos del equipo doc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nformaciones anteriores se levantará un acta que será firmada por los estudian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525744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0000"/>
                </a:solidFill>
                <a:latin typeface="Century Schoolbook"/>
              </a:rPr>
              <a:t>¡ BUENA SUERTE EN TERRENO!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pic>
        <p:nvPicPr>
          <p:cNvPr id="369" name="Marcador de contenido 9" descr="DERECHO PIENSA Logo TIFF.tiff"/>
          <p:cNvPicPr/>
          <p:nvPr/>
        </p:nvPicPr>
        <p:blipFill>
          <a:blip r:embed="rId1"/>
          <a:stretch/>
        </p:blipFill>
        <p:spPr>
          <a:xfrm>
            <a:off x="2666880" y="990720"/>
            <a:ext cx="58579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9:49:47Z</dcterms:created>
  <dc:creator>Daniela Ejsmentewicz</dc:creator>
  <dc:description/>
  <dc:language>en-US</dc:language>
  <cp:lastModifiedBy>Daniela Ejsmentewicz</cp:lastModifiedBy>
  <dcterms:modified xsi:type="dcterms:W3CDTF">2011-03-10T20:19:09Z</dcterms:modified>
  <cp:revision>12</cp:revision>
  <dc:subject/>
  <dc:title>PRESENTACIÓN:</dc:title>
</cp:coreProperties>
</file>