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5D5-5111-4F07-8AED-C878322E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782-ED4E-4024-9E87-10D9963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F66-9E10-4F86-B821-250D4FBF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AE3-4738-4DC1-8FFF-80788551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1509-126D-49E5-B8E2-03DBB0F9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C18A-5A88-45AA-8134-CD3BDF8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452-90C3-4466-A8AB-0B5207D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985F-951F-45F4-8B2E-FC1A69CE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F419-4E81-4C6B-8690-73A3D42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FE36-9155-4199-896F-C2FAD702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79CA-00B9-4967-A000-E46A208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2DA-C6B7-48AB-8798-840C761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55E0-00D3-429A-8826-5DE6719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1A68-6BDE-435F-AFD9-640F03F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95FE-6C4A-4188-8DBD-6435931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1B1C-7E89-49B3-BC92-9DF416E7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CC7B-19CF-4EF3-B41C-0ED13B90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7E84B-9707-470A-988C-73B64293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92367-BA29-4712-9893-D400EF2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5F883-569D-4C3F-9043-7D415CDF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960BE-7BF7-4AB9-B63E-615CEDF3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D1AED-FD51-4394-A34A-DB13E1B0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92D-0D5E-41BF-87D7-5B25409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082EE-6230-4EFE-8C6E-6096B88B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02C2E-14D3-45E6-8589-7104B50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306E8-AAAA-4D99-BF28-DF0DBBF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1F1F0-3576-4A0C-846A-D850B27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7AE10-21C2-483E-BED3-67A05BA5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5DD0A-1649-4BE5-9667-9DA7D30B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67E57-5C8C-4802-B543-A5DD3E25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06E5F-AFD9-4E3B-8EC9-83F354F1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7055-58D7-40CE-B3B9-4A67E49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E82F-936A-446B-B123-64D77B3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5BA-9C01-4DE7-A6E6-5E19CE9C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58C0-C944-4414-A62C-4C3885D4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F218-772C-455B-B3E7-7B2136B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8A7C-F4DE-4A5C-9AEC-AE6CCA41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6B5C0-9259-4A31-AC83-27BF79B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CA31-C88A-4EAE-86EA-7DD0490B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7C2F-6BD8-451B-B787-5A3CBB2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3531-A85D-4BEC-8C82-68E9E1C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C43A-CF3C-4F03-A28D-62D9E694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E5EA0-D784-4509-911B-12262638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1F5BF-9504-407A-82AC-57CD397D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1A4-906E-4319-AFEE-43A0A56C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524A5-D6AF-4432-A2EA-9BCAED21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BDD7B-1B65-4F49-A7D3-E0962481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F35CE-7D15-4D3B-AA5E-F5D9299E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D2C66-CD11-4287-A3DC-AD93B27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1EF7C-4E44-4A19-8065-7969C4C2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3B900-5FAF-4937-82FF-72A1BF5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36514-7007-40C4-BD4D-BAA1E66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C5F48-A29B-448C-8572-59C6A52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76C3B-F1B3-4952-95BF-A073047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FBA70-82AD-45FF-8801-FCA42E45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5AA-C00E-445D-9B50-470234F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30821-8782-48BE-B98C-0ABEAD17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C58D2-170D-493E-9F25-ABEF0CBD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CA21B-B4A8-43FE-A6DC-28B5520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18F2E-4122-4095-83DD-5F06F3F2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3222E-5EEF-4F58-8E38-6CEBCFC6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833DA-2720-4E77-B23C-DEBE648E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F12FC-497B-4977-ADB7-0B6991D7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1E09D-639B-4F90-B46F-D51768F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4D043-9C18-414D-8C5E-4E7F384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2A9B2-3E93-4DE7-8E58-7BD15CD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509-3D00-4645-AEA6-D0D334F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D8CB1-5D36-46C7-99B1-6D4F36FD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46478-EB27-4376-882B-3257841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EB3B5-BC3C-49FA-9EDA-8C89300C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70571-C186-467A-B651-D43D43EF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D3D27-DBFC-4D88-B916-F12E24A1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C422A-6A51-4DA5-BA5F-1C7E99D0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253B0-97F9-4592-9F75-81E1A7F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889115-7CD8-440D-8781-4F182EB6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E2D49-FB4F-43C5-A3BA-878F165A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93AA3-6929-4012-8CFE-D0E7B91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788-2A78-45D8-96FC-E8E40CF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3AF6D-9EBD-4216-B911-7CDDB5B0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6FDEF-30A3-4B13-AF8E-04FF844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7D6A4-EBEA-4960-BE78-DBFDCC1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F8F64-BA37-4137-A1D2-26C53019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8EE80-D515-4017-B9F5-DD108CD4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749-197F-45A3-90FC-154EC7C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66A5B-7DDB-498E-B8FB-1971D9585EF1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8D902-C8CC-43A0-9413-9507876134B6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á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cd4b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á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fe4d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á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fe4d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2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cd4b6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2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c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c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cd4b6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c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c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á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cd4b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B4671-DCBF-4A73-81EE-8E4BE035FDA3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51FFE-BC84-44A9-8095-CEB8D0713CCF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8981B-ED7C-4BE2-8090-2EC4560DE0AE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997CA-6F29-4500-8C9E-E6F86657676D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á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cd4b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á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fe4d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fe4d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2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c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cd4b6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c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2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c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c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cd4b6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cd4b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c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944B4-7575-48AB-B6A1-6694F31277F1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5CF27-588A-4241-8B3F-4B7A1D8B167E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EBB2E-0DA8-4693-A39D-6EB5910673DF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D8BBF-DA6C-4C9B-B93D-3F030F567E55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c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c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c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c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á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c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7EC14-56EA-4218-A73E-D052C82FCA1C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F2E27-B933-4A5F-AC95-54C344107DCE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c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c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á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c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c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c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9D89A-03FD-4FC0-A05E-FA4953E9FF59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1EA55-D238-4E82-8FB7-901590E3148F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6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5613"/>
                </a:solidFill>
                <a:latin typeface="Century Schoolbook"/>
              </a:rPr>
              <a:t>PRESENTACIÓN</a:t>
            </a:r>
            <a:r>
              <a:rPr b="1" lang="en-US" sz="1000" spc="-1" strike="noStrike">
                <a:solidFill>
                  <a:srgbClr val="8e1411"/>
                </a:solidFill>
                <a:latin typeface="Century Schoolbook"/>
              </a:rPr>
              <a:t>:</a:t>
            </a:r>
            <a:endParaRPr b="0" lang="en-US" sz="1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613"/>
                </a:solidFill>
                <a:latin typeface="Century Schoolbook"/>
              </a:rPr>
              <a:t>Organización del Trabajo en Terre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613"/>
                </a:solidFill>
                <a:latin typeface="Century Schoolbook"/>
              </a:rPr>
              <a:t>1º Semestre del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Imagen 3" descr=""/>
          <p:cNvPicPr/>
          <p:nvPr/>
        </p:nvPicPr>
        <p:blipFill>
          <a:blip r:embed="rId1"/>
          <a:stretch/>
        </p:blipFill>
        <p:spPr>
          <a:xfrm>
            <a:off x="3897360" y="3063960"/>
            <a:ext cx="1349280" cy="730080"/>
          </a:xfrm>
          <a:prstGeom prst="rect">
            <a:avLst/>
          </a:prstGeom>
          <a:ln w="0">
            <a:noFill/>
          </a:ln>
        </p:spPr>
      </p:pic>
      <p:pic>
        <p:nvPicPr>
          <p:cNvPr id="354" name="Imagen 4" descr=""/>
          <p:cNvPicPr/>
          <p:nvPr/>
        </p:nvPicPr>
        <p:blipFill>
          <a:blip r:embed="rId2"/>
          <a:stretch/>
        </p:blipFill>
        <p:spPr>
          <a:xfrm>
            <a:off x="2700360" y="1371600"/>
            <a:ext cx="54529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ACTIVIDADES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PLAZAS CIUDADANAS: En ellas los estudiantes responderán dudas directas de los consultantes y las ingresaran a un sistema de atención. La persona recibirá una respuesta de manera inmediata, será citada para una respuesta posterior o recibirá una respuesta por correo dependiendo de la complejidad de la materi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CHARLAS CIUDADANAS: En ellas los estudiantes harán una exposición oral a la comunidad respecto de los temas fijados en el programa de la cátedra. Posteriormente a la presentación podrán responder dudas directas del público asistente. Los asistentes deben ser registrados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INVESTIGACIÓN EN TERRENO: Según la capacitación hecha en clases, los estudiantes recopilarán datos en terreno para la elaboración de informes de diagnostico. La investigación o recopilación de datos en terreno se hará a partir de la segunda visita en terren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HORARIO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En el primer viaje el curso trabajara en conjunto sin separarse en grupo</a:t>
            </a:r>
            <a:r>
              <a:rPr b="0" lang="es-ES_tradnl" sz="1200" spc="-1" strike="noStrike">
                <a:solidFill>
                  <a:srgbClr val="000000"/>
                </a:solidFill>
                <a:latin typeface="Century Schoolboo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762120" y="2209680"/>
          <a:ext cx="7696080" cy="409284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E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ER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ÁB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MI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ñ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.00-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za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za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:00-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mañ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mañ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reso a Santi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:00- 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las ciudad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puesta de consul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las ciudad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puesta de consul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:00- 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aje a Lolol y Pared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aslado de ciu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ta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m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ATENCIÓN DIRECTA AL PÚBLICO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pic>
        <p:nvPicPr>
          <p:cNvPr id="361" name="Marcador de contenido 4" descr=""/>
          <p:cNvPicPr/>
          <p:nvPr/>
        </p:nvPicPr>
        <p:blipFill>
          <a:blip r:embed="rId1"/>
          <a:stretch/>
        </p:blipFill>
        <p:spPr>
          <a:xfrm>
            <a:off x="390600" y="1542960"/>
            <a:ext cx="75470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HOJAS DE ATENCIÓN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tenido de la fich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Fecha/Lugar de la consulta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Nombre del Voluntario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Nombre consultante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UT consultante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Domicilio consult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ateria de la consul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elación entrevis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espuesta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CARNET DE ATENCIÓN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286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 todos los consultantes debe hacerse entrega de un carnet de atención donde se señalen los datos del estudiante que los atendió y los datos para recontactarse con él o informarle de los avances del proceso de regularización de pequeña propiedad raíz o postulación a subsidios SERVI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REQUERIMIENTOS PARA EL VIAJE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l equipo docente de enfermedades de las cuales padezca el estudi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l equipo docente de remedios que sea necesario tomar durante el vi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ar el equipo docente dos teléfonos de contacto en caso de emergen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 las familias del viaje y entregar los teléfonos del equipo doc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nformaciones anteriores se levantará un acta que será firmada por los estudia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525744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00"/>
                </a:solidFill>
                <a:latin typeface="Century Schoolbook"/>
              </a:rPr>
              <a:t>¡ BUENA SUERTE EN TERRENO!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pic>
        <p:nvPicPr>
          <p:cNvPr id="369" name="Marcador de contenido 9" descr="DERECHO PIENSA Logo TIFF.tiff"/>
          <p:cNvPicPr/>
          <p:nvPr/>
        </p:nvPicPr>
        <p:blipFill>
          <a:blip r:embed="rId1"/>
          <a:stretch/>
        </p:blipFill>
        <p:spPr>
          <a:xfrm>
            <a:off x="2666880" y="990720"/>
            <a:ext cx="58579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9:49:47Z</dcterms:created>
  <dc:creator>Daniela Ejsmentewicz</dc:creator>
  <dc:description/>
  <dc:language>en-US</dc:language>
  <cp:lastModifiedBy>Daniela Ejsmentewicz</cp:lastModifiedBy>
  <dcterms:modified xsi:type="dcterms:W3CDTF">2011-03-10T20:19:09Z</dcterms:modified>
  <cp:revision>12</cp:revision>
  <dc:subject/>
  <dc:title>PRESENTACIÓN:</dc:title>
</cp:coreProperties>
</file>