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70D4-D8F4-4E2E-98EA-7286EE182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ADE9-8F76-4FC2-9EFC-9BB4101CF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1B79-6BED-4316-86AF-B09854411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1B11-386D-439D-BAB1-E1872EF72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44895-6075-463C-8B0A-4ACFACDC9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D6D28-CF0D-4A13-93DA-4CF2BF3D7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02744-4DCC-400D-831E-F60883DEE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C921F-3A36-4329-93E1-15FB2BB75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C0C29-BE4F-4CAF-8DBB-1B6942912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4C1C2-C992-4E85-AEF7-D31C3722A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284DE-CD09-4C27-8309-C5E3C01E2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6CF6-B413-4C8D-9F0E-8FABAC848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BA27A-9E64-4792-8DFE-359768A16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167EB-9B4F-41C1-BD04-0C712B9DB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7C55A-442A-408F-9361-A1EF16C56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47E7E-FE99-4C0A-A6E7-4AB99E6BF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46F49-BDCC-45FF-9A21-A4F5B1CFD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932C-1D29-474E-A756-16A7166E1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AA5D-5C89-4917-BC0D-DF36D7E66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F1E3-221A-4A7F-8D17-6CBE9DF1E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77F4-C16E-4BA2-8802-264E15CD3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FF69-2B48-416B-946B-C13B7EAB9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41BC-9E77-4217-9815-E3F85E17C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6672-3E00-43D1-A31B-352FD81F0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0" y="843120"/>
            <a:ext cx="2897280" cy="60148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linicas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B14B7-E0E0-45CE-880C-FC246E7D039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rc 3"/>
          <p:cNvSpPr/>
          <p:nvPr/>
        </p:nvSpPr>
        <p:spPr>
          <a:xfrm>
            <a:off x="0" y="843120"/>
            <a:ext cx="2897280" cy="60148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linicas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74E5F-4F49-48E3-BF8A-F33DB5E00CE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Narrow"/>
              </a:rPr>
              <a:t>Clínicas 1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82880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imer semestre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Object 8"/>
          <p:cNvGraphicFramePr/>
          <p:nvPr/>
        </p:nvGraphicFramePr>
        <p:xfrm>
          <a:off x="1908000" y="404640"/>
          <a:ext cx="743040" cy="11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404640"/>
                    <a:ext cx="743040" cy="11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 Narrow"/>
              </a:rPr>
              <a:t>Departamento de Enseñanza Clínicas del Derecho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191120" y="182880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uestiones administrati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Narrow"/>
              </a:rPr>
              <a:t>Coordinación Visita a Tribunales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191120" y="182880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arlos Gonzal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4 Marcador de pie de página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linicas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9623A-6517-400A-9029-996E76D0771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Narrow"/>
              </a:rPr>
              <a:t>Tarea 1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90560" y="18288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sar todos los casos “in situ” y traer 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ACTUALIZAD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a siguiente inform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Patrocin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Ma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Procedi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Carát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Rit / 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Etapa proce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Est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4 Marcador de pie de página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linicas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55ED2-D2C2-4E65-B23F-64DB1F98C6E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Narrow"/>
              </a:rPr>
              <a:t>Estado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800000"/>
                </a:solidFill>
                <a:latin typeface="Arial"/>
              </a:rPr>
              <a:t>Máximo 50 palab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j1 (28 palabr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udiencia de Juicio fijada el 20/8/2010. Medios de Prueba en la carpeta. Están fijados alimentos provisorios por $150.000 en favor de los hijos, los que se cumplen sin inconveni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j2 (35 palabr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ntencia definitiva apelada por la contraria, quien solicita se enmiende el monto de indemnización por daño moral. Causa para su vista el 25/8/2010 en 15º lugar de la Octava Sala. Relator es don Fernando Sarie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Narrow"/>
              </a:rPr>
              <a:t>Próxima clase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191120" y="182880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iércoles a las </a:t>
            </a:r>
            <a:r>
              <a:rPr b="0" lang="es-ES" sz="4000" spc="-1" strike="noStrike">
                <a:solidFill>
                  <a:srgbClr val="800000"/>
                </a:solidFill>
                <a:latin typeface="Arial"/>
              </a:rPr>
              <a:t>16: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4 Marcador de pie de página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linicas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C7BA6-1B51-4F62-902F-72C2454EA8E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Narrow"/>
              </a:rPr>
              <a:t>Equipo docente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Boris Muñoz 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aniela Ejsmentewicz 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elipe Lizana 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arlos González 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4 Marcador de pie de página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linicas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60892-FCE5-4C5A-9D34-0CC9EFF3D34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Narrow"/>
              </a:rPr>
              <a:t>Clínicas Jurídicas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étodo clí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bjetivo So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bjetivo Doc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4 Marcador de pie de página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linicas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463D1-36EA-47AD-B51E-22D905704E1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Narrow"/>
              </a:rPr>
              <a:t>Clínicas 1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llo Universidad de Chil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prender a crecer de la experi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4 Marcador de pie de página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linicas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00C46-7B13-4A30-AE01-485A9A24CEB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Narrow"/>
              </a:rPr>
              <a:t>Contenidos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étodo clíni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eoría del ca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crituración Leg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ratoria for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trevi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É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erramientas de Negoci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4 Marcador de pie de página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linicas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F6D0A-911D-460C-AFFB-58D6BB2C960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Narrow"/>
              </a:rPr>
              <a:t>Clases y Asistencia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unes 16:00-17:00: conteni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unes 17:00-18:00: trabajo clínico con carpe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iércoles 16:00-18:00: conten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800000"/>
                </a:solidFill>
                <a:latin typeface="Arial"/>
              </a:rPr>
              <a:t>90% Clases Efectivamente realiz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800000"/>
                </a:solidFill>
                <a:latin typeface="Arial"/>
              </a:rPr>
              <a:t>La lista se pasa al ini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4 Marcador de pie de página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linicas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C5234-9C9A-4328-BA29-0A21B6C0646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Narrow"/>
              </a:rPr>
              <a:t>Evaluaciones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14" name="Organization Chart 7"/>
          <p:cNvGrpSpPr/>
          <p:nvPr/>
        </p:nvGrpSpPr>
        <p:grpSpPr>
          <a:xfrm>
            <a:off x="2808360" y="1941480"/>
            <a:ext cx="6048360" cy="4102920"/>
            <a:chOff x="2808360" y="1941480"/>
            <a:chExt cx="6048360" cy="4102920"/>
          </a:xfrm>
        </p:grpSpPr>
        <p:sp>
          <p:nvSpPr>
            <p:cNvPr id="115" name="AutoShape 6"/>
            <p:cNvSpPr/>
            <p:nvPr/>
          </p:nvSpPr>
          <p:spPr>
            <a:xfrm>
              <a:off x="2808360" y="1941480"/>
              <a:ext cx="6048360" cy="41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6" name="_s2052"/>
            <p:cNvCxnSpPr>
              <a:stCxn id="117" idx="0"/>
              <a:endCxn id="118" idx="2"/>
            </p:cNvCxnSpPr>
            <p:nvPr/>
          </p:nvCxnSpPr>
          <p:spPr>
            <a:xfrm flipV="1" rot="16200000">
              <a:off x="7365600" y="3897360"/>
              <a:ext cx="513360" cy="1728720"/>
            </a:xfrm>
            <a:prstGeom prst="bentConnector3">
              <a:avLst>
                <a:gd name="adj1" fmla="val 2224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9" name="_s2053"/>
            <p:cNvCxnSpPr>
              <a:stCxn id="120" idx="0"/>
              <a:endCxn id="121" idx="2"/>
            </p:cNvCxnSpPr>
            <p:nvPr/>
          </p:nvCxnSpPr>
          <p:spPr>
            <a:xfrm flipV="1" rot="16200000">
              <a:off x="3570480" y="4545720"/>
              <a:ext cx="513360" cy="432360"/>
            </a:xfrm>
            <a:prstGeom prst="bentConnector3">
              <a:avLst>
                <a:gd name="adj1" fmla="val 2224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2" name="_s2054"/>
            <p:cNvCxnSpPr>
              <a:stCxn id="123" idx="0"/>
              <a:endCxn id="118" idx="2"/>
            </p:cNvCxnSpPr>
            <p:nvPr/>
          </p:nvCxnSpPr>
          <p:spPr>
            <a:xfrm flipH="1" flipV="1" rot="5400000">
              <a:off x="6069600" y="4329720"/>
              <a:ext cx="513360" cy="864720"/>
            </a:xfrm>
            <a:prstGeom prst="bentConnector3">
              <a:avLst>
                <a:gd name="adj1" fmla="val 2224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4" name="_s2055"/>
            <p:cNvCxnSpPr>
              <a:stCxn id="125" idx="0"/>
              <a:endCxn id="118" idx="2"/>
            </p:cNvCxnSpPr>
            <p:nvPr/>
          </p:nvCxnSpPr>
          <p:spPr>
            <a:xfrm flipV="1">
              <a:off x="6758280" y="4505400"/>
              <a:ext cx="1440" cy="5133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6" name="_s2056"/>
            <p:cNvCxnSpPr>
              <a:stCxn id="127" idx="0"/>
              <a:endCxn id="118" idx="2"/>
            </p:cNvCxnSpPr>
            <p:nvPr/>
          </p:nvCxnSpPr>
          <p:spPr>
            <a:xfrm flipV="1" rot="16200000">
              <a:off x="6933960" y="4329000"/>
              <a:ext cx="513360" cy="865440"/>
            </a:xfrm>
            <a:prstGeom prst="bentConnector3">
              <a:avLst>
                <a:gd name="adj1" fmla="val 2224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8" name="_s2057"/>
            <p:cNvCxnSpPr>
              <a:stCxn id="129" idx="0"/>
              <a:endCxn id="118" idx="2"/>
            </p:cNvCxnSpPr>
            <p:nvPr/>
          </p:nvCxnSpPr>
          <p:spPr>
            <a:xfrm flipH="1" flipV="1" rot="5400000">
              <a:off x="5637960" y="3898080"/>
              <a:ext cx="513360" cy="1728000"/>
            </a:xfrm>
            <a:prstGeom prst="bentConnector3">
              <a:avLst>
                <a:gd name="adj1" fmla="val 2224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0" name="_s2058"/>
            <p:cNvCxnSpPr>
              <a:stCxn id="131" idx="0"/>
              <a:endCxn id="121" idx="2"/>
            </p:cNvCxnSpPr>
            <p:nvPr/>
          </p:nvCxnSpPr>
          <p:spPr>
            <a:xfrm flipH="1" flipV="1" rot="5400000">
              <a:off x="3138480" y="4545720"/>
              <a:ext cx="513360" cy="432720"/>
            </a:xfrm>
            <a:prstGeom prst="bentConnector3">
              <a:avLst>
                <a:gd name="adj1" fmla="val 2224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2" name="_s2059"/>
            <p:cNvCxnSpPr>
              <a:stCxn id="118" idx="1"/>
              <a:endCxn id="133" idx="2"/>
            </p:cNvCxnSpPr>
            <p:nvPr/>
          </p:nvCxnSpPr>
          <p:spPr>
            <a:xfrm rot="10800000">
              <a:off x="4536360" y="2966400"/>
              <a:ext cx="1851480" cy="1026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4" name="_s2060"/>
            <p:cNvCxnSpPr>
              <a:stCxn id="121" idx="3"/>
              <a:endCxn id="133" idx="2"/>
            </p:cNvCxnSpPr>
            <p:nvPr/>
          </p:nvCxnSpPr>
          <p:spPr>
            <a:xfrm flipV="1">
              <a:off x="3981600" y="2966400"/>
              <a:ext cx="555840" cy="1026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3" name="_s2061"/>
            <p:cNvSpPr/>
            <p:nvPr/>
          </p:nvSpPr>
          <p:spPr>
            <a:xfrm>
              <a:off x="4165920" y="1941480"/>
              <a:ext cx="740520" cy="1025640"/>
            </a:xfrm>
            <a:custGeom>
              <a:avLst/>
              <a:gdLst>
                <a:gd name="textAreaLeft" fmla="*/ 36000 w 740520"/>
                <a:gd name="textAreaRight" fmla="*/ 704520 w 740520"/>
                <a:gd name="textAreaTop" fmla="*/ 36000 h 1025640"/>
                <a:gd name="textAreaBottom" fmla="*/ 989640 h 1025640"/>
              </a:gdLst>
              <a:ahLst/>
              <a:rect l="textAreaLeft" t="textAreaTop" r="textAreaRight" b="textAreaBottom"/>
              <a:pathLst>
                <a:path w="21600" h="29913">
                  <a:moveTo>
                    <a:pt x="3600" y="0"/>
                  </a:moveTo>
                  <a:arcTo wR="3600" hR="3600" stAng="16200000" swAng="-5400000"/>
                  <a:lnTo>
                    <a:pt x="0" y="26313"/>
                  </a:lnTo>
                  <a:arcTo wR="3600" hR="3600" stAng="10800000" swAng="-5400000"/>
                  <a:lnTo>
                    <a:pt x="18000" y="299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Times New Roman"/>
                </a:rPr>
                <a:t>NOTA DE PRESENTAC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Times New Roman"/>
                </a:rPr>
                <a:t>60%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_s2062"/>
            <p:cNvSpPr/>
            <p:nvPr/>
          </p:nvSpPr>
          <p:spPr>
            <a:xfrm>
              <a:off x="3240000" y="3480120"/>
              <a:ext cx="740520" cy="1025640"/>
            </a:xfrm>
            <a:custGeom>
              <a:avLst/>
              <a:gdLst>
                <a:gd name="textAreaLeft" fmla="*/ 36000 w 740520"/>
                <a:gd name="textAreaRight" fmla="*/ 704520 w 740520"/>
                <a:gd name="textAreaTop" fmla="*/ 36000 h 1025640"/>
                <a:gd name="textAreaBottom" fmla="*/ 989640 h 1025640"/>
              </a:gdLst>
              <a:ahLst/>
              <a:rect l="textAreaLeft" t="textAreaTop" r="textAreaRight" b="textAreaBottom"/>
              <a:pathLst>
                <a:path w="21600" h="29913">
                  <a:moveTo>
                    <a:pt x="3600" y="0"/>
                  </a:moveTo>
                  <a:arcTo wR="3600" hR="3600" stAng="16200000" swAng="-5400000"/>
                  <a:lnTo>
                    <a:pt x="0" y="26313"/>
                  </a:lnTo>
                  <a:arcTo wR="3600" hR="3600" stAng="10800000" swAng="-5400000"/>
                  <a:lnTo>
                    <a:pt x="18000" y="299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Times New Roman"/>
                </a:rPr>
                <a:t>GESTION CLINIC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Times New Roman"/>
                </a:rPr>
                <a:t>50%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_s2063"/>
            <p:cNvSpPr/>
            <p:nvPr/>
          </p:nvSpPr>
          <p:spPr>
            <a:xfrm>
              <a:off x="6387840" y="3480120"/>
              <a:ext cx="740520" cy="1025640"/>
            </a:xfrm>
            <a:custGeom>
              <a:avLst/>
              <a:gdLst>
                <a:gd name="textAreaLeft" fmla="*/ 36000 w 740520"/>
                <a:gd name="textAreaRight" fmla="*/ 704520 w 740520"/>
                <a:gd name="textAreaTop" fmla="*/ 36000 h 1025640"/>
                <a:gd name="textAreaBottom" fmla="*/ 989640 h 1025640"/>
              </a:gdLst>
              <a:ahLst/>
              <a:rect l="textAreaLeft" t="textAreaTop" r="textAreaRight" b="textAreaBottom"/>
              <a:pathLst>
                <a:path w="21600" h="29913">
                  <a:moveTo>
                    <a:pt x="3600" y="0"/>
                  </a:moveTo>
                  <a:arcTo wR="3600" hR="3600" stAng="16200000" swAng="-5400000"/>
                  <a:lnTo>
                    <a:pt x="0" y="26313"/>
                  </a:lnTo>
                  <a:arcTo wR="3600" hR="3600" stAng="10800000" swAng="-5400000"/>
                  <a:lnTo>
                    <a:pt x="18000" y="299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Times New Roman"/>
                </a:rPr>
                <a:t>MODULOS DE DESTREZ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Times New Roman"/>
                </a:rPr>
                <a:t>50%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_s2064"/>
            <p:cNvSpPr/>
            <p:nvPr/>
          </p:nvSpPr>
          <p:spPr>
            <a:xfrm>
              <a:off x="2808360" y="5018760"/>
              <a:ext cx="740520" cy="1025640"/>
            </a:xfrm>
            <a:custGeom>
              <a:avLst/>
              <a:gdLst>
                <a:gd name="textAreaLeft" fmla="*/ 36000 w 740520"/>
                <a:gd name="textAreaRight" fmla="*/ 704520 w 740520"/>
                <a:gd name="textAreaTop" fmla="*/ 36000 h 1025640"/>
                <a:gd name="textAreaBottom" fmla="*/ 989640 h 1025640"/>
              </a:gdLst>
              <a:ahLst/>
              <a:rect l="textAreaLeft" t="textAreaTop" r="textAreaRight" b="textAreaBottom"/>
              <a:pathLst>
                <a:path w="21600" h="29913">
                  <a:moveTo>
                    <a:pt x="3600" y="0"/>
                  </a:moveTo>
                  <a:arcTo wR="3600" hR="3600" stAng="16200000" swAng="-5400000"/>
                  <a:lnTo>
                    <a:pt x="0" y="26313"/>
                  </a:lnTo>
                  <a:arcTo wR="3600" hR="3600" stAng="10800000" swAng="-5400000"/>
                  <a:lnTo>
                    <a:pt x="18000" y="299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" sz="600" spc="-1" strike="noStrike">
                  <a:solidFill>
                    <a:srgbClr val="000000"/>
                  </a:solidFill>
                  <a:latin typeface="Times New Roman"/>
                </a:rPr>
                <a:t>CARPETA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_s2065"/>
            <p:cNvSpPr/>
            <p:nvPr/>
          </p:nvSpPr>
          <p:spPr>
            <a:xfrm>
              <a:off x="4659840" y="5018760"/>
              <a:ext cx="740520" cy="1025640"/>
            </a:xfrm>
            <a:custGeom>
              <a:avLst/>
              <a:gdLst>
                <a:gd name="textAreaLeft" fmla="*/ 36000 w 740520"/>
                <a:gd name="textAreaRight" fmla="*/ 704520 w 740520"/>
                <a:gd name="textAreaTop" fmla="*/ 36000 h 1025640"/>
                <a:gd name="textAreaBottom" fmla="*/ 989640 h 1025640"/>
              </a:gdLst>
              <a:ahLst/>
              <a:rect l="textAreaLeft" t="textAreaTop" r="textAreaRight" b="textAreaBottom"/>
              <a:pathLst>
                <a:path w="21600" h="29913">
                  <a:moveTo>
                    <a:pt x="3600" y="0"/>
                  </a:moveTo>
                  <a:arcTo wR="3600" hR="3600" stAng="16200000" swAng="-5400000"/>
                  <a:lnTo>
                    <a:pt x="0" y="26313"/>
                  </a:lnTo>
                  <a:arcTo wR="3600" hR="3600" stAng="10800000" swAng="-5400000"/>
                  <a:lnTo>
                    <a:pt x="18000" y="299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Times New Roman"/>
                </a:rPr>
                <a:t>ESCRITURAC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_s2066"/>
            <p:cNvSpPr/>
            <p:nvPr/>
          </p:nvSpPr>
          <p:spPr>
            <a:xfrm>
              <a:off x="7251840" y="5018760"/>
              <a:ext cx="740520" cy="1025640"/>
            </a:xfrm>
            <a:custGeom>
              <a:avLst/>
              <a:gdLst>
                <a:gd name="textAreaLeft" fmla="*/ 36000 w 740520"/>
                <a:gd name="textAreaRight" fmla="*/ 704520 w 740520"/>
                <a:gd name="textAreaTop" fmla="*/ 36000 h 1025640"/>
                <a:gd name="textAreaBottom" fmla="*/ 989640 h 1025640"/>
              </a:gdLst>
              <a:ahLst/>
              <a:rect l="textAreaLeft" t="textAreaTop" r="textAreaRight" b="textAreaBottom"/>
              <a:pathLst>
                <a:path w="21600" h="29913">
                  <a:moveTo>
                    <a:pt x="3600" y="0"/>
                  </a:moveTo>
                  <a:arcTo wR="3600" hR="3600" stAng="16200000" swAng="-5400000"/>
                  <a:lnTo>
                    <a:pt x="0" y="26313"/>
                  </a:lnTo>
                  <a:arcTo wR="3600" hR="3600" stAng="10800000" swAng="-5400000"/>
                  <a:lnTo>
                    <a:pt x="18000" y="299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Times New Roman"/>
                </a:rPr>
                <a:t>NEGOCIAC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_s2067"/>
            <p:cNvSpPr/>
            <p:nvPr/>
          </p:nvSpPr>
          <p:spPr>
            <a:xfrm>
              <a:off x="6387840" y="5018760"/>
              <a:ext cx="740520" cy="1025640"/>
            </a:xfrm>
            <a:custGeom>
              <a:avLst/>
              <a:gdLst>
                <a:gd name="textAreaLeft" fmla="*/ 36000 w 740520"/>
                <a:gd name="textAreaRight" fmla="*/ 704520 w 740520"/>
                <a:gd name="textAreaTop" fmla="*/ 36000 h 1025640"/>
                <a:gd name="textAreaBottom" fmla="*/ 989640 h 1025640"/>
              </a:gdLst>
              <a:ahLst/>
              <a:rect l="textAreaLeft" t="textAreaTop" r="textAreaRight" b="textAreaBottom"/>
              <a:pathLst>
                <a:path w="21600" h="29913">
                  <a:moveTo>
                    <a:pt x="3600" y="0"/>
                  </a:moveTo>
                  <a:arcTo wR="3600" hR="3600" stAng="16200000" swAng="-5400000"/>
                  <a:lnTo>
                    <a:pt x="0" y="26313"/>
                  </a:lnTo>
                  <a:arcTo wR="3600" hR="3600" stAng="10800000" swAng="-5400000"/>
                  <a:lnTo>
                    <a:pt x="18000" y="299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Times New Roman"/>
                </a:rPr>
                <a:t>ENTREVIST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_s2068"/>
            <p:cNvSpPr/>
            <p:nvPr/>
          </p:nvSpPr>
          <p:spPr>
            <a:xfrm>
              <a:off x="5523840" y="5018760"/>
              <a:ext cx="740520" cy="1025640"/>
            </a:xfrm>
            <a:custGeom>
              <a:avLst/>
              <a:gdLst>
                <a:gd name="textAreaLeft" fmla="*/ 36000 w 740520"/>
                <a:gd name="textAreaRight" fmla="*/ 704520 w 740520"/>
                <a:gd name="textAreaTop" fmla="*/ 36000 h 1025640"/>
                <a:gd name="textAreaBottom" fmla="*/ 989640 h 1025640"/>
              </a:gdLst>
              <a:ahLst/>
              <a:rect l="textAreaLeft" t="textAreaTop" r="textAreaRight" b="textAreaBottom"/>
              <a:pathLst>
                <a:path w="21600" h="29913">
                  <a:moveTo>
                    <a:pt x="3600" y="0"/>
                  </a:moveTo>
                  <a:arcTo wR="3600" hR="3600" stAng="16200000" swAng="-5400000"/>
                  <a:lnTo>
                    <a:pt x="0" y="26313"/>
                  </a:lnTo>
                  <a:arcTo wR="3600" hR="3600" stAng="10800000" swAng="-5400000"/>
                  <a:lnTo>
                    <a:pt x="18000" y="299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Times New Roman"/>
                </a:rPr>
                <a:t>ORATORI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_s2069"/>
            <p:cNvSpPr/>
            <p:nvPr/>
          </p:nvSpPr>
          <p:spPr>
            <a:xfrm>
              <a:off x="3672360" y="5018760"/>
              <a:ext cx="740520" cy="1025640"/>
            </a:xfrm>
            <a:custGeom>
              <a:avLst/>
              <a:gdLst>
                <a:gd name="textAreaLeft" fmla="*/ 36000 w 740520"/>
                <a:gd name="textAreaRight" fmla="*/ 704520 w 740520"/>
                <a:gd name="textAreaTop" fmla="*/ 36000 h 1025640"/>
                <a:gd name="textAreaBottom" fmla="*/ 989640 h 1025640"/>
              </a:gdLst>
              <a:ahLst/>
              <a:rect l="textAreaLeft" t="textAreaTop" r="textAreaRight" b="textAreaBottom"/>
              <a:pathLst>
                <a:path w="21600" h="29913">
                  <a:moveTo>
                    <a:pt x="3600" y="0"/>
                  </a:moveTo>
                  <a:arcTo wR="3600" hR="3600" stAng="16200000" swAng="-5400000"/>
                  <a:lnTo>
                    <a:pt x="0" y="26313"/>
                  </a:lnTo>
                  <a:arcTo wR="3600" hR="3600" stAng="10800000" swAng="-5400000"/>
                  <a:lnTo>
                    <a:pt x="18000" y="299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Times New Roman"/>
                </a:rPr>
                <a:t>CLAS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_s2070"/>
            <p:cNvSpPr/>
            <p:nvPr/>
          </p:nvSpPr>
          <p:spPr>
            <a:xfrm>
              <a:off x="8116200" y="5018760"/>
              <a:ext cx="740520" cy="1025640"/>
            </a:xfrm>
            <a:custGeom>
              <a:avLst/>
              <a:gdLst>
                <a:gd name="textAreaLeft" fmla="*/ 36000 w 740520"/>
                <a:gd name="textAreaRight" fmla="*/ 704520 w 740520"/>
                <a:gd name="textAreaTop" fmla="*/ 36000 h 1025640"/>
                <a:gd name="textAreaBottom" fmla="*/ 989640 h 1025640"/>
              </a:gdLst>
              <a:ahLst/>
              <a:rect l="textAreaLeft" t="textAreaTop" r="textAreaRight" b="textAreaBottom"/>
              <a:pathLst>
                <a:path w="21600" h="29913">
                  <a:moveTo>
                    <a:pt x="3600" y="0"/>
                  </a:moveTo>
                  <a:arcTo wR="3600" hR="3600" stAng="16200000" swAng="-5400000"/>
                  <a:lnTo>
                    <a:pt x="0" y="26313"/>
                  </a:lnTo>
                  <a:arcTo wR="3600" hR="3600" stAng="10800000" swAng="-5400000"/>
                  <a:lnTo>
                    <a:pt x="18000" y="299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Times New Roman"/>
                </a:rPr>
                <a:t>ETIC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4 Marcador de pie de página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linicas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2C5E0-15CB-43A3-8F9C-95D035D677D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Narrow"/>
              </a:rPr>
              <a:t>Examen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38" name="Organization Chart 6"/>
          <p:cNvGrpSpPr/>
          <p:nvPr/>
        </p:nvGrpSpPr>
        <p:grpSpPr>
          <a:xfrm>
            <a:off x="2808360" y="1941480"/>
            <a:ext cx="6047640" cy="4102560"/>
            <a:chOff x="2808360" y="1941480"/>
            <a:chExt cx="6047640" cy="4102560"/>
          </a:xfrm>
        </p:grpSpPr>
        <p:sp>
          <p:nvSpPr>
            <p:cNvPr id="139" name="AutoShape 5"/>
            <p:cNvSpPr/>
            <p:nvPr/>
          </p:nvSpPr>
          <p:spPr>
            <a:xfrm>
              <a:off x="2808360" y="1941480"/>
              <a:ext cx="6047640" cy="410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0" name="_s3076"/>
            <p:cNvCxnSpPr>
              <a:stCxn id="141" idx="0"/>
              <a:endCxn id="142" idx="2"/>
            </p:cNvCxnSpPr>
            <p:nvPr/>
          </p:nvCxnSpPr>
          <p:spPr>
            <a:xfrm flipV="1" rot="16200000">
              <a:off x="6235200" y="3177360"/>
              <a:ext cx="821160" cy="1629360"/>
            </a:xfrm>
            <a:prstGeom prst="bentConnector3">
              <a:avLst>
                <a:gd name="adj1" fmla="val 1390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3" name="_s3077"/>
            <p:cNvCxnSpPr>
              <a:stCxn id="144" idx="0"/>
              <a:endCxn id="142" idx="2"/>
            </p:cNvCxnSpPr>
            <p:nvPr/>
          </p:nvCxnSpPr>
          <p:spPr>
            <a:xfrm flipH="1" flipV="1" rot="5400000">
              <a:off x="4607280" y="3178080"/>
              <a:ext cx="821160" cy="1628640"/>
            </a:xfrm>
            <a:prstGeom prst="bentConnector3">
              <a:avLst>
                <a:gd name="adj1" fmla="val 1390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2" name="_s3078"/>
            <p:cNvSpPr/>
            <p:nvPr/>
          </p:nvSpPr>
          <p:spPr>
            <a:xfrm>
              <a:off x="4436280" y="1941480"/>
              <a:ext cx="2791080" cy="1640880"/>
            </a:xfrm>
            <a:prstGeom prst="roundRect">
              <a:avLst>
                <a:gd name="adj" fmla="val 16667"/>
              </a:avLst>
            </a:pr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EXAM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40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_s3079"/>
            <p:cNvSpPr/>
            <p:nvPr/>
          </p:nvSpPr>
          <p:spPr>
            <a:xfrm>
              <a:off x="2808360" y="4402800"/>
              <a:ext cx="2791080" cy="1640880"/>
            </a:xfrm>
            <a:prstGeom prst="roundRect">
              <a:avLst>
                <a:gd name="adj" fmla="val 16667"/>
              </a:avLst>
            </a:pr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PARTE ESCRI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50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_s3080"/>
            <p:cNvSpPr/>
            <p:nvPr/>
          </p:nvSpPr>
          <p:spPr>
            <a:xfrm>
              <a:off x="6064920" y="4402800"/>
              <a:ext cx="2791080" cy="1640880"/>
            </a:xfrm>
            <a:prstGeom prst="roundRect">
              <a:avLst>
                <a:gd name="adj" fmla="val 16667"/>
              </a:avLst>
            </a:pr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PARTE OR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50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4 Marcador de pie de página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linicas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B425B-4A84-45E6-8CB4-B79670248AB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5" descr="pollitos 2"/>
          <p:cNvPicPr/>
          <p:nvPr/>
        </p:nvPicPr>
        <p:blipFill>
          <a:blip r:embed="rId1"/>
          <a:stretch/>
        </p:blipFill>
        <p:spPr>
          <a:xfrm>
            <a:off x="1143000" y="907920"/>
            <a:ext cx="6858000" cy="480708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s-ES" sz="4000" spc="-1" strike="noStrike">
                <a:solidFill>
                  <a:srgbClr val="ffff66"/>
                </a:solidFill>
                <a:latin typeface="Arial Narrow"/>
              </a:rPr>
              <a:t>Presentación de alumnos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66"/>
                </a:solidFill>
                <a:latin typeface="Arial"/>
              </a:rPr>
              <a:t>¿Quienes sigu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8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4T22:01:25Z</dcterms:created>
  <dc:creator>pc</dc:creator>
  <dc:description/>
  <dc:language>en-US</dc:language>
  <cp:lastModifiedBy>Daniela Ejsmentewicz</cp:lastModifiedBy>
  <dcterms:modified xsi:type="dcterms:W3CDTF">2011-03-07T17:59:16Z</dcterms:modified>
  <cp:revision>9</cp:revision>
  <dc:subject/>
  <dc:title>Clínicas 1</dc:title>
</cp:coreProperties>
</file>