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855-6C2C-46E3-BC3C-A4BEE138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0AE-DA41-4894-A9B6-848AF1FA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6CB-AE6C-424A-A761-8932698C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322-5550-42F3-AA80-E27CE2E8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7FD7-F283-44EF-AE6F-8C073EE9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83BE-9D09-4E3A-8F38-F1F5344A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8F63-8E3C-4D68-A114-E0A45918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BC0B-751F-4E28-9B68-D1101536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A0F1-9DB0-431A-A7F6-2D7BBC03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6572-D5D4-4525-ACC6-7F05F501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39F4-1244-4DE9-A286-3A158C11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E95-C4B0-4501-B66C-FFA66D9F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8705-3820-4522-BD0B-455B1785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A7B5-7F80-4B56-89A8-FDF6DF55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EED4-B2D8-429A-B772-439F3BFE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833E-11FC-45B4-BCF4-B8C59C13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617E-AD97-4C5F-9BF5-282021C6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D03-4D1E-4423-8B9A-964139BC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BF6-AB28-4BCA-9477-84AD1414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59F-A9BD-408E-828C-C01664DE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288-5FFB-49E3-9EAE-9D56033C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67C-EBD5-4498-B1DA-4332D468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797-C77B-4752-AC3F-2FF8C389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911-6F63-4188-990E-9487F985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C7E9-1420-437E-AE26-2F76272501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8C90-1B16-4B79-8551-DDAA50EAEA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1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imer semest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8"/>
          <p:cNvGraphicFramePr/>
          <p:nvPr/>
        </p:nvGraphicFramePr>
        <p:xfrm>
          <a:off x="1908000" y="404640"/>
          <a:ext cx="74304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74304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Departamento de Enseñanza Clínicas del Derech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estiones administ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oordinación Visita a Tribunal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los Gonza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5EB8-D6CC-476F-88EE-CCC3D217E9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Tarea 1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90560" y="18288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r todos los casos “in situ” y traer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CTUALIZ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iguient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atroc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a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ce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it / 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tapa proce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4734-9ADA-4A6D-8B9C-6C8B8F220A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stad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Arial"/>
              </a:rPr>
              <a:t>Máximo 50 pala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1 (28 palab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diencia de Juicio fijada el 20/8/2010. Medios de Prueba en la carpeta. Están fijados alimentos provisorios por $150.000 en favor de los hijos, los que se cumplen sin inconven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2 (35 palab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ntencia definitiva apelada por la contraria, quien solicita se enmiende el monto de indemnización por daño moral. Causa para su vista el 25/8/2010 en 15º lugar de la Octava Sala. Relator es don Fernando Sari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Próxima clas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ércoles a las </a:t>
            </a:r>
            <a:r>
              <a:rPr b="0" lang="es-ES" sz="4000" spc="-1" strike="noStrike">
                <a:solidFill>
                  <a:srgbClr val="800000"/>
                </a:solidFill>
                <a:latin typeface="Arial"/>
              </a:rPr>
              <a:t>16: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E469-0BC3-4B4F-B489-B23B5067BF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quipo docent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ris Muñoz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niela Ejsmentewicz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lipe Lizana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los González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4426-E510-485F-BCF6-3080192F41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Jurídica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cl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7D3E-66A3-44AA-A81F-FC7FF5D772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1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llo Universidad de Chi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ender a crecer de la exper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06BF-4744-44DB-994C-2AE192C2EE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ontenido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clí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oría del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ción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toria for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ramientas de Nego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CC22-89D3-4BE5-891B-EC3140D06B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ases y Asistencia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nes 16:00-17:00: conte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nes 17:00-18:00: trabajo clínico con carp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ércoles 16:00-18:00: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90% Clases Efectivamente re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La lista se pasa al in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5749-86B8-4F74-BE3E-9BCFF36D1B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valuacion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4" name="Organization Chart 7"/>
          <p:cNvGrpSpPr/>
          <p:nvPr/>
        </p:nvGrpSpPr>
        <p:grpSpPr>
          <a:xfrm>
            <a:off x="2808360" y="1941480"/>
            <a:ext cx="6048360" cy="4102920"/>
            <a:chOff x="2808360" y="1941480"/>
            <a:chExt cx="6048360" cy="4102920"/>
          </a:xfrm>
        </p:grpSpPr>
        <p:sp>
          <p:nvSpPr>
            <p:cNvPr id="115" name="AutoShape 6"/>
            <p:cNvSpPr/>
            <p:nvPr/>
          </p:nvSpPr>
          <p:spPr>
            <a:xfrm>
              <a:off x="2808360" y="1941480"/>
              <a:ext cx="6048360" cy="41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_s2052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7365600" y="3897360"/>
              <a:ext cx="513360" cy="1728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053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3570480" y="4545720"/>
              <a:ext cx="513360" cy="43236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054"/>
            <p:cNvCxnSpPr>
              <a:stCxn id="123" idx="0"/>
              <a:endCxn id="118" idx="2"/>
            </p:cNvCxnSpPr>
            <p:nvPr/>
          </p:nvCxnSpPr>
          <p:spPr>
            <a:xfrm flipH="1" flipV="1" rot="5400000">
              <a:off x="6069600" y="4329720"/>
              <a:ext cx="513360" cy="864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055"/>
            <p:cNvCxnSpPr>
              <a:stCxn id="125" idx="0"/>
              <a:endCxn id="118" idx="2"/>
            </p:cNvCxnSpPr>
            <p:nvPr/>
          </p:nvCxnSpPr>
          <p:spPr>
            <a:xfrm flipV="1">
              <a:off x="6758280" y="4505400"/>
              <a:ext cx="144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6"/>
            <p:cNvCxnSpPr>
              <a:stCxn id="127" idx="0"/>
              <a:endCxn id="118" idx="2"/>
            </p:cNvCxnSpPr>
            <p:nvPr/>
          </p:nvCxnSpPr>
          <p:spPr>
            <a:xfrm flipV="1" rot="16200000">
              <a:off x="6933960" y="4329000"/>
              <a:ext cx="513360" cy="8654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7"/>
            <p:cNvCxnSpPr>
              <a:stCxn id="129" idx="0"/>
              <a:endCxn id="118" idx="2"/>
            </p:cNvCxnSpPr>
            <p:nvPr/>
          </p:nvCxnSpPr>
          <p:spPr>
            <a:xfrm flipH="1" flipV="1" rot="5400000">
              <a:off x="5637960" y="3898080"/>
              <a:ext cx="513360" cy="172800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8"/>
            <p:cNvCxnSpPr>
              <a:stCxn id="131" idx="0"/>
              <a:endCxn id="121" idx="2"/>
            </p:cNvCxnSpPr>
            <p:nvPr/>
          </p:nvCxnSpPr>
          <p:spPr>
            <a:xfrm flipH="1" flipV="1" rot="5400000">
              <a:off x="3138480" y="4545720"/>
              <a:ext cx="513360" cy="432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9"/>
            <p:cNvCxnSpPr>
              <a:stCxn id="118" idx="1"/>
              <a:endCxn id="133" idx="2"/>
            </p:cNvCxnSpPr>
            <p:nvPr/>
          </p:nvCxnSpPr>
          <p:spPr>
            <a:xfrm rot="10800000">
              <a:off x="4536360" y="2966400"/>
              <a:ext cx="1851480" cy="102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60"/>
            <p:cNvCxnSpPr>
              <a:stCxn id="121" idx="3"/>
              <a:endCxn id="133" idx="2"/>
            </p:cNvCxnSpPr>
            <p:nvPr/>
          </p:nvCxnSpPr>
          <p:spPr>
            <a:xfrm flipV="1">
              <a:off x="3981600" y="2966400"/>
              <a:ext cx="555840" cy="102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2061"/>
            <p:cNvSpPr/>
            <p:nvPr/>
          </p:nvSpPr>
          <p:spPr>
            <a:xfrm>
              <a:off x="4165920" y="194148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NOTA DE PRESENT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6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2062"/>
            <p:cNvSpPr/>
            <p:nvPr/>
          </p:nvSpPr>
          <p:spPr>
            <a:xfrm>
              <a:off x="3240000" y="348012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GESTION CLIN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63"/>
            <p:cNvSpPr/>
            <p:nvPr/>
          </p:nvSpPr>
          <p:spPr>
            <a:xfrm>
              <a:off x="6387840" y="348012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MODULOS DE DESTREZ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2064"/>
            <p:cNvSpPr/>
            <p:nvPr/>
          </p:nvSpPr>
          <p:spPr>
            <a:xfrm>
              <a:off x="280836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CARPE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2065"/>
            <p:cNvSpPr/>
            <p:nvPr/>
          </p:nvSpPr>
          <p:spPr>
            <a:xfrm>
              <a:off x="4659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SCRITUR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2066"/>
            <p:cNvSpPr/>
            <p:nvPr/>
          </p:nvSpPr>
          <p:spPr>
            <a:xfrm>
              <a:off x="7251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NEGOCI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2067"/>
            <p:cNvSpPr/>
            <p:nvPr/>
          </p:nvSpPr>
          <p:spPr>
            <a:xfrm>
              <a:off x="6387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NTREVIS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2068"/>
            <p:cNvSpPr/>
            <p:nvPr/>
          </p:nvSpPr>
          <p:spPr>
            <a:xfrm>
              <a:off x="5523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ORATOR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69"/>
            <p:cNvSpPr/>
            <p:nvPr/>
          </p:nvSpPr>
          <p:spPr>
            <a:xfrm>
              <a:off x="367236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CLAS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70"/>
            <p:cNvSpPr/>
            <p:nvPr/>
          </p:nvSpPr>
          <p:spPr>
            <a:xfrm>
              <a:off x="811620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B8B2-F16C-4EB8-8593-95549BA947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ame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38" name="Organization Chart 6"/>
          <p:cNvGrpSpPr/>
          <p:nvPr/>
        </p:nvGrpSpPr>
        <p:grpSpPr>
          <a:xfrm>
            <a:off x="2808360" y="1941480"/>
            <a:ext cx="6047640" cy="4102560"/>
            <a:chOff x="2808360" y="1941480"/>
            <a:chExt cx="6047640" cy="4102560"/>
          </a:xfrm>
        </p:grpSpPr>
        <p:sp>
          <p:nvSpPr>
            <p:cNvPr id="139" name="AutoShape 5"/>
            <p:cNvSpPr/>
            <p:nvPr/>
          </p:nvSpPr>
          <p:spPr>
            <a:xfrm>
              <a:off x="2808360" y="1941480"/>
              <a:ext cx="6047640" cy="41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_s3076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6235200" y="3177360"/>
              <a:ext cx="821160" cy="16293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0"/>
              <a:endCxn id="142" idx="2"/>
            </p:cNvCxnSpPr>
            <p:nvPr/>
          </p:nvCxnSpPr>
          <p:spPr>
            <a:xfrm flipH="1" flipV="1" rot="5400000">
              <a:off x="4607280" y="3178080"/>
              <a:ext cx="821160" cy="16286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2" name="_s3078"/>
            <p:cNvSpPr/>
            <p:nvPr/>
          </p:nvSpPr>
          <p:spPr>
            <a:xfrm>
              <a:off x="4436280" y="194148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XA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2808360" y="440280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ARTE ESCRI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3080"/>
            <p:cNvSpPr/>
            <p:nvPr/>
          </p:nvSpPr>
          <p:spPr>
            <a:xfrm>
              <a:off x="6064920" y="440280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ARTE O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178D-2D41-4B54-8EB4-7468B625C3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pollitos 2"/>
          <p:cNvPicPr/>
          <p:nvPr/>
        </p:nvPicPr>
        <p:blipFill>
          <a:blip r:embed="rId1"/>
          <a:stretch/>
        </p:blipFill>
        <p:spPr>
          <a:xfrm>
            <a:off x="1143000" y="907920"/>
            <a:ext cx="6858000" cy="4807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 Narrow"/>
              </a:rPr>
              <a:t>Presentación de alumno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¿Quienes sigu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22:01:25Z</dcterms:created>
  <dc:creator>pc</dc:creator>
  <dc:description/>
  <dc:language>en-US</dc:language>
  <cp:lastModifiedBy>Daniela Ejsmentewicz</cp:lastModifiedBy>
  <dcterms:modified xsi:type="dcterms:W3CDTF">2011-03-07T17:59:16Z</dcterms:modified>
  <cp:revision>9</cp:revision>
  <dc:subject/>
  <dc:title>Clínicas 1</dc:title>
</cp:coreProperties>
</file>