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A6D-777B-4C5A-9CA9-1E4B7D61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E24-46E1-494E-B642-F8DBA9E8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5B3-BA7E-4A9B-A714-2D5A3972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B2D-6E64-4F2A-A234-FDD2437F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EC6D-C62B-4A82-862F-39741E79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F15-DFDF-4A92-87FF-30D7136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D35-F5D1-45C2-A66F-13615F2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3075-AAFD-43C5-BC79-800A683B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CB19-D112-4784-B05F-625C971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B11-AEEA-4772-A400-5D71DE0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9CA-FEC3-45E8-9E33-AF1701EF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247-20FB-48FD-B424-4FDDD705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38C-8A4D-43C9-81D3-96891D3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F760-4154-40FD-B1B8-51727CA6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C762-7549-48CE-BAC4-1B2AA0E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1991-7C87-432D-A387-47020B0B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09AF-62F0-432B-AFFA-A6C716A6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68E-13AB-4AAD-8C8F-5E2DA655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884-552A-4104-9FB7-5FA4E0D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977-7591-423B-B5A6-19C1039F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E6E-1D19-4CDF-A786-AC242CB8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48F-94A7-4A62-AA7E-07D722B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992-C1D4-4A4F-951C-AE2725A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6FD-41C4-4168-9294-2C4EF46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FF28-CBCB-4A23-BDF3-2E02BA32B5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DA35-AB5A-437D-8C76-3186EC3DCB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mer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1908000" y="404640"/>
          <a:ext cx="7430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7430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Departamento de Enseñanza Clínicas del Derech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ordinación Visita a Tribuna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los Gonza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277B-5FD1-4671-AC18-50C93E9F1D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Tarea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todos los casos “in situ” y tra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UALIZ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iguient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troc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it / 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tapa 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0268-6142-443E-9223-062124E9BA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stad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Máximo 50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1 (28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diencia de Juicio fijada el 20/8/2010. Medios de Prueba en la carpeta. Están fijados alimentos provisorios por $150.000 en favor de los hijos, los que se cumplen sin inconven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2 (35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tencia definitiva apelada por la contraria, quien solicita se enmiende el monto de indemnización por daño moral. Causa para su vista el 25/8/2010 en 15º lugar de la Octava Sala. Relator es don Fernando Sar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Próxima cl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ércoles a las </a:t>
            </a: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16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385-3A28-47E1-ABF0-E031C1439E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quipo docen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is Muño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niela Ejsmentewicz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pe Lizana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los Gonzále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151-FB9C-4A64-9D07-CA92C3F324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Jurídic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15E3-AC78-4AE0-97C8-E7820EA9E1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llo Universidad de Chi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er a crecer de la 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BF0-9DD7-4553-80EF-D50BC863F9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ntenido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d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toria for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5C3-8A81-450C-BAF6-DBAF467A9E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ases y Asistenci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6:00-17:00: con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7:00-18:00: trabajo clínico con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ércoles 16:00-18:00: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90% Clases Efectivamente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La lista se pasa al 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8F7-3275-49ED-96D7-C9403D18D5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valuacion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808360" y="1941480"/>
            <a:ext cx="6048360" cy="4102920"/>
            <a:chOff x="2808360" y="1941480"/>
            <a:chExt cx="6048360" cy="4102920"/>
          </a:xfrm>
        </p:grpSpPr>
        <p:sp>
          <p:nvSpPr>
            <p:cNvPr id="115" name="AutoShape 6"/>
            <p:cNvSpPr/>
            <p:nvPr/>
          </p:nvSpPr>
          <p:spPr>
            <a:xfrm>
              <a:off x="2808360" y="1941480"/>
              <a:ext cx="6048360" cy="41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_s2052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365600" y="3897360"/>
              <a:ext cx="513360" cy="1728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3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3570480" y="4545720"/>
              <a:ext cx="513360" cy="4323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8" idx="2"/>
            </p:cNvCxnSpPr>
            <p:nvPr/>
          </p:nvCxnSpPr>
          <p:spPr>
            <a:xfrm flipH="1" flipV="1" rot="5400000">
              <a:off x="6069600" y="4329720"/>
              <a:ext cx="513360" cy="864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0"/>
              <a:endCxn id="118" idx="2"/>
            </p:cNvCxnSpPr>
            <p:nvPr/>
          </p:nvCxnSpPr>
          <p:spPr>
            <a:xfrm flipV="1">
              <a:off x="6758280" y="4505400"/>
              <a:ext cx="144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18" idx="2"/>
            </p:cNvCxnSpPr>
            <p:nvPr/>
          </p:nvCxnSpPr>
          <p:spPr>
            <a:xfrm flipV="1" rot="16200000">
              <a:off x="6933960" y="4329000"/>
              <a:ext cx="513360" cy="865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0"/>
              <a:endCxn id="118" idx="2"/>
            </p:cNvCxnSpPr>
            <p:nvPr/>
          </p:nvCxnSpPr>
          <p:spPr>
            <a:xfrm flipH="1" flipV="1" rot="5400000">
              <a:off x="5637960" y="3898080"/>
              <a:ext cx="513360" cy="17280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0"/>
              <a:endCxn id="121" idx="2"/>
            </p:cNvCxnSpPr>
            <p:nvPr/>
          </p:nvCxnSpPr>
          <p:spPr>
            <a:xfrm flipH="1" flipV="1" rot="5400000">
              <a:off x="3138480" y="4545720"/>
              <a:ext cx="513360" cy="432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18" idx="1"/>
              <a:endCxn id="133" idx="2"/>
            </p:cNvCxnSpPr>
            <p:nvPr/>
          </p:nvCxnSpPr>
          <p:spPr>
            <a:xfrm rot="10800000">
              <a:off x="4536360" y="2966400"/>
              <a:ext cx="185148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60"/>
            <p:cNvCxnSpPr>
              <a:stCxn id="121" idx="3"/>
              <a:endCxn id="133" idx="2"/>
            </p:cNvCxnSpPr>
            <p:nvPr/>
          </p:nvCxnSpPr>
          <p:spPr>
            <a:xfrm flipV="1">
              <a:off x="3981600" y="2966400"/>
              <a:ext cx="55584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061"/>
            <p:cNvSpPr/>
            <p:nvPr/>
          </p:nvSpPr>
          <p:spPr>
            <a:xfrm>
              <a:off x="4165920" y="194148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OTA DE PRESENT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2062"/>
            <p:cNvSpPr/>
            <p:nvPr/>
          </p:nvSpPr>
          <p:spPr>
            <a:xfrm>
              <a:off x="324000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GESTION CLI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638784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MODULOS DE DEST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2064"/>
            <p:cNvSpPr/>
            <p:nvPr/>
          </p:nvSpPr>
          <p:spPr>
            <a:xfrm>
              <a:off x="2808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ARPE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065"/>
            <p:cNvSpPr/>
            <p:nvPr/>
          </p:nvSpPr>
          <p:spPr>
            <a:xfrm>
              <a:off x="4659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SCRITUR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2066"/>
            <p:cNvSpPr/>
            <p:nvPr/>
          </p:nvSpPr>
          <p:spPr>
            <a:xfrm>
              <a:off x="7251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EGOCI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2067"/>
            <p:cNvSpPr/>
            <p:nvPr/>
          </p:nvSpPr>
          <p:spPr>
            <a:xfrm>
              <a:off x="6387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NTREVI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2068"/>
            <p:cNvSpPr/>
            <p:nvPr/>
          </p:nvSpPr>
          <p:spPr>
            <a:xfrm>
              <a:off x="5523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ORATO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9"/>
            <p:cNvSpPr/>
            <p:nvPr/>
          </p:nvSpPr>
          <p:spPr>
            <a:xfrm>
              <a:off x="3672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L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70"/>
            <p:cNvSpPr/>
            <p:nvPr/>
          </p:nvSpPr>
          <p:spPr>
            <a:xfrm>
              <a:off x="811620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C82-8F83-43B9-B0A2-FC5AA22BA1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2808360" y="1941480"/>
            <a:ext cx="6047640" cy="4102560"/>
            <a:chOff x="2808360" y="1941480"/>
            <a:chExt cx="6047640" cy="4102560"/>
          </a:xfrm>
        </p:grpSpPr>
        <p:sp>
          <p:nvSpPr>
            <p:cNvPr id="139" name="AutoShape 5"/>
            <p:cNvSpPr/>
            <p:nvPr/>
          </p:nvSpPr>
          <p:spPr>
            <a:xfrm>
              <a:off x="2808360" y="1941480"/>
              <a:ext cx="6047640" cy="41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_s3076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35200" y="3177360"/>
              <a:ext cx="821160" cy="1629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4607280" y="3178080"/>
              <a:ext cx="821160" cy="16286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3078"/>
            <p:cNvSpPr/>
            <p:nvPr/>
          </p:nvSpPr>
          <p:spPr>
            <a:xfrm>
              <a:off x="4436280" y="194148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280836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ESC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606492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4BB-8CAB-4E9B-BB85-97035021CD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pollitos 2"/>
          <p:cNvPicPr/>
          <p:nvPr/>
        </p:nvPicPr>
        <p:blipFill>
          <a:blip r:embed="rId1"/>
          <a:stretch/>
        </p:blipFill>
        <p:spPr>
          <a:xfrm>
            <a:off x="1143000" y="907920"/>
            <a:ext cx="6858000" cy="480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 Narrow"/>
              </a:rPr>
              <a:t>Presentación de alumno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¿Quienes sigu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22:01:25Z</dcterms:created>
  <dc:creator>pc</dc:creator>
  <dc:description/>
  <dc:language>en-US</dc:language>
  <cp:lastModifiedBy>Daniela Ejsmentewicz</cp:lastModifiedBy>
  <dcterms:modified xsi:type="dcterms:W3CDTF">2011-03-07T17:59:16Z</dcterms:modified>
  <cp:revision>9</cp:revision>
  <dc:subject/>
  <dc:title>Clínicas 1</dc:title>
</cp:coreProperties>
</file>