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52CD-CDD4-44A0-9865-8788D8FC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4B5-9C98-4D26-9EEF-0615EA13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BFF-DB30-4B53-B5E1-919F3856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7D2-AE13-4EE7-BAF1-E623E48F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7E91-8426-4C1B-9C2B-D2406D86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1A35-5110-4995-A2F5-85300B2D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1E62-23EF-47FB-AECC-F303675F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CD4C-4125-4AAE-8BBE-2C905B99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29C8-EEB0-4816-A3AD-2D2B1AEC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FA80-C49A-422B-9A72-D9FF2B18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F9F7-42D0-4FCB-8BE3-78253218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C26-8BEB-4C2A-9F02-5BDD47CD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C244-6653-4557-92B9-2138670E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56C7-0189-4D26-81EB-6271912E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A8E7-2D55-4998-9F1E-F4438D19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A196-DC65-4555-BED5-073C5890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C76E-36E2-4BFE-B989-628A26A9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DD1-9AA8-4E67-8493-1C32ED31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633-DA72-4662-8A1D-6FF7C477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EB7-1877-4352-9BC1-B9851DCB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353-FDA0-4435-9C98-2132443F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3A2-A996-4916-93B8-97E3DA22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BAD-2E85-462E-9387-28452E83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A4E-3365-48B1-B48D-C6BA133B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D534-4B59-4E2D-A7CE-9519258B6E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9D24-E657-45E2-B0AE-88B87F9A30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1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imer semest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8"/>
          <p:cNvGraphicFramePr/>
          <p:nvPr/>
        </p:nvGraphicFramePr>
        <p:xfrm>
          <a:off x="1908000" y="404640"/>
          <a:ext cx="743040" cy="11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74304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Narrow"/>
              </a:rPr>
              <a:t>Departamento de Enseñanza Clínicas del Derecho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estiones administ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oordinación Visita a Tribunal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los Gonza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7403-4ACF-4486-950A-7DD8D47B0C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Tarea 1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90560" y="18288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ar todos los casos “in situ” y traer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CTUALIZ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siguient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atroc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a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roce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rát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it / 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tapa proce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626F-27D3-4CA5-953E-0F78DF8E35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stado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Arial"/>
              </a:rPr>
              <a:t>Máximo 50 pala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1 (28 palab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diencia de Juicio fijada el 20/8/2010. Medios de Prueba en la carpeta. Están fijados alimentos provisorios por $150.000 en favor de los hijos, los que se cumplen sin inconven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2 (35 palab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ntencia definitiva apelada por la contraria, quien solicita se enmiende el monto de indemnización por daño moral. Causa para su vista el 25/8/2010 en 15º lugar de la Octava Sala. Relator es don Fernando Sari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Próxima clas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ércoles a las </a:t>
            </a:r>
            <a:r>
              <a:rPr b="0" lang="es-ES" sz="4000" spc="-1" strike="noStrike">
                <a:solidFill>
                  <a:srgbClr val="800000"/>
                </a:solidFill>
                <a:latin typeface="Arial"/>
              </a:rPr>
              <a:t>16: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2793-C812-416C-8E78-3EFD6FDD22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quipo docent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ris Muñoz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niela Ejsmentewicz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lipe Lizana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los González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C8CC-AD4C-4129-AF45-43D7C375C5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Jurídica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cl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 Do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F184-5DCD-4743-B206-B10CD68E93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1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llo Universidad de Chi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ender a crecer de la exper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1282-DA11-4AA5-9101-1CD36ADC4D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ontenido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clín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oría del 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uración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atoria for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tre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ramientas de Nego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2F9F-F5AA-43B3-8311-BECBD8882B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ases y Asistencia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nes 16:00-17:00: conte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nes 17:00-18:00: trabajo clínico con carp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ércoles 16:00-18:00: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Arial"/>
              </a:rPr>
              <a:t>90% Clases Efectivamente re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Arial"/>
              </a:rPr>
              <a:t>La lista se pasa al in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A38F-3012-4590-8EF3-C94533E8E23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valuacion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4" name="Organization Chart 7"/>
          <p:cNvGrpSpPr/>
          <p:nvPr/>
        </p:nvGrpSpPr>
        <p:grpSpPr>
          <a:xfrm>
            <a:off x="2808360" y="1941480"/>
            <a:ext cx="6048360" cy="4102920"/>
            <a:chOff x="2808360" y="1941480"/>
            <a:chExt cx="6048360" cy="4102920"/>
          </a:xfrm>
        </p:grpSpPr>
        <p:sp>
          <p:nvSpPr>
            <p:cNvPr id="115" name="AutoShape 6"/>
            <p:cNvSpPr/>
            <p:nvPr/>
          </p:nvSpPr>
          <p:spPr>
            <a:xfrm>
              <a:off x="2808360" y="1941480"/>
              <a:ext cx="6048360" cy="41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_s2052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7365600" y="3897360"/>
              <a:ext cx="513360" cy="1728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053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3570480" y="4545720"/>
              <a:ext cx="513360" cy="43236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054"/>
            <p:cNvCxnSpPr>
              <a:stCxn id="123" idx="0"/>
              <a:endCxn id="118" idx="2"/>
            </p:cNvCxnSpPr>
            <p:nvPr/>
          </p:nvCxnSpPr>
          <p:spPr>
            <a:xfrm flipH="1" flipV="1" rot="5400000">
              <a:off x="6069600" y="4329720"/>
              <a:ext cx="513360" cy="864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055"/>
            <p:cNvCxnSpPr>
              <a:stCxn id="125" idx="0"/>
              <a:endCxn id="118" idx="2"/>
            </p:cNvCxnSpPr>
            <p:nvPr/>
          </p:nvCxnSpPr>
          <p:spPr>
            <a:xfrm flipV="1">
              <a:off x="6758280" y="4505400"/>
              <a:ext cx="144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056"/>
            <p:cNvCxnSpPr>
              <a:stCxn id="127" idx="0"/>
              <a:endCxn id="118" idx="2"/>
            </p:cNvCxnSpPr>
            <p:nvPr/>
          </p:nvCxnSpPr>
          <p:spPr>
            <a:xfrm flipV="1" rot="16200000">
              <a:off x="6933960" y="4329000"/>
              <a:ext cx="513360" cy="8654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057"/>
            <p:cNvCxnSpPr>
              <a:stCxn id="129" idx="0"/>
              <a:endCxn id="118" idx="2"/>
            </p:cNvCxnSpPr>
            <p:nvPr/>
          </p:nvCxnSpPr>
          <p:spPr>
            <a:xfrm flipH="1" flipV="1" rot="5400000">
              <a:off x="5637960" y="3898080"/>
              <a:ext cx="513360" cy="172800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058"/>
            <p:cNvCxnSpPr>
              <a:stCxn id="131" idx="0"/>
              <a:endCxn id="121" idx="2"/>
            </p:cNvCxnSpPr>
            <p:nvPr/>
          </p:nvCxnSpPr>
          <p:spPr>
            <a:xfrm flipH="1" flipV="1" rot="5400000">
              <a:off x="3138480" y="4545720"/>
              <a:ext cx="513360" cy="432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9"/>
            <p:cNvCxnSpPr>
              <a:stCxn id="118" idx="1"/>
              <a:endCxn id="133" idx="2"/>
            </p:cNvCxnSpPr>
            <p:nvPr/>
          </p:nvCxnSpPr>
          <p:spPr>
            <a:xfrm rot="10800000">
              <a:off x="4536360" y="2966400"/>
              <a:ext cx="1851480" cy="102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60"/>
            <p:cNvCxnSpPr>
              <a:stCxn id="121" idx="3"/>
              <a:endCxn id="133" idx="2"/>
            </p:cNvCxnSpPr>
            <p:nvPr/>
          </p:nvCxnSpPr>
          <p:spPr>
            <a:xfrm flipV="1">
              <a:off x="3981600" y="2966400"/>
              <a:ext cx="555840" cy="102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2061"/>
            <p:cNvSpPr/>
            <p:nvPr/>
          </p:nvSpPr>
          <p:spPr>
            <a:xfrm>
              <a:off x="4165920" y="194148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NOTA DE PRESENT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6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2062"/>
            <p:cNvSpPr/>
            <p:nvPr/>
          </p:nvSpPr>
          <p:spPr>
            <a:xfrm>
              <a:off x="3240000" y="348012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GESTION CLIN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63"/>
            <p:cNvSpPr/>
            <p:nvPr/>
          </p:nvSpPr>
          <p:spPr>
            <a:xfrm>
              <a:off x="6387840" y="348012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MODULOS DE DESTREZ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2064"/>
            <p:cNvSpPr/>
            <p:nvPr/>
          </p:nvSpPr>
          <p:spPr>
            <a:xfrm>
              <a:off x="280836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CARPET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2065"/>
            <p:cNvSpPr/>
            <p:nvPr/>
          </p:nvSpPr>
          <p:spPr>
            <a:xfrm>
              <a:off x="4659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SCRITUR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2066"/>
            <p:cNvSpPr/>
            <p:nvPr/>
          </p:nvSpPr>
          <p:spPr>
            <a:xfrm>
              <a:off x="7251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NEGOCI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2067"/>
            <p:cNvSpPr/>
            <p:nvPr/>
          </p:nvSpPr>
          <p:spPr>
            <a:xfrm>
              <a:off x="6387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NTREVIST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2068"/>
            <p:cNvSpPr/>
            <p:nvPr/>
          </p:nvSpPr>
          <p:spPr>
            <a:xfrm>
              <a:off x="5523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ORATORI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69"/>
            <p:cNvSpPr/>
            <p:nvPr/>
          </p:nvSpPr>
          <p:spPr>
            <a:xfrm>
              <a:off x="367236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CLAS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70"/>
            <p:cNvSpPr/>
            <p:nvPr/>
          </p:nvSpPr>
          <p:spPr>
            <a:xfrm>
              <a:off x="811620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T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242A-D982-4CFA-9D5A-32AA3FACC4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xame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38" name="Organization Chart 6"/>
          <p:cNvGrpSpPr/>
          <p:nvPr/>
        </p:nvGrpSpPr>
        <p:grpSpPr>
          <a:xfrm>
            <a:off x="2808360" y="1941480"/>
            <a:ext cx="6047640" cy="4102560"/>
            <a:chOff x="2808360" y="1941480"/>
            <a:chExt cx="6047640" cy="4102560"/>
          </a:xfrm>
        </p:grpSpPr>
        <p:sp>
          <p:nvSpPr>
            <p:cNvPr id="139" name="AutoShape 5"/>
            <p:cNvSpPr/>
            <p:nvPr/>
          </p:nvSpPr>
          <p:spPr>
            <a:xfrm>
              <a:off x="2808360" y="1941480"/>
              <a:ext cx="6047640" cy="41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_s3076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6235200" y="3177360"/>
              <a:ext cx="821160" cy="16293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3077"/>
            <p:cNvCxnSpPr>
              <a:stCxn id="144" idx="0"/>
              <a:endCxn id="142" idx="2"/>
            </p:cNvCxnSpPr>
            <p:nvPr/>
          </p:nvCxnSpPr>
          <p:spPr>
            <a:xfrm flipH="1" flipV="1" rot="5400000">
              <a:off x="4607280" y="3178080"/>
              <a:ext cx="821160" cy="16286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2" name="_s3078"/>
            <p:cNvSpPr/>
            <p:nvPr/>
          </p:nvSpPr>
          <p:spPr>
            <a:xfrm>
              <a:off x="4436280" y="194148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XA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3079"/>
            <p:cNvSpPr/>
            <p:nvPr/>
          </p:nvSpPr>
          <p:spPr>
            <a:xfrm>
              <a:off x="2808360" y="440280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ARTE ESCRI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3080"/>
            <p:cNvSpPr/>
            <p:nvPr/>
          </p:nvSpPr>
          <p:spPr>
            <a:xfrm>
              <a:off x="6064920" y="440280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ARTE O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B0DD-2BAE-4E43-B7EC-88ED0047EF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pollitos 2"/>
          <p:cNvPicPr/>
          <p:nvPr/>
        </p:nvPicPr>
        <p:blipFill>
          <a:blip r:embed="rId1"/>
          <a:stretch/>
        </p:blipFill>
        <p:spPr>
          <a:xfrm>
            <a:off x="1143000" y="907920"/>
            <a:ext cx="6858000" cy="4807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 Narrow"/>
              </a:rPr>
              <a:t>Presentación de alumnos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¿Quienes sigu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22:01:25Z</dcterms:created>
  <dc:creator>pc</dc:creator>
  <dc:description/>
  <dc:language>en-US</dc:language>
  <cp:lastModifiedBy>Daniela Ejsmentewicz</cp:lastModifiedBy>
  <dcterms:modified xsi:type="dcterms:W3CDTF">2011-03-07T17:59:16Z</dcterms:modified>
  <cp:revision>9</cp:revision>
  <dc:subject/>
  <dc:title>Clínicas 1</dc:title>
</cp:coreProperties>
</file>