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3D5-8047-460C-8D60-3B589E04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9A5-309A-401E-94F1-420FA16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7FB-3C00-439F-BC06-0D832082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3B5-E372-4ED8-B7F4-FF5D2585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A13-FC59-4EEC-AC82-A2C1EA12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50F-52DA-49CF-9526-BB34E47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7E77-514E-4BD3-A3E4-39E592B5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AD7C-CEBB-491B-A416-67C57E4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B7BC-8D4D-4A18-A8A1-D4BA9F82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B52-DF7C-46A3-879C-ED269CD6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936A-A975-4E57-9369-850E551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F09-895C-4CF2-B41A-608CB42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6A78-B48B-4B3C-90C9-9C3293A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BDA8-22EC-4810-8674-EF7D2C4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B09A-25A6-4397-AC3E-FAA8ACB6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8D1-78DC-4B1B-B59F-E856149A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A4D2-3AFE-4B83-B094-0A69855D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922-8CCA-4E55-BF57-706D1AAB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F44-852B-4B77-B940-8A50FF01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AE0-3414-44CA-98C1-544C56CE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011-6437-46AF-B002-409157C0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37B-D6E7-48CD-98B6-A7D2C56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0A4-BC81-4962-90C6-C8E0569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F8C-B0F6-4A58-A8D7-5E63349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761C-DD8C-4810-A3FB-3DF19C3E2D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BB3-DA8C-4DE9-B975-F11B962FB0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1° Seminario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Derecho del Trabaj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284-1878-4CF9-966F-7CA1EE8C06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DE JOUVENEL, Bertrand, “La etica de la redistribución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HAYEK, Friedrich, “El espejismo de la justicia social”, en Derecho, Legislación y Libert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968-9B2F-4AC0-B495-D4A1E586E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lanteamiento.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Ser humano, necesidade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ivación o trabajo, dos m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rabajo ajeno: esclavitud, servidumbre, expoliación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presión para apropiarse del trabajo ajen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l “Estado”, Estado Providencia o de Bienestar, cuyo instrumento es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¿Qué es el Estado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l estado es la gran ficción por la cual todo el mundo pretende vivir del trabajo ajeno” (Fréderic Bastia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8B0-7D91-4CFD-9B2E-811005B048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MX" sz="3000" spc="-1" strike="noStrike">
                <a:solidFill>
                  <a:srgbClr val="000000"/>
                </a:solidFill>
                <a:latin typeface="Verdana"/>
              </a:rPr>
              <a:t>En Inglaterra todos los ingresos se elevan de esta manera al tiempo que la mayoría de los ingresos sufren una reducción para financiar la elevación”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(De Jouvenel, p.47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piso y el tech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blemas con el piso: riesgo moral, su financiación = ¿impuesto a las rentas alt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D98-7935-449F-BF7D-8FC0AD3D3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 que falta uno y sobra a otro se pierde dos veces”: estilo de vida inmo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Despilfarro, casino, ferrari, et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ién define lo que es despilfarro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Pueblo = artistas de cine, deportistas, farándula = </a:t>
            </a:r>
            <a:r>
              <a:rPr b="1" lang="es-MX" sz="2300" spc="-1" strike="noStrike">
                <a:solidFill>
                  <a:srgbClr val="000000"/>
                </a:solidFill>
                <a:latin typeface="Verdana"/>
              </a:rPr>
              <a:t>“Los ricos son una creación de los pobres”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Falacia: los impuestos los pagan los ricos, ¿verticalidad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524-97D7-4D59-B63B-55DFCE364A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squema impositivo es un last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Los más ricos sentirán menos la pérdida de lo que los pobres apreciarán la ganancia” = ¿comparación de satisfacciones y estilos de vid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Todo el capital financia un estilo de vida “reprochable”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ién se beneficia de la acumulación de capital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é ocurre cuándo se expolia el capital para redistribuirlo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484-6900-4FA5-9019-E085F22E1D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l advenimiento del capitalismo industrial y los trabajado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Empeoró la revolución industrial la situación de los trabajad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Hacía dónde se dirigió la produc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e apropia el empresario de un excedente o “plusvalía” del trabajado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cómo se fija la retribución del trabajo en una economía lib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FC7-62D1-4BA9-B984-398F5CB8BC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y las conquistas social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búsqueda de precios y salarios justos se abandonó definitivamente cuando se reconoció que sólo podía considerarse justo aquel precio “natural” que se alcanzara en un mercado competitivo sin ser determinado por ninguna ley o decreto humano…” (Hayek, p. 27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7F8-994D-4C3A-9D2A-07E5E62C9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¡Gracias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ED9-2B97-4FA5-BFFE-D9847748FB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1-04-01T17:25:49Z</dcterms:modified>
  <cp:revision>11</cp:revision>
  <dc:subject/>
  <dc:title>Modelo </dc:title>
</cp:coreProperties>
</file>