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76F-3974-4DA3-A132-EF89EFC3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B85-302E-4424-966A-28C6E41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4F8-F4EC-4F37-829E-C51440BF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69F-8493-4C99-9AF9-FEE575C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7537-DE55-4271-BCFE-1E4E3AA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8A6-8D97-44D6-BF94-F50B7054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8B97-EF03-4B88-B670-BF7FDED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1DDE-8363-476D-A0F7-EEC77AE4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C8B-8D9F-4921-BAF1-A9E4E29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621-636B-441B-80B7-1BEF19A3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86FB-E58D-40B8-B12A-D29A936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928-0804-457E-ACB8-71E61F0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847-0473-4035-ADBC-DF20B6E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055-A78A-418A-B0E1-63CD545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122-03BF-4AA8-8777-C4BA58D1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F71-26CF-42DF-AE3C-F72D1634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015-9AA3-4623-895F-C1042A85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260-B539-4341-93DD-821DD58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0D5-1170-46FE-A38A-B03CD5E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D13-6182-4493-8742-01B4F5C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ED9-7186-4E4F-B787-3D608CF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BE5-6177-4C94-83F1-10349FC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B5D-ECFB-435A-8BE5-83DC1CF4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A94-316B-4FD6-B7CD-B99EA27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693-3B60-45F3-B654-7B30AB0593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9A9-798B-4F12-896A-B8339CBC33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1° Seminario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Derecho del Trabaj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yudante: Jorge Ramón Martínez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A2C3-8DC9-4700-8DC8-77A7F71B2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DE JOUVENEL, Bertrand, “La etica de la redistribución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HAYEK, Friedrich, “El espejismo de la justicia social”, en Derecho, Legislación y Libert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05F-B886-454D-A166-9ED6CBA61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lanteamiento.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Ser humano, necesidade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ivación o trabajo, dos m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rabajo ajeno: esclavitud, servidumbre, expoliación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presión para apropiarse del trabajo aje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“Estado”, Estado Providencia o de Bienestar, cuyo instrumento es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¿Qué es el Estado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l estado es la gran ficción por la cual todo el mundo pretende vivir del trabajo ajeno” (Fréderic Bastia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59F-8348-410F-9EFA-CAE8A92F2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3000" spc="-1" strike="noStrike">
                <a:solidFill>
                  <a:srgbClr val="000000"/>
                </a:solidFill>
                <a:latin typeface="Verdana"/>
              </a:rPr>
              <a:t>En Inglaterra todos los ingresos se elevan de esta manera al tiempo que la mayoría de los ingresos sufren una reducción para financiar la elevación”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(De Jouvenel, p.47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piso y el tec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blemas con el piso: riesgo moral, su financiación = ¿impuesto a las rentas alt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61F-9958-488D-B234-EEE0E07D3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 que falta uno y sobra a otro se pierde dos veces”: estilo de vida inmo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Despilfarro, casino, ferrari, etc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define lo que es despilfarr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Pueblo = artistas de cine, deportistas, farándula = </a:t>
            </a:r>
            <a:r>
              <a:rPr b="1" lang="es-MX" sz="2300" spc="-1" strike="noStrike">
                <a:solidFill>
                  <a:srgbClr val="000000"/>
                </a:solidFill>
                <a:latin typeface="Verdana"/>
              </a:rPr>
              <a:t>“Los ricos son una creación de los pobres”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Falacia: los impuestos los pagan los ricos, ¿verticalidad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11E-C55D-48AE-9C2C-8B6505AE4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squema impositivo es un last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Los más ricos sentirán menos la pérdida de lo que los pobres apreciarán la ganancia” = ¿comparación de satisfacciones y estilos de vid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Todo el capital financia un estilo de vida “reprochable”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ién se beneficia de la acumulación de capital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Verdana"/>
              </a:rPr>
              <a:t>¿Qué ocurre cuándo se expolia el capital para redistribuirlo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06E-AFF7-440E-BC66-DF99968D5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l advenimiento del capitalismo industrial y los trabajado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Empeoró la revolución industrial la situación de los trabajad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Hacía dónde se dirigió la produc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e apropia el empresario de un excedente o “plusvalía” del trabajado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cómo se fija la retribución del trabajo en una economía lib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0A8-D6AC-4AC3-9670-D281F49EB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y las conquistas social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búsqueda de precios y salarios justos se abandonó definitivamente cuando se reconoció que sólo podía considerarse justo aquel precio “natural” que se alcanzara en un mercado competitivo sin ser determinado por ninguna ley o decreto humano…” (Hayek, p. 276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2A8-2587-4AE7-A155-586F22B00D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justicia soc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¡Gracias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B21-74B2-4AC5-9029-E55EB2E17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1-04-01T17:25:49Z</dcterms:modified>
  <cp:revision>11</cp:revision>
  <dc:subject/>
  <dc:title>Modelo </dc:title>
</cp:coreProperties>
</file>