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8D43-7B44-4351-B7A1-043D61BE4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DCA8-D720-4A1B-A980-9C7BA1407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C583-4440-4973-8359-BBA5A8338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8148-BB67-4A58-9DE3-2483B6452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72E1-B125-4AE1-BE71-6AA66CF3B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0A67-41A0-49BD-B32E-6FC6B98FE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6340-DC62-4075-A038-9F09B6F5A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5F74-AB05-4ABE-9FC3-088F8BAFC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7EBA-F9E8-43C2-A052-E49D13474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B42E-1B1A-4445-8418-7A493EC14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CC18-D049-412E-A034-716333B8A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53FC-F34F-4DF6-8237-3CA71CF5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ABB40-EA31-463C-BB76-E3A44BDBF1C1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8305920" y="304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8534520" y="304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8077320" y="304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838080" y="22860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38080" y="114300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762120" y="12193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990720" y="12193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1219320" y="12193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369160" y="380880"/>
            <a:ext cx="42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Derecho Concurs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97000" y="2438280"/>
            <a:ext cx="6039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ACTIVO CONCURS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0"/>
          <p:cNvSpPr/>
          <p:nvPr/>
        </p:nvSpPr>
        <p:spPr>
          <a:xfrm>
            <a:off x="592200" y="5229360"/>
            <a:ext cx="2733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Curso Derecho Comercial I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1er semest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Octavio Bofill Genzs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E mail obofill@bmaj.c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50560" y="2276640"/>
            <a:ext cx="88930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Bienes de terceros en poder del fall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Art. 94        inventario debe consignar pretensión de terce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Art. 98        pero terceros no pueden objetar el invent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1" lang="es-CL" sz="1800" spc="-1" strike="noStrike" u="sng">
                <a:solidFill>
                  <a:srgbClr val="000000"/>
                </a:solidFill>
                <a:uFillTx/>
                <a:latin typeface="Tahoma"/>
              </a:rPr>
              <a:t>Vías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: Restitución o exclusión de la ejec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0920" y="198108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Acciones de Recuperación y Separación de Bie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9640" y="1916280"/>
            <a:ext cx="619308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98760" y="4005360"/>
            <a:ext cx="309240" cy="215640"/>
          </a:xfrm>
          <a:custGeom>
            <a:avLst/>
            <a:gdLst>
              <a:gd name="textAreaLeft" fmla="*/ 48240 w 309240"/>
              <a:gd name="textAreaRight" fmla="*/ 270720 w 309240"/>
              <a:gd name="textAreaTop" fmla="*/ 54000 h 215640"/>
              <a:gd name="textAreaBottom" fmla="*/ 162000 h 21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19280" y="3500280"/>
            <a:ext cx="309600" cy="216000"/>
          </a:xfrm>
          <a:custGeom>
            <a:avLst/>
            <a:gdLst>
              <a:gd name="textAreaLeft" fmla="*/ 48240 w 309600"/>
              <a:gd name="textAreaRight" fmla="*/ 271080 w 3096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14560" y="33336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ACCIONES DE RECUPERACION Y SEPARAC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44720" y="1628640"/>
            <a:ext cx="70768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cciones de restitución reales, reivindicatorias y poseso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7840" y="2133720"/>
            <a:ext cx="8426520" cy="14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400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Reivindicación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rt. 85          Sigue reglas generales, en tribunal quiebra, contra sínd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pone fallido poseedor (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≠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tenencia) y por ende reputado dueñ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050920" y="2709720"/>
            <a:ext cx="289080" cy="142920"/>
          </a:xfrm>
          <a:custGeom>
            <a:avLst/>
            <a:gdLst>
              <a:gd name="textAreaLeft" fmla="*/ 45000 w 289080"/>
              <a:gd name="textAreaRight" fmla="*/ 253080 w 28908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906560" y="2924280"/>
            <a:ext cx="289080" cy="142920"/>
          </a:xfrm>
          <a:custGeom>
            <a:avLst/>
            <a:gdLst>
              <a:gd name="textAreaLeft" fmla="*/ 45000 w 289080"/>
              <a:gd name="textAreaRight" fmla="*/ 253080 w 28908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08000" y="3716280"/>
            <a:ext cx="90723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400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Reivindicatorias especiales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(¿Reivindicatorias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rt. 82        Título de crédito en poder del fallido que reconoce dominio ajeno, antes de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                su  pa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misión de cobranza </a:t>
            </a:r>
            <a:r>
              <a:rPr b="1" lang="es-CL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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mandato al deudor expi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rt. 83        Mercaderías, entregadas, identificables, reconoce dominio aje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835280" y="5589720"/>
            <a:ext cx="288720" cy="142920"/>
          </a:xfrm>
          <a:custGeom>
            <a:avLst/>
            <a:gdLst>
              <a:gd name="textAreaLeft" fmla="*/ 45000 w 288720"/>
              <a:gd name="textAreaRight" fmla="*/ 252720 w 28872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08000" y="4365720"/>
            <a:ext cx="289080" cy="142920"/>
          </a:xfrm>
          <a:custGeom>
            <a:avLst/>
            <a:gdLst>
              <a:gd name="textAreaLeft" fmla="*/ 45000 w 289080"/>
              <a:gd name="textAreaRight" fmla="*/ 253080 w 28908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14560" y="33336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ACCIONES DE RECUPERACION Y SEPARAC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1280" y="1484280"/>
            <a:ext cx="9648720" cy="23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400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Trámite Reivindicatorias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Juicio ordinario Art. 8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Interdictos posesor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rt. 70        Reconoce el D° a tercero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nte tribunal competente reglas generales (# acumulació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330200" y="2060640"/>
            <a:ext cx="289080" cy="142920"/>
          </a:xfrm>
          <a:custGeom>
            <a:avLst/>
            <a:gdLst>
              <a:gd name="textAreaLeft" fmla="*/ 45000 w 289080"/>
              <a:gd name="textAreaRight" fmla="*/ 253080 w 28908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03280" y="3068640"/>
            <a:ext cx="289080" cy="142920"/>
          </a:xfrm>
          <a:custGeom>
            <a:avLst/>
            <a:gdLst>
              <a:gd name="textAreaLeft" fmla="*/ 45000 w 289080"/>
              <a:gd name="textAreaRight" fmla="*/ 253080 w 28908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8000" y="4797360"/>
            <a:ext cx="10009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allido mero tenedor (        reivindicatoria = poseedor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jercicio acciones contrato respectivo, ante juez quiebra, salvo terminación arrendamien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puesto el término del contrato respecti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987640" y="4941720"/>
            <a:ext cx="360360" cy="142920"/>
          </a:xfrm>
          <a:prstGeom prst="leftRightArrow">
            <a:avLst>
              <a:gd name="adj1" fmla="val 50000"/>
              <a:gd name="adj2" fmla="val 50195"/>
            </a:avLst>
          </a:prstGeom>
          <a:solidFill>
            <a:srgbClr val="b23002"/>
          </a:solidFill>
          <a:ln w="9360">
            <a:solidFill>
              <a:srgbClr val="d238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14560" y="33336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ACCIONES DE RECUPERACION Y SEPARAC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01080" y="4005360"/>
            <a:ext cx="4347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cciones personales de restit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58160" y="1628640"/>
            <a:ext cx="1448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3. Tercerí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9280" y="2349360"/>
            <a:ext cx="66787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112680">
              <a:lnSpc>
                <a:spcPct val="80000"/>
              </a:lnSpc>
              <a:spcBef>
                <a:spcPts val="400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ff"/>
                </a:solidFill>
                <a:latin typeface="Tahoma"/>
              </a:rPr>
              <a:t>        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Objeto              ¿Declarar domini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¿Recuperar domini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¿De ella deriva acción restitutori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¿Evitar el embargo general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8000" y="3549600"/>
            <a:ext cx="5645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25320">
              <a:lnSpc>
                <a:spcPct val="80000"/>
              </a:lnSpc>
              <a:spcBef>
                <a:spcPts val="400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ff"/>
                </a:solidFill>
                <a:latin typeface="Tahoma"/>
              </a:rPr>
              <a:t>     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Tramitación        ¿Incidente ?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53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¿Proceso autónom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1280" y="4437000"/>
            <a:ext cx="7056360" cy="18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80000"/>
              </a:lnSpc>
              <a:spcBef>
                <a:spcPts val="400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rt.</a:t>
            </a:r>
            <a:r>
              <a:rPr b="0" lang="es-CL" sz="16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85 pendiente la declaratori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ntinúa tramitación, acumulándo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entido, si hubo alzamiento automático del embargo? Pero,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ntinúa desapodera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58920" y="5013360"/>
            <a:ext cx="288720" cy="142920"/>
          </a:xfrm>
          <a:custGeom>
            <a:avLst/>
            <a:gdLst>
              <a:gd name="textAreaLeft" fmla="*/ 45000 w 288720"/>
              <a:gd name="textAreaRight" fmla="*/ 252720 w 28872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258920" y="5229360"/>
            <a:ext cx="288720" cy="142920"/>
          </a:xfrm>
          <a:custGeom>
            <a:avLst/>
            <a:gdLst>
              <a:gd name="textAreaLeft" fmla="*/ 45000 w 288720"/>
              <a:gd name="textAreaRight" fmla="*/ 252720 w 28872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14560" y="33336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ACCIONES DE RECUPERACION Y SEPARAC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58160" y="1628640"/>
            <a:ext cx="1448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3. Tercerí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9640" y="2421000"/>
            <a:ext cx="4572000" cy="7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400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Interposición posterior a la declarato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26920" y="2811600"/>
            <a:ext cx="799308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Inadmisible, porque terceros no son admitidos a la quiebra salvo casos explíci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dmisible, porque nada lo nieg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¿Procedimient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03280" y="2924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03280" y="3645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03280" y="4076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00000" y="4324320"/>
            <a:ext cx="817272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rt. 521 CPC          Ordinario sin replica ni dupl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rt. 5 LQ Incid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rt. 680 CPC Sum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708360" y="4365720"/>
            <a:ext cx="289080" cy="142920"/>
          </a:xfrm>
          <a:custGeom>
            <a:avLst/>
            <a:gdLst>
              <a:gd name="textAreaLeft" fmla="*/ 45000 w 289080"/>
              <a:gd name="textAreaRight" fmla="*/ 253080 w 28908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14560" y="33336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ACCIONES DE RECUPERACION Y SEPARAC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41080" y="1820880"/>
            <a:ext cx="33307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4. Restitución Administr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00000" y="2567160"/>
            <a:ext cx="6767640" cy="17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¿Puede el síndico?  ¿Es facultad de disposición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¿Antes o después del inventari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¿Puede la Junta de Acreedor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14560" y="33336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ACCIONES DE RECUPERACION Y SEPARAC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16000" y="2924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16000" y="342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114560" y="3933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94920" y="2852640"/>
            <a:ext cx="28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cción Pauliana Civ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2560" y="3330720"/>
            <a:ext cx="8353440" cy="29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¿misma acción que revocatorias concursal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otegen igualdad acreedores, inoponibilidad es su san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lgunos ven fundamentos distintos pero objetos simila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erjuicio acree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s-CL" sz="1800" spc="-1" strike="noStrike">
                <a:solidFill>
                  <a:srgbClr val="000000"/>
                </a:solidFill>
                <a:latin typeface="Tahoma"/>
              </a:rPr>
              <a:t>mala fe: conocimiento mal estado nego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nriquecimiento injusto en actos gratui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auliana civil es acción subsidiaria de inoponibilidad a revocatorias concursales (7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4360" y="342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4360" y="3933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4360" y="4437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4360" y="57340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14560" y="33336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ACCIONES DE INTEGRACION PATRIMON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9880" y="1440000"/>
            <a:ext cx="209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Ref. Bienes Pas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2240" y="1727280"/>
            <a:ext cx="6838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cción Pauliana Civil, Pauliana Supletoria en Quiebra y revocatorias concurs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cciones de inoponibilidad y no de nu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cciones person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cciones de ineficacia, ni restitutorias ni indemnizator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79840" y="2205000"/>
            <a:ext cx="81054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ólo existe si hay quieb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or actos previos a la Quiebra (ex post: inoponibilidad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¿descansan en la par condictio? ¿enriquecimiento injusto?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¿responsabilidad fiduciaria con los acreedor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¿hay ilicitud en el acto revocado? o ¿sólo un atentado contra la par condicitio?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anción ¿nulidad o inoponibilidad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ituación objetiva vs. subjetividad de la acción paulia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0720" y="1700280"/>
            <a:ext cx="343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Revocatoria Concur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16000" y="2421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116000" y="2924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116000" y="342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16000" y="3933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116000" y="4437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16000" y="5084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114560" y="33336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ACCIONES DE INTEGRACION PATRIMON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7800" y="2130480"/>
            <a:ext cx="402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Pauliana Civil, proced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109520" y="2708280"/>
            <a:ext cx="134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2468 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258920" y="2852640"/>
            <a:ext cx="288720" cy="142920"/>
          </a:xfrm>
          <a:custGeom>
            <a:avLst/>
            <a:gdLst>
              <a:gd name="textAreaLeft" fmla="*/ 45000 w 288720"/>
              <a:gd name="textAreaRight" fmla="*/ 252720 w 28872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7080" y="3200400"/>
            <a:ext cx="6281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Tahoma"/>
              </a:rPr>
              <a:t>Ejercida por acree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¿supone el concurs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¿requiere título ejecutiv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¿Acreedor posterior al acto impugnado?,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Beneficia sólo al acreedor demand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/>
          <p:nvPr/>
        </p:nvCxnSpPr>
        <p:spPr>
          <a:xfrm flipH="1" rot="16200000">
            <a:off x="1298520" y="4426200"/>
            <a:ext cx="311760" cy="90684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cxnSp>
        <p:nvCxnSpPr>
          <p:cNvPr id="190" name=""/>
          <p:cNvCxnSpPr/>
          <p:nvPr/>
        </p:nvCxnSpPr>
        <p:spPr>
          <a:xfrm flipH="1" rot="16200000">
            <a:off x="1298520" y="4980240"/>
            <a:ext cx="311760" cy="90684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191" name=""/>
          <p:cNvSpPr/>
          <p:nvPr/>
        </p:nvSpPr>
        <p:spPr>
          <a:xfrm>
            <a:off x="755640" y="3933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55640" y="4365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114560" y="33336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ACCIONES DE INTEGRACION PATRIMON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7800" y="1938240"/>
            <a:ext cx="402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Pauliana Civil, proced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9640" y="2525760"/>
            <a:ext cx="597708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Tahoma"/>
              </a:rPr>
              <a:t>Pretende ineficacia de acto juríd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41720" y="2916360"/>
            <a:ext cx="5071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≠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to material (ocultamiento de bienes por ej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evio al concurs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11280" y="33098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11280" y="38131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8200" y="4222800"/>
            <a:ext cx="44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Tahoma"/>
              </a:rPr>
              <a:t>Perjudica acreedores</a:t>
            </a:r>
            <a:r>
              <a:rPr b="1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14800" y="4892760"/>
            <a:ext cx="7354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uede ser buen o mal negocio, pero no debe afectar a los acreedore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o debe agravar la insolvencia (ej. Factor de liquide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11280" y="5084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114560" y="33336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ACCIONES DE INTEGRACION PATRIMON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369160" y="380880"/>
            <a:ext cx="42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Derecho Concurs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97000" y="1557360"/>
            <a:ext cx="6039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1628640"/>
            <a:ext cx="8280360" cy="35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333399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333399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99"/>
                </a:solidFill>
                <a:latin typeface="Tahoma"/>
              </a:rPr>
              <a:t>ACTIVO DE HECHO Y DE DERECHO. CONCEPTOS GENER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333399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99"/>
                </a:solidFill>
                <a:latin typeface="Tahoma"/>
              </a:rPr>
              <a:t>ACTIVO DE DERECHO. CONCEPTOS GENER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333399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99"/>
                </a:solidFill>
                <a:latin typeface="Tahoma"/>
              </a:rPr>
              <a:t>ACTIVO DE DERECHO. INVENTA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333399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99"/>
                </a:solidFill>
                <a:latin typeface="Tahoma"/>
              </a:rPr>
              <a:t>ACTIVO DE HECHO. INCAUTAC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333399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99"/>
                </a:solidFill>
                <a:latin typeface="Tahoma"/>
              </a:rPr>
              <a:t>ACTIVO DEL CONCURSO. ACCIONES DE RECUPERACION Y SEPARAC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333399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99"/>
                </a:solidFill>
                <a:latin typeface="Tahoma"/>
              </a:rPr>
              <a:t>ACTIVO DEL CONCURSO. ACCIONES DE INTEGRACION PATRIMON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333399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99"/>
                </a:solidFill>
                <a:latin typeface="Tahoma"/>
              </a:rPr>
              <a:t>ACTIVO DEL CONCURSO. REALIZACION DE LOS BIE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333399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86480" y="1773360"/>
            <a:ext cx="86540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nocimiento mal E° negocios deudor (consilium fraudis) y tercero en acto oneroso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l momento ejecución acto (participatio fraudis)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¿VIGENCIA ACTU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L MAL ESTAD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aber del mal E°, ¿es realmente un fraude paulian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opio de acción pauliana civil 2468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ción pauliana supletoria: Arts. 75 presunción conocimien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55640" y="155736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Tahoma"/>
              </a:rPr>
              <a:t>Con fraude pauli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0920" y="23558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0920" y="2924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50920" y="35082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55640" y="3906720"/>
            <a:ext cx="70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Tahoma"/>
              </a:rPr>
              <a:t>Es supletoria a revocatoria concur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5280" y="4221000"/>
            <a:ext cx="80168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 modo que aplic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uando no hay revocatoria especial que apliqu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i ataca actos fuera del período sospechoso especial de cada revocatoria concurs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iempre con deudor no calific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4000" y="49370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4000" y="54421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24000" y="6093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435640" y="2565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114560" y="33336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ACCIONES DE INTEGRACION PATRIMON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39640" y="167796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800" spc="-1" strike="noStrike" u="sng">
                <a:solidFill>
                  <a:srgbClr val="000000"/>
                </a:solidFill>
                <a:uFillTx/>
                <a:latin typeface="Tahoma"/>
              </a:rPr>
              <a:t>Revocatoria Concur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84360" y="2046240"/>
            <a:ext cx="907236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reedor puede ser posterior al acto impugn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 ser exitosa, beneficia a </a:t>
            </a:r>
            <a:r>
              <a:rPr b="0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todos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los acree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uevo acreedor: el sínd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o se plantea duda del título ejecuti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e refiere a actos anteriores a la apertura de la Quiebr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xcepción 215 y 216: entre aprobación y nulidad convenio: r. grale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i segunda quiebra: revocatorias concursales (convenio alzatorio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Muchas veces la ejecución del acto presupone un perjuicio a acreedor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(se da por cumplido requerimiento de acción pauliana civi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24000" y="22636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4000" y="26956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4000" y="32004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4000" y="4221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4920" y="4730760"/>
            <a:ext cx="89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0920" y="5627520"/>
            <a:ext cx="680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or lo que se protege la par condictio por sobre to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50920" y="5613480"/>
            <a:ext cx="680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o hay real consideración del fraude paulian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24000" y="3716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4000" y="5805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24000" y="5157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14560" y="33336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ACCIONES DE INTEGRACION PATRIMON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24000" y="1609560"/>
            <a:ext cx="7920000" cy="62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auliana Civil subsidiaria en quieb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plicables a todo deud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plicables a deudores calificados, más objetivas y expedi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vocatorias de actos a título gratuito o de beneficio gratuito 74 - 7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eríodo sospechoso más lar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Mayor expedición de la a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Inoponibilidad de derec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vocatorias de actos onerosos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articipatio fraud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Inoponibilidad facultativa “podrá” 77 - 7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ólo calific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66560" y="2781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66560" y="328464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66560" y="227664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4920" y="4730760"/>
            <a:ext cx="89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50920" y="5627520"/>
            <a:ext cx="680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8360" y="5013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55640" y="2125800"/>
            <a:ext cx="79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-178920" y="1549440"/>
            <a:ext cx="54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333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Clases de Revocatorias Concurs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68360" y="3789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114560" y="33336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ACCIONES DE INTEGRACION PATRIMON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96720" y="1557360"/>
            <a:ext cx="33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noponibilidad forz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39640" y="2205000"/>
            <a:ext cx="597708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Artículos 74, 76; actos gratui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34600" y="4508640"/>
            <a:ext cx="459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Juez no está obligado a acoger demand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547640" y="472428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26920" y="1484280"/>
            <a:ext cx="576108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39640" y="2573280"/>
            <a:ext cx="78487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Juez 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NO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 tiene discreción, debe declarar revo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314172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noponibilidad discre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26920" y="3068640"/>
            <a:ext cx="648180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39640" y="3797280"/>
            <a:ext cx="597708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Artículos 77, 78; actos onero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9640" y="408636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Posiciones en cuanto a la facult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378440" y="4892760"/>
            <a:ext cx="553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Juez no debe fallar conforme al mérito del proces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423800" y="5229360"/>
            <a:ext cx="229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quisitos a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59360" y="5540400"/>
            <a:ext cx="583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Juez es soberano para apreciar la mala fe de tercero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405800" y="5877000"/>
            <a:ext cx="413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Juez opera de acuerdo a la equidad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547640" y="508464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547640" y="537372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547640" y="573408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547640" y="6021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706920" y="5302080"/>
            <a:ext cx="288720" cy="142920"/>
          </a:xfrm>
          <a:custGeom>
            <a:avLst/>
            <a:gdLst>
              <a:gd name="textAreaLeft" fmla="*/ 45000 w 288720"/>
              <a:gd name="textAreaRight" fmla="*/ 252720 w 28872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511080" y="5229360"/>
            <a:ext cx="390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uevos antecedentes ilustrativo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14560" y="33336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ACCIONES DE INTEGRACION PATRIMON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71080" y="1487520"/>
            <a:ext cx="319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eríodo sospecho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66560" y="1925640"/>
            <a:ext cx="8066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termina alcance de revocatorias concursales (hasta apertura de la quiebr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258920" y="2565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8360" y="3357720"/>
            <a:ext cx="44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Tahoma"/>
              </a:rPr>
              <a:t>Objetiv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707840" y="3357720"/>
            <a:ext cx="728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uándo se tomó conocimiento del estado de insolvencia que afectab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l deudor (Teorías y su relación con concepto de insolvenci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921960" y="2349360"/>
            <a:ext cx="121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08640" y="2732040"/>
            <a:ext cx="14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spu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258920" y="2925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340000" y="2854440"/>
            <a:ext cx="289080" cy="142920"/>
          </a:xfrm>
          <a:custGeom>
            <a:avLst/>
            <a:gdLst>
              <a:gd name="textAreaLeft" fmla="*/ 45000 w 289080"/>
              <a:gd name="textAreaRight" fmla="*/ 253080 w 28908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338560" y="2421000"/>
            <a:ext cx="288720" cy="142920"/>
          </a:xfrm>
          <a:custGeom>
            <a:avLst/>
            <a:gdLst>
              <a:gd name="textAreaLeft" fmla="*/ 45000 w 288720"/>
              <a:gd name="textAreaRight" fmla="*/ 252720 w 28872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232720" y="230040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auliana civ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136600" y="2805120"/>
            <a:ext cx="205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inoponibi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68360" y="3998880"/>
            <a:ext cx="44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Tahoma"/>
              </a:rPr>
              <a:t>Reglas Proces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091160" y="4433760"/>
            <a:ext cx="336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opuesta síndico al tribu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117800" y="4749840"/>
            <a:ext cx="269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otificación por avi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051200" y="5110200"/>
            <a:ext cx="526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allido, acreedores, terceros objetan y propo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134000" y="5470560"/>
            <a:ext cx="151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incid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017360" y="5829480"/>
            <a:ext cx="507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Juez fija, notifica por aviso, apelable devoluti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403280" y="4581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403280" y="4941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403280" y="53020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403280" y="56624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403280" y="60228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114560" y="33336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ACCIONES DE INTEGRACION PATRIMON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68360" y="1989000"/>
            <a:ext cx="44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Tahoma"/>
              </a:rPr>
              <a:t>Fecha de la Cesación de Pa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085040" y="2424240"/>
            <a:ext cx="462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udor común: 1° título ejecutivo exig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037160" y="2739960"/>
            <a:ext cx="632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udor calificado: juez, no más de dos años desde aper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049760" y="3100320"/>
            <a:ext cx="484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sos particulares, revocatorias concurs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403280" y="25718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403280" y="29322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403280" y="32925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1080" y="1487520"/>
            <a:ext cx="319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eríodo sospecho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114560" y="33336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ACCIONES DE INTEGRACION PATRIMON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24000" y="1677960"/>
            <a:ext cx="66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2000" spc="-1" strike="noStrike" u="sng">
                <a:solidFill>
                  <a:srgbClr val="000000"/>
                </a:solidFill>
                <a:uFillTx/>
                <a:latin typeface="Tahoma"/>
              </a:rPr>
              <a:t>Acciones Revocatorias Concursales Particul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-36360" y="2197080"/>
            <a:ext cx="9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Acciones Revocatorias Destinadas a Revocar Actos a Título Gratuito o Asimil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092240" y="2631960"/>
            <a:ext cx="573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vocatoria de actos a título gratuito propiamente 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122120" y="2948040"/>
            <a:ext cx="454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vocatoria contra los pagos anticip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144440" y="3308400"/>
            <a:ext cx="417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vocatoria contra la dación en pa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460520" y="27795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460520" y="31399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460520" y="3500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081080" y="3668760"/>
            <a:ext cx="627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vocatoria contra garantías reales sobre bienes del falli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474920" y="386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-36360" y="4221000"/>
            <a:ext cx="9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Acciones Revocatorias Destinadas a Revocar Actos a Título Oneroso o Asimil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200960" y="4648320"/>
            <a:ext cx="52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vocatoria de actos a título oneroso en gene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214280" y="4964040"/>
            <a:ext cx="43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vocatoria de ciertas compensa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171800" y="5324400"/>
            <a:ext cx="631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vocatoria de ciertos pagos de letras de cambio o pagar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547640" y="479592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547640" y="515628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547640" y="551664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199520" y="5684760"/>
            <a:ext cx="520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vocación de ciertas inscripciones hipotecar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562040" y="5877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114560" y="33336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ACCIONES DE INTEGRACION PATRIMON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68360" y="1628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800" spc="-1" strike="noStrike" u="sng">
                <a:solidFill>
                  <a:srgbClr val="000000"/>
                </a:solidFill>
                <a:uFillTx/>
                <a:latin typeface="Tahoma"/>
              </a:rPr>
              <a:t>Acción revocatoria contra actos a título gratuito (Art. 7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332000" y="21384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94680" y="1946160"/>
            <a:ext cx="641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ocede contra cualquier tipo de deudor:  común y calific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971640" y="2306520"/>
            <a:ext cx="53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o exige la concurrencia de elementos subje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156360" y="2427120"/>
            <a:ext cx="288720" cy="142920"/>
          </a:xfrm>
          <a:custGeom>
            <a:avLst/>
            <a:gdLst>
              <a:gd name="textAreaLeft" fmla="*/ 45000 w 288720"/>
              <a:gd name="textAreaRight" fmla="*/ 252720 w 28872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012000" y="2349360"/>
            <a:ext cx="280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i consilium fraud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i participatio fraud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332000" y="24987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332000" y="30751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332000" y="35784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116000" y="2930400"/>
            <a:ext cx="669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e trata de una inoponibilidad de derec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116000" y="3435480"/>
            <a:ext cx="669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eríodo Sospecho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3" name=""/>
          <p:cNvCxnSpPr/>
          <p:nvPr/>
        </p:nvCxnSpPr>
        <p:spPr>
          <a:xfrm flipH="1" rot="16200000">
            <a:off x="2205720" y="349776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334" name=""/>
          <p:cNvSpPr/>
          <p:nvPr/>
        </p:nvSpPr>
        <p:spPr>
          <a:xfrm>
            <a:off x="2413080" y="3890880"/>
            <a:ext cx="669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10 días anteriores a la fecha de cesación de pago hasta el día de la declaratoria de quieb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5" name=""/>
          <p:cNvCxnSpPr/>
          <p:nvPr/>
        </p:nvCxnSpPr>
        <p:spPr>
          <a:xfrm flipH="1" rot="16200000">
            <a:off x="2205720" y="404964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2411280" y="4443480"/>
            <a:ext cx="6696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or excepción se extiende desde 120 días anteriores a la fecha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esación de pago, en el caso que beneficiario sea pariente has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uarto gr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189080" y="5307120"/>
            <a:ext cx="795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a ley no asimila a un acto gratuito, los actos onerosos en que existe una gran diferencia entre las prestaciones recíprocas de las par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332000" y="54514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006560" y="860400"/>
            <a:ext cx="911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114560" y="33336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ACCIONES DE INTEGRACION PATRIMON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39640" y="13334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800" spc="-1" strike="noStrike" u="sng">
                <a:solidFill>
                  <a:srgbClr val="000000"/>
                </a:solidFill>
                <a:uFillTx/>
                <a:latin typeface="Tahoma"/>
              </a:rPr>
              <a:t>Acción revocatoria contra pagos anticipados (Art. 76 N°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332000" y="21747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984240" y="1982880"/>
            <a:ext cx="669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ocede contra deudor calificado; deudor común:  pauliana civ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971640" y="2343240"/>
            <a:ext cx="53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o exige la concurrencia de elementos subje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156360" y="2463840"/>
            <a:ext cx="288720" cy="142920"/>
          </a:xfrm>
          <a:custGeom>
            <a:avLst/>
            <a:gdLst>
              <a:gd name="textAreaLeft" fmla="*/ 45000 w 288720"/>
              <a:gd name="textAreaRight" fmla="*/ 252720 w 28872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012000" y="2386080"/>
            <a:ext cx="280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i consilium fraud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i participatio fraud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332000" y="25351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332000" y="31114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332000" y="36147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116000" y="2967120"/>
            <a:ext cx="669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e trata de una inoponibilidad de derec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116000" y="3471840"/>
            <a:ext cx="669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eríodo Sospecho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3" name=""/>
          <p:cNvCxnSpPr/>
          <p:nvPr/>
        </p:nvCxnSpPr>
        <p:spPr>
          <a:xfrm flipH="1" rot="16200000">
            <a:off x="2205720" y="353412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354" name=""/>
          <p:cNvSpPr/>
          <p:nvPr/>
        </p:nvSpPr>
        <p:spPr>
          <a:xfrm>
            <a:off x="2413080" y="3927600"/>
            <a:ext cx="669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10 días anteriores a la fecha de cesación de pago hasta el día de la declaratoria de quieb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189080" y="4479840"/>
            <a:ext cx="795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a fecha de vencimiento de la obligación cuyo pago se anticipa puede corresponder a una fecha anterior o posterior a la declaratoria de quieb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332000" y="46245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7" name=""/>
          <p:cNvCxnSpPr/>
          <p:nvPr/>
        </p:nvCxnSpPr>
        <p:spPr>
          <a:xfrm flipH="1" rot="16200000">
            <a:off x="2205720" y="473436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358" name=""/>
          <p:cNvSpPr/>
          <p:nvPr/>
        </p:nvSpPr>
        <p:spPr>
          <a:xfrm>
            <a:off x="2340000" y="5127480"/>
            <a:ext cx="669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Otras legislaciones sólo obligaciones que vencían con posterioridad a la apertura de la quieb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154160" y="5727600"/>
            <a:ext cx="795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a ley asimila al pago anticipado el descuento de efectos de comercio o facturas de su carg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523280" y="1701720"/>
            <a:ext cx="1512720" cy="432000"/>
          </a:xfrm>
          <a:prstGeom prst="wedgeRectCallout">
            <a:avLst>
              <a:gd name="adj1" fmla="val -44226"/>
              <a:gd name="adj2" fmla="val 698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483320" y="1676520"/>
            <a:ext cx="198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Presunción de ma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fe del deudor 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114560" y="33336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ACCIONES DE INTEGRACION PATRIMON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26920" y="461880"/>
            <a:ext cx="6553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68360" y="140652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800" spc="-1" strike="noStrike" u="sng">
                <a:solidFill>
                  <a:srgbClr val="000000"/>
                </a:solidFill>
                <a:uFillTx/>
                <a:latin typeface="Tahoma"/>
              </a:rPr>
              <a:t>Acción revocatoria contra daciones en pago (Art. 76 N°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042920" y="24685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95520" y="2276640"/>
            <a:ext cx="669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ocede contra deudor calificado; deudor común:  pauliana civ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82560" y="2637000"/>
            <a:ext cx="53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o exige la concurrencia de elementos subje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867280" y="2757600"/>
            <a:ext cx="289080" cy="142920"/>
          </a:xfrm>
          <a:custGeom>
            <a:avLst/>
            <a:gdLst>
              <a:gd name="textAreaLeft" fmla="*/ 45000 w 289080"/>
              <a:gd name="textAreaRight" fmla="*/ 253080 w 28908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722920" y="2679840"/>
            <a:ext cx="280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i consilium fraud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i participatio fraud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042920" y="28288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042920" y="34052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042920" y="39085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826920" y="3260880"/>
            <a:ext cx="669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e trata de una inoponibilidad de derec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826920" y="3765600"/>
            <a:ext cx="669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eríodo Sospecho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7" name=""/>
          <p:cNvCxnSpPr/>
          <p:nvPr/>
        </p:nvCxnSpPr>
        <p:spPr>
          <a:xfrm flipH="1" rot="16200000">
            <a:off x="1917000" y="382788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378" name=""/>
          <p:cNvSpPr/>
          <p:nvPr/>
        </p:nvSpPr>
        <p:spPr>
          <a:xfrm>
            <a:off x="2124000" y="4221000"/>
            <a:ext cx="669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10 días anteriores a la fecha de cesación de pago hasta el día de la declaratoria de quieb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900000" y="4935600"/>
            <a:ext cx="795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e trata de obligaciones de dinero que el fallido soluciona con especies distintas del dinero o de los efectos de comer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042920" y="50799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7132680" y="1844640"/>
            <a:ext cx="1512720" cy="432000"/>
          </a:xfrm>
          <a:prstGeom prst="wedgeRectCallout">
            <a:avLst>
              <a:gd name="adj1" fmla="val -44226"/>
              <a:gd name="adj2" fmla="val 698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093080" y="1819440"/>
            <a:ext cx="1984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Presunción de ma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fe del deudor 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114560" y="33336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ACCIONES DE INTEGRACION PATRIMON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250560" y="620280"/>
            <a:ext cx="88930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Contraste entre la apariencia y la re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Normas buscan la realidad: bienes de la m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42/175 indicación bienes prop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27 N° 2 3,4,5 y 7  /  94 inc. 1° atribuciones Sínd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Pero la realidad del proceso es la que pr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Métodos para determinar la realidad vs. la apari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indefinidos, pero ley define algun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incautación, administración bienes pres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invent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/>
          <p:nvPr/>
        </p:nvCxnSpPr>
        <p:spPr>
          <a:xfrm flipH="1" rot="16200000">
            <a:off x="982080" y="248328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cxnSp>
        <p:nvCxnSpPr>
          <p:cNvPr id="63" name=""/>
          <p:cNvCxnSpPr/>
          <p:nvPr/>
        </p:nvCxnSpPr>
        <p:spPr>
          <a:xfrm flipH="1" rot="16200000">
            <a:off x="982080" y="277164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1114560" y="33336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 Hecho y de Dere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CONCEPTOS GENER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826920" y="461880"/>
            <a:ext cx="6553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68360" y="140652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800" spc="-1" strike="noStrike" u="sng">
                <a:solidFill>
                  <a:srgbClr val="000000"/>
                </a:solidFill>
                <a:uFillTx/>
                <a:latin typeface="Tahoma"/>
              </a:rPr>
              <a:t>Acción revocatoria contra garantías reales para obligaciones preexistentes (Art. 76 N°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332000" y="23972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984240" y="2205000"/>
            <a:ext cx="669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ocede contra deudor calificado; deudor común:  pauliana civ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971640" y="2565360"/>
            <a:ext cx="53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o exige la concurrencia de elementos subje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156360" y="2685960"/>
            <a:ext cx="288720" cy="142920"/>
          </a:xfrm>
          <a:custGeom>
            <a:avLst/>
            <a:gdLst>
              <a:gd name="textAreaLeft" fmla="*/ 45000 w 288720"/>
              <a:gd name="textAreaRight" fmla="*/ 252720 w 28872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012000" y="2608200"/>
            <a:ext cx="280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i consilium fraud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i participatio fraud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332000" y="27576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332000" y="33336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332000" y="38368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116000" y="3189240"/>
            <a:ext cx="669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e trata de una inoponibilidad de derec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116000" y="3693960"/>
            <a:ext cx="669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eríodo Sospecho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8" name=""/>
          <p:cNvCxnSpPr/>
          <p:nvPr/>
        </p:nvCxnSpPr>
        <p:spPr>
          <a:xfrm flipH="1" rot="16200000">
            <a:off x="2205720" y="375588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399" name=""/>
          <p:cNvSpPr/>
          <p:nvPr/>
        </p:nvSpPr>
        <p:spPr>
          <a:xfrm>
            <a:off x="2413080" y="4149720"/>
            <a:ext cx="669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10 días anteriores a la fecha de cesación de pago hasta el día de la declaratoria de quieb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189080" y="4863960"/>
            <a:ext cx="795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pone otorgar garantías reales (prenda e hipoteca) sobre bienes del fallido para caucionar obligaciones preexist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332000" y="50086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2" name=""/>
          <p:cNvCxnSpPr/>
          <p:nvPr/>
        </p:nvCxnSpPr>
        <p:spPr>
          <a:xfrm flipH="1" rot="16200000">
            <a:off x="2205720" y="512496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403" name=""/>
          <p:cNvSpPr/>
          <p:nvPr/>
        </p:nvSpPr>
        <p:spPr>
          <a:xfrm>
            <a:off x="2340000" y="5445000"/>
            <a:ext cx="669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i la garantía se constituye junto con adquirirse la obligación por el deudor, no procede este acción revocatoria, habría que recurrir a las acciones especiales del art. 77 y 7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451640" y="1844640"/>
            <a:ext cx="1513080" cy="432000"/>
          </a:xfrm>
          <a:prstGeom prst="wedgeRectCallout">
            <a:avLst>
              <a:gd name="adj1" fmla="val -44226"/>
              <a:gd name="adj2" fmla="val 698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412040" y="1819440"/>
            <a:ext cx="1984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Presunción de ma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fe del deudor 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114560" y="33336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ACCIONES DE INTEGRACION PATRIMON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68360" y="140652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800" spc="-1" strike="noStrike" u="sng">
                <a:solidFill>
                  <a:srgbClr val="000000"/>
                </a:solidFill>
                <a:uFillTx/>
                <a:latin typeface="Tahoma"/>
              </a:rPr>
              <a:t>Acción revocatoria contra actos a título oneroso en gen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332000" y="23972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984240" y="2205000"/>
            <a:ext cx="669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ocede contra deudor calificado; deudor común:  pauliana civ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986040" y="2565360"/>
            <a:ext cx="502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xige la concurrencia de elementos subje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867280" y="2685960"/>
            <a:ext cx="289080" cy="142920"/>
          </a:xfrm>
          <a:custGeom>
            <a:avLst/>
            <a:gdLst>
              <a:gd name="textAreaLeft" fmla="*/ 45000 w 289080"/>
              <a:gd name="textAreaRight" fmla="*/ 253080 w 28908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724360" y="2565360"/>
            <a:ext cx="28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articipatio fraud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332000" y="27576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332000" y="3141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332000" y="3500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116000" y="2948040"/>
            <a:ext cx="669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e trata de una inoponibilidad facultat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116000" y="3357720"/>
            <a:ext cx="669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eríodo Sospecho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1" name=""/>
          <p:cNvCxnSpPr/>
          <p:nvPr/>
        </p:nvCxnSpPr>
        <p:spPr>
          <a:xfrm flipH="1" rot="16200000">
            <a:off x="2205720" y="342000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422" name=""/>
          <p:cNvSpPr/>
          <p:nvPr/>
        </p:nvSpPr>
        <p:spPr>
          <a:xfrm>
            <a:off x="2413080" y="3813120"/>
            <a:ext cx="669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 contar de la fecha de cesación de pago hasta el día de la declaratoria de quieb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87280" y="4503600"/>
            <a:ext cx="795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nsidera cualquier acto o contrato a título oneroso e incluso los pagos no considerados en el art. 76 N°1 (pagos anticipad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330200" y="464832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451640" y="1844640"/>
            <a:ext cx="1513080" cy="432000"/>
          </a:xfrm>
          <a:prstGeom prst="wedgeRectCallout">
            <a:avLst>
              <a:gd name="adj1" fmla="val -44226"/>
              <a:gd name="adj2" fmla="val 698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412040" y="1819440"/>
            <a:ext cx="1984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Presunción de ma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fe del deudor 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09308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796000" y="3068640"/>
            <a:ext cx="669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nocimiento de 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esación de pa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114560" y="33336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ACCIONES DE INTEGRACION PATRIMON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68360" y="140652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800" spc="-1" strike="noStrike" u="sng">
                <a:solidFill>
                  <a:srgbClr val="000000"/>
                </a:solidFill>
                <a:uFillTx/>
                <a:latin typeface="Tahoma"/>
              </a:rPr>
              <a:t>Revocación de ciertas compensaciones (Art. 7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332000" y="23972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984240" y="2205000"/>
            <a:ext cx="669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ocede contra deudor calificado; deudor común:  pauliana civ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986040" y="2565360"/>
            <a:ext cx="502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xige la concurrencia de elementos subje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867280" y="2685960"/>
            <a:ext cx="289080" cy="142920"/>
          </a:xfrm>
          <a:custGeom>
            <a:avLst/>
            <a:gdLst>
              <a:gd name="textAreaLeft" fmla="*/ 45000 w 289080"/>
              <a:gd name="textAreaRight" fmla="*/ 253080 w 28908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724360" y="2565360"/>
            <a:ext cx="28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articipatio fraud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332000" y="27576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332000" y="3141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332000" y="3645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116000" y="2948040"/>
            <a:ext cx="669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e trata de una inoponibilidad facultat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116000" y="3502080"/>
            <a:ext cx="669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eríodo Sospecho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5" name=""/>
          <p:cNvCxnSpPr/>
          <p:nvPr/>
        </p:nvCxnSpPr>
        <p:spPr>
          <a:xfrm flipH="1" rot="16200000">
            <a:off x="2205720" y="356436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446" name=""/>
          <p:cNvSpPr/>
          <p:nvPr/>
        </p:nvSpPr>
        <p:spPr>
          <a:xfrm>
            <a:off x="2413080" y="3957480"/>
            <a:ext cx="669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 contar de la fecha de cesación de pago hasta el día de la declaratoria de quieb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87280" y="4648320"/>
            <a:ext cx="795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pone la adquisición, por endoso o cesión, de créditos a la orden o nominativos, en contra del fallido para obtener compensaciones en perjuicio de la m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330200" y="479268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7451640" y="1844640"/>
            <a:ext cx="1513080" cy="432000"/>
          </a:xfrm>
          <a:prstGeom prst="wedgeRectCallout">
            <a:avLst>
              <a:gd name="adj1" fmla="val -44226"/>
              <a:gd name="adj2" fmla="val 698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412040" y="1819440"/>
            <a:ext cx="1984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Presunción de ma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fe del deudor 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09308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796000" y="3068640"/>
            <a:ext cx="669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nocimiento de 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esación de pago al tiemp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 la cesión o endo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87280" y="5540400"/>
            <a:ext cx="795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ara algunos la revocación de la compensación procedería sólo si por dicha compensación se devenga un perjuicio al patrimonio del fallid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330200" y="566100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4560" y="33336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ACCIONES DE INTEGRACION PATRIMON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68360" y="140652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800" spc="-1" strike="noStrike" u="sng">
                <a:solidFill>
                  <a:srgbClr val="000000"/>
                </a:solidFill>
                <a:uFillTx/>
                <a:latin typeface="Tahoma"/>
              </a:rPr>
              <a:t>Revocación de ciertos pagos de letras de cambio o pagarés (Art. 7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332000" y="26128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984240" y="2421000"/>
            <a:ext cx="669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ocede contra deudor calificado; deudor común:  pauliana civ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986040" y="2781360"/>
            <a:ext cx="502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xige la concurrencia de elementos subje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867280" y="2901960"/>
            <a:ext cx="289080" cy="142920"/>
          </a:xfrm>
          <a:custGeom>
            <a:avLst/>
            <a:gdLst>
              <a:gd name="textAreaLeft" fmla="*/ 45000 w 289080"/>
              <a:gd name="textAreaRight" fmla="*/ 253080 w 28908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724360" y="2781360"/>
            <a:ext cx="28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articipatio fraud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332000" y="29732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332000" y="3716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332000" y="44798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116000" y="3573360"/>
            <a:ext cx="669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e trata de una inoponibilidad facultat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116000" y="4336920"/>
            <a:ext cx="669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eríodo Sospecho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2" name=""/>
          <p:cNvCxnSpPr/>
          <p:nvPr/>
        </p:nvCxnSpPr>
        <p:spPr>
          <a:xfrm flipH="1" rot="16200000">
            <a:off x="2205720" y="439884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473" name=""/>
          <p:cNvSpPr/>
          <p:nvPr/>
        </p:nvSpPr>
        <p:spPr>
          <a:xfrm>
            <a:off x="2413080" y="4792680"/>
            <a:ext cx="669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 contar de la fecha de cesación de pago hasta el día antes de la declaratoria de quieb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451640" y="1844640"/>
            <a:ext cx="1513080" cy="432000"/>
          </a:xfrm>
          <a:prstGeom prst="wedgeRectCallout">
            <a:avLst>
              <a:gd name="adj1" fmla="val -44226"/>
              <a:gd name="adj2" fmla="val 698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412040" y="1819440"/>
            <a:ext cx="1984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Presunción de ma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fe del deudor 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09308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580000" y="3284640"/>
            <a:ext cx="669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nocimiento de 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esación de pago al tiemp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 la aceptación de la letra 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scripción del pagaré a favor 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terce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114560" y="33336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ACCIONES DE INTEGRACION PATRIMON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68360" y="140652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800" spc="-1" strike="noStrike" u="sng">
                <a:solidFill>
                  <a:srgbClr val="000000"/>
                </a:solidFill>
                <a:uFillTx/>
                <a:latin typeface="Tahoma"/>
              </a:rPr>
              <a:t>Revocación de ciertos pagos de letras de cambio o pagarés (Art. 7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154160" y="2133720"/>
            <a:ext cx="795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pone que el deudor ha pagado letras o pagarés de su giro durante el período sospecho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16000" y="2852640"/>
            <a:ext cx="7954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l beneficiario de dichos títulos debe haber tenido conocimiento de la insolvencia del deudor al tiempo de librarse o aceptarse la letra o suscribirse el pagaré a la orden de aqué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081080" y="3860640"/>
            <a:ext cx="795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l reembolso se exigirá al primer beneficiario del libramiento, aceptación o suscripción de la letra de cambio o pagaré, respectivam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081080" y="4576680"/>
            <a:ext cx="795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lgunos autores consideran procedente extender esta sanción al cheque, fundado en el art. 11 de la Ley de Cuentas Corrientes Bancarias y Che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87280" y="299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258920" y="4724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87280" y="2349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258920" y="4076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/>
          <p:nvPr/>
        </p:nvCxnSpPr>
        <p:spPr>
          <a:xfrm flipH="1" rot="16200000">
            <a:off x="2205720" y="490212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494" name=""/>
          <p:cNvSpPr/>
          <p:nvPr/>
        </p:nvSpPr>
        <p:spPr>
          <a:xfrm>
            <a:off x="2413080" y="5295960"/>
            <a:ext cx="669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Otros consideran que no es posible dicha extensión por cuanto al tratarse de una sanción su interpretación debe ser restrict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114560" y="33336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ACCIONES DE INTEGRACION PATRIMON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68360" y="140652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800" spc="-1" strike="noStrike" u="sng">
                <a:solidFill>
                  <a:srgbClr val="000000"/>
                </a:solidFill>
                <a:uFillTx/>
                <a:latin typeface="Tahoma"/>
              </a:rPr>
              <a:t>Revocación de ciertas inscripciones hipotecarias (Art. 7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332000" y="23972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984240" y="2205000"/>
            <a:ext cx="669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ocede contra deudor calificado; deudor común:  pauliana civ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971640" y="2565360"/>
            <a:ext cx="53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o exige la concurrencia de elementos subje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156360" y="2685960"/>
            <a:ext cx="288720" cy="142920"/>
          </a:xfrm>
          <a:custGeom>
            <a:avLst/>
            <a:gdLst>
              <a:gd name="textAreaLeft" fmla="*/ 45000 w 288720"/>
              <a:gd name="textAreaRight" fmla="*/ 252720 w 28872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012000" y="2608200"/>
            <a:ext cx="280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i consilium fraud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i participatio fraud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332000" y="27576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332000" y="33336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332000" y="38368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116000" y="3189240"/>
            <a:ext cx="669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e trata de una inoponibilidad facultat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116000" y="3693960"/>
            <a:ext cx="669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eríodo Sospecho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/>
          <p:nvPr/>
        </p:nvCxnSpPr>
        <p:spPr>
          <a:xfrm flipH="1" rot="16200000">
            <a:off x="2205720" y="375588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513" name=""/>
          <p:cNvSpPr/>
          <p:nvPr/>
        </p:nvSpPr>
        <p:spPr>
          <a:xfrm>
            <a:off x="2413080" y="4149720"/>
            <a:ext cx="669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10 días anteriores a la fecha de cesación de pago hasta el día de la declaratoria de quieb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451640" y="1844640"/>
            <a:ext cx="1513080" cy="432000"/>
          </a:xfrm>
          <a:prstGeom prst="wedgeRectCallout">
            <a:avLst>
              <a:gd name="adj1" fmla="val -44226"/>
              <a:gd name="adj2" fmla="val 698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412040" y="1819440"/>
            <a:ext cx="1984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Presunción de ma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fe del deudor 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971640" y="4792680"/>
            <a:ext cx="7954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pone que el deudor otorga un contrato de hipoteca y éste se inscribe durante el período sospechoso, transcurriendo más de 15 días entre su otorgamiento y la inscripción (este plazo aumento a razón de un día por cada 100km de dista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187280" y="494172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114560" y="33336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ACCIONES DE INTEGRACION PATRIMON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542880" y="6237360"/>
            <a:ext cx="64771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4008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6294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8580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7130880" y="610092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>
            <a:off x="1114560" y="33336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REALIZACIÓN DE LOS BIE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771120" y="2246400"/>
            <a:ext cx="800928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Las reglas de realización de los bienes recogen los principios que sustentan 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Juicio de quieb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Finiquitar el proceso concursal en períodos breves, para e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ncibe la venta como unidad económica y 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ntinuidad de giro como excepcional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mpone ciertos plazos programáticos (13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implifica enajenaciones de activos menores (10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340000" y="3645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340000" y="4365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340000" y="486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9" name=""/>
          <p:cNvCxnSpPr/>
          <p:nvPr/>
        </p:nvCxnSpPr>
        <p:spPr>
          <a:xfrm flipH="1" rot="16200000">
            <a:off x="1124640" y="255420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42880" y="6237360"/>
            <a:ext cx="64771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4008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6294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8580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7130880" y="6100920"/>
            <a:ext cx="1689120" cy="399960"/>
          </a:xfrm>
          <a:prstGeom prst="rect">
            <a:avLst/>
          </a:prstGeom>
          <a:ln w="0">
            <a:noFill/>
          </a:ln>
        </p:spPr>
      </p:pic>
      <p:cxnSp>
        <p:nvCxnSpPr>
          <p:cNvPr id="535" name=""/>
          <p:cNvCxnSpPr/>
          <p:nvPr/>
        </p:nvCxnSpPr>
        <p:spPr>
          <a:xfrm flipH="1" rot="16200000">
            <a:off x="1947240" y="183564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536" name=""/>
          <p:cNvSpPr/>
          <p:nvPr/>
        </p:nvSpPr>
        <p:spPr>
          <a:xfrm>
            <a:off x="2608920" y="2224080"/>
            <a:ext cx="279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ncautación e invent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7" name=""/>
          <p:cNvCxnSpPr/>
          <p:nvPr/>
        </p:nvCxnSpPr>
        <p:spPr>
          <a:xfrm flipH="1" rot="16200000">
            <a:off x="1947240" y="217224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538" name=""/>
          <p:cNvSpPr/>
          <p:nvPr/>
        </p:nvSpPr>
        <p:spPr>
          <a:xfrm>
            <a:off x="2628720" y="2630520"/>
            <a:ext cx="184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dminist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628360" y="2990880"/>
            <a:ext cx="32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Realización propiamente 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0" name=""/>
          <p:cNvCxnSpPr/>
          <p:nvPr/>
        </p:nvCxnSpPr>
        <p:spPr>
          <a:xfrm flipH="1" rot="16200000">
            <a:off x="1947240" y="253260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541" name=""/>
          <p:cNvSpPr/>
          <p:nvPr/>
        </p:nvSpPr>
        <p:spPr>
          <a:xfrm>
            <a:off x="2701800" y="3567240"/>
            <a:ext cx="272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ormas de Realiz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629080" y="3500280"/>
            <a:ext cx="273492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25892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694520" y="428616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um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693800" y="4718160"/>
            <a:ext cx="11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Ordin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694520" y="514980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xtraordin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258920" y="4869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258920" y="5300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3419640" y="5157720"/>
            <a:ext cx="647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492360" y="4869000"/>
            <a:ext cx="5749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4233600" y="4724280"/>
            <a:ext cx="4507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Plazo 6 meses desde junta constitutiva (13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Plazo 9 meses para realización de inmue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Prorrogable una sola ve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916360" y="443700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268520" y="4221000"/>
            <a:ext cx="447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Plazo 6 meses cualquiera sea su integr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114560" y="33336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REALIZACIÓN DE LOS BIE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72520" y="1779480"/>
            <a:ext cx="159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542880" y="6237360"/>
            <a:ext cx="64771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4008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6294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8580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7130880" y="610092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561" name=""/>
          <p:cNvSpPr/>
          <p:nvPr/>
        </p:nvSpPr>
        <p:spPr>
          <a:xfrm>
            <a:off x="80280" y="2852640"/>
            <a:ext cx="8780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l activo debe exceder de 1000 Unidades de Fom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(121) Realización de bienes próximo a deterioro o a una desvalorización inmin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e prescinde de autorización judicial, se entiende que la orden de venta está conten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n la sente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sta venta puede ser privada o al marti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ara Puga esta forma de realización no excluye los inmuebles en tanto cumpla requisi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l 121 (norma correlativa en juicio ejecutivo individual sí lo excluye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114560" y="33336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REALIZACIÓN DE LOS BIE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71440" y="1487520"/>
            <a:ext cx="32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Realización Ordin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42520" y="220500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Casos Art. 1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542880" y="6237360"/>
            <a:ext cx="64771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4008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66294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68580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7130880" y="610092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570" name=""/>
          <p:cNvSpPr/>
          <p:nvPr/>
        </p:nvSpPr>
        <p:spPr>
          <a:xfrm>
            <a:off x="-216000" y="2206800"/>
            <a:ext cx="9684000" cy="55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l activo debe exceder de 1000 Unidades de Fom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(122) realización de especies </a:t>
            </a:r>
            <a:r>
              <a:rPr b="1" i="1" lang="es-CL" sz="1600" spc="-1" strike="noStrike">
                <a:solidFill>
                  <a:srgbClr val="000000"/>
                </a:solidFill>
                <a:latin typeface="Tahoma"/>
              </a:rPr>
              <a:t>corporales muebles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e venden al marti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(122) realización de </a:t>
            </a:r>
            <a:r>
              <a:rPr b="1" i="1" lang="es-CL" sz="1600" spc="-1" strike="noStrike">
                <a:solidFill>
                  <a:srgbClr val="000000"/>
                </a:solidFill>
                <a:latin typeface="Tahoma"/>
              </a:rPr>
              <a:t>valores mobiliarios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con cotización bursátil, en remate en bolsa de val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Todos los demás bienes, corporales e incorporales, pública subasta o licitación públ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i es pública subasta se debe cumplir trámite de tasación, determinación bases de rem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y fijación de día y ho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o es necesario citación acreedores hipotecarios (71 pueden iniciar concurso especial y separado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i solicitar autorización de otros tribunales que hubieren embargado bienes, alzamiento </a:t>
            </a:r>
            <a:r>
              <a:rPr b="0" i="1" lang="es-CL" sz="1600" spc="-1" strike="noStrike">
                <a:solidFill>
                  <a:srgbClr val="000000"/>
                </a:solidFill>
                <a:latin typeface="Tahoma"/>
              </a:rPr>
              <a:t>IPSO I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n caso de licitación pública la ley exige aprobación de las bases por junta de acree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114560" y="33336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REALIZACIÓN DE LOS BIE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14160" y="176688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Casos Art. 1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250560" y="1628280"/>
            <a:ext cx="88930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CL" sz="1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Métodos para determinar la realidad vs. la apari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separación de bienes, recuperaciones de terceros, reivindicaciones       personales, reales y especiales, resolu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intervención bienes futuros del fall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integración patrimonial (nulidad, resolución, revocació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14560" y="33336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 Hecho y de Dere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CONCEPTOS GENER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542880" y="6237360"/>
            <a:ext cx="64771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64008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6294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8580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7130880" y="610092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879480" y="2147760"/>
            <a:ext cx="76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A. Realización de bienes alterando las normas del procedimiento ordinario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701280" y="2781360"/>
            <a:ext cx="8335440" cy="32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ara adoptar este procedimiento se requiere (123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l voto conforme de más de la ½ del pasivo con derecho a vo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(acreedores verificados y reconocid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l voto favorable del falli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Bajo esta modalidad se puede vender el activo como unidad sin trámites del art. 1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sta forma de realización no admite el pacto comisorio, supone la reducción d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tivo a moneda quieb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 pesar de soberanía de las partes, síndico puede objetar dentro de tercer d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84360" y="2133720"/>
            <a:ext cx="792000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114560" y="33336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REALIZACIÓN DE LOS BIE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042920" y="1549440"/>
            <a:ext cx="365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69920" indent="-169920"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272160" y="1487520"/>
            <a:ext cx="381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Realización Extraordin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542880" y="6237360"/>
            <a:ext cx="64771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4008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66294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8580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" descr=""/>
          <p:cNvPicPr/>
          <p:nvPr/>
        </p:nvPicPr>
        <p:blipFill>
          <a:blip r:embed="rId1"/>
          <a:stretch/>
        </p:blipFill>
        <p:spPr>
          <a:xfrm>
            <a:off x="7130880" y="610092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589" name=""/>
          <p:cNvSpPr/>
          <p:nvPr/>
        </p:nvSpPr>
        <p:spPr>
          <a:xfrm>
            <a:off x="611280" y="214776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B.  Venta del activo al mejor postor en pública subasta ante juez de quiebra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39640" y="2133720"/>
            <a:ext cx="806472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703440" y="2852640"/>
            <a:ext cx="767844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ara adoptar este procedimiento se requie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l voto conforme de más de la mayoría de la ½ del pasivo con derecho a vo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(acreedores verificados y reconocido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o requiere el voto favorable del falli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s aplicable a todo tipo de bie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índico puede objetar dentro de tercer d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114560" y="33336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REALIZACIÓN DE LOS BIE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72160" y="1487520"/>
            <a:ext cx="381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Realización Extraordin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542880" y="6237360"/>
            <a:ext cx="64771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4008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6294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8580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1"/>
          <a:stretch/>
        </p:blipFill>
        <p:spPr>
          <a:xfrm>
            <a:off x="7130880" y="610092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/>
          <p:nvPr/>
        </p:nvSpPr>
        <p:spPr>
          <a:xfrm>
            <a:off x="539640" y="2147760"/>
            <a:ext cx="86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C. Venta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o unidad económica en pública subasta y por el juez de la quie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68360" y="2060640"/>
            <a:ext cx="842472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25320" y="2852640"/>
            <a:ext cx="84679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e trata de la venta como conjunto de bienes del deudor, que puede ser total o par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a unidad de bienes supone una integración económica orientada a la producción 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istribución de bienes o servic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ste procedimiento de realización no es incompatible con el del art. 1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quiere aprobación de la Jun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o requiere el voto favorable del falli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índico puede objetar dentro de tercer d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114560" y="33336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REALIZACIÓN DE LOS BIE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72160" y="1487520"/>
            <a:ext cx="381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Realización Extraordin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542880" y="6237360"/>
            <a:ext cx="64771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4008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66294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68580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" descr=""/>
          <p:cNvPicPr/>
          <p:nvPr/>
        </p:nvPicPr>
        <p:blipFill>
          <a:blip r:embed="rId1"/>
          <a:stretch/>
        </p:blipFill>
        <p:spPr>
          <a:xfrm>
            <a:off x="7130880" y="610092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609" name=""/>
          <p:cNvSpPr/>
          <p:nvPr/>
        </p:nvSpPr>
        <p:spPr>
          <a:xfrm>
            <a:off x="468360" y="1989000"/>
            <a:ext cx="84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C.  Venta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o unidad económica en pública subasta y por el juez de la quie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68360" y="1989000"/>
            <a:ext cx="837252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76720" y="2709720"/>
            <a:ext cx="8566920" cy="38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a proposición a la Junta la puede realizar el síndico, cualquier acreedor y el falli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as bases las confecciona el sínd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be contener los bienes que integra la unidad económ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ecio mínimo, garantías y demás modalidades de enajen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a venta debe realizarse en pública subasta, al mejor postor y ante juez de la quieb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ste procedimiento sólo puede aplicarse en dos oportunidades. Luego, procedi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ordinario o bajo régimen extraordinario del 1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ormalidades de la venta art. 1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114560" y="33336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REALIZACIÓN DE LOS BIE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72160" y="1487520"/>
            <a:ext cx="381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Realización Extraordin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542880" y="6237360"/>
            <a:ext cx="64771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4008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6294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8580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7130880" y="610092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755640" y="2205000"/>
            <a:ext cx="86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C.  Venta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o unidad económica en pública subasta y por el juez de la quie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84360" y="2060640"/>
            <a:ext cx="835164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623880" y="2852640"/>
            <a:ext cx="87696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fecto de la venta bajo 124, hipoteca y prenda legal en favor del deudor por obliga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endientes del adquir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a junta puede excluir en las bases algunos bienes de los graváme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l concurso se mantiene abierto hasta cumplimiento íntegro de las obligaciones d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dquir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erfeccionamiento de la venta se discute por falta de acta de remate que lo formal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1114560" y="33336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REALIZACIÓN DE LOS BIE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2160" y="1487520"/>
            <a:ext cx="381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Realización Extraordin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542880" y="6237360"/>
            <a:ext cx="64771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64008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66294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68580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7130880" y="610092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68400" y="2421000"/>
            <a:ext cx="9159840" cy="38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l valor probable de la realización del activo no debe exceder de 1000 Unidades de Fom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Bajo este procedimiento síndico provisional pasa a ser síndico definiti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índico determina forma de realización. Única limitación plazo de 6 meses para la liquid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o modifica este plazo la circunstancia de existir inmuebles que liquid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Objeción de acreedores o fallido a este procedimiento, misma jun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114560" y="33336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REALIZACIÓN DE LOS BIE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272160" y="1487520"/>
            <a:ext cx="317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Realización Sum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/>
          <p:nvPr/>
        </p:nvSpPr>
        <p:spPr>
          <a:xfrm>
            <a:off x="542880" y="6237360"/>
            <a:ext cx="64771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64008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66294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8580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" descr=""/>
          <p:cNvPicPr/>
          <p:nvPr/>
        </p:nvPicPr>
        <p:blipFill>
          <a:blip r:embed="rId1"/>
          <a:stretch/>
        </p:blipFill>
        <p:spPr>
          <a:xfrm>
            <a:off x="7130880" y="610092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353520" y="2421000"/>
            <a:ext cx="8792640" cy="43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s también forma de “realización” y pa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Giro / oficinas, locales o establecimientos             ¿suponen a una empresa?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lacionada con permiso de actividades futuras del deud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ntinuidad efectiva símil de prenda pretoria de ejecución individ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ovisional           Efect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Total         Parcial. Pueden ser medidas paralel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114560" y="33336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REALIZACIÓN DE LOS BIE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4282920" y="2997360"/>
            <a:ext cx="576360" cy="215640"/>
          </a:xfrm>
          <a:prstGeom prst="rightArrow">
            <a:avLst>
              <a:gd name="adj1" fmla="val 50000"/>
              <a:gd name="adj2" fmla="val 66820"/>
            </a:avLst>
          </a:prstGeom>
          <a:solidFill>
            <a:srgbClr val="d238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1619280" y="4437000"/>
            <a:ext cx="503280" cy="216000"/>
          </a:xfrm>
          <a:prstGeom prst="leftRightArrow">
            <a:avLst>
              <a:gd name="adj1" fmla="val 50000"/>
              <a:gd name="adj2" fmla="val 46384"/>
            </a:avLst>
          </a:prstGeom>
          <a:solidFill>
            <a:srgbClr val="d238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042920" y="4941720"/>
            <a:ext cx="503280" cy="216000"/>
          </a:xfrm>
          <a:prstGeom prst="leftRightArrow">
            <a:avLst>
              <a:gd name="adj1" fmla="val 50000"/>
              <a:gd name="adj2" fmla="val 46384"/>
            </a:avLst>
          </a:prstGeom>
          <a:solidFill>
            <a:srgbClr val="d238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267120" y="1487520"/>
            <a:ext cx="434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ontinuidad de Giro del Fall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/>
          <p:nvPr/>
        </p:nvSpPr>
        <p:spPr>
          <a:xfrm>
            <a:off x="542880" y="6237360"/>
            <a:ext cx="64771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4008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66294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8580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1"/>
          <a:stretch/>
        </p:blipFill>
        <p:spPr>
          <a:xfrm>
            <a:off x="7130880" y="610092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/>
          <p:nvPr/>
        </p:nvSpPr>
        <p:spPr>
          <a:xfrm>
            <a:off x="-89640" y="2349360"/>
            <a:ext cx="9383760" cy="38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tributo del síndico (9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Hasta Junta de Planificación porque ésta resuelve sobre la suerte de los bienes de la masa (11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n función de interés de la masa (no del fallid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s alternativa al cierre y paralización de locales, oficinas y establecimien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Objetivo            facilitar realización de bienes y preparar liquidación progres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114560" y="33336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REALIZACIÓN DE LOS BIE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1189080" y="4365720"/>
            <a:ext cx="503280" cy="215640"/>
          </a:xfrm>
          <a:prstGeom prst="leftRightArrow">
            <a:avLst>
              <a:gd name="adj1" fmla="val 50000"/>
              <a:gd name="adj2" fmla="val 46462"/>
            </a:avLst>
          </a:prstGeom>
          <a:solidFill>
            <a:srgbClr val="d238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269640" y="1487520"/>
            <a:ext cx="358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ontinuidad Provis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542880" y="6237360"/>
            <a:ext cx="64771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64008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66294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858000" y="637236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7130880" y="610092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657" name=""/>
          <p:cNvSpPr/>
          <p:nvPr/>
        </p:nvSpPr>
        <p:spPr>
          <a:xfrm>
            <a:off x="1114560" y="33336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REALIZACIÓN DE LOS BIE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-92160" y="1844640"/>
            <a:ext cx="9506160" cy="56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tribución del síndico con autorización del tribunal, por causas graves (99 inc. 2°) o de la Jun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 acreedores (112), a proposición del síndico o 2 acreedores a partir de la Junta de Planific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0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Duración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: 1 año prorrogable o más si acuerdo venta unidad económica (11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uerdo fundado, determinando objeto y bienes, administración y facultades. Si renovación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índico no puede seguir administran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“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n continuación de giro” se agrega a razón social o nomb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índico no administrador: interven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Objetivo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: pagar a acreedores mediante frutos de la continuidad (= continuación de la empres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o afecta acreedores Hipotecarios, prendarios, retencionarios, a menos que consient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uede haber compra de créditos a precio de moneda quiebra para conseguir quór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 flipH="1">
            <a:off x="6300360" y="4869000"/>
            <a:ext cx="7164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271080" y="1487520"/>
            <a:ext cx="32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ontinuidad Efe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144360" y="1700280"/>
            <a:ext cx="8748720" cy="38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ago a acreedores es paulatino con ocasión del giro (11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ese de la continuidad              deshaciendo lo hec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o pueden realizarse bienes comprendi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laciones jurídicas preexistentes a la quiebra siguen vig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114560" y="33336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REALIZACIÓN DE LOS BIE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2627280" y="2205000"/>
            <a:ext cx="504720" cy="287280"/>
          </a:xfrm>
          <a:prstGeom prst="rightArrow">
            <a:avLst>
              <a:gd name="adj1" fmla="val 50000"/>
              <a:gd name="adj2" fmla="val 43922"/>
            </a:avLst>
          </a:prstGeom>
          <a:solidFill>
            <a:srgbClr val="d238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1547640" y="3494160"/>
            <a:ext cx="519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Créditos contraídos durante la continu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08000" y="3932280"/>
            <a:ext cx="519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Provisoria  (10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906640" y="3860640"/>
            <a:ext cx="5194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obre bienes de la masa, sin perjuicio derecho preferente acreedores privilegiados, preferentes y 1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2906640" y="4437000"/>
            <a:ext cx="598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iscutible si son de la masa o tienen preferencia 2472 n°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08000" y="4797360"/>
            <a:ext cx="519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Efectiva   (114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2916360" y="4835520"/>
            <a:ext cx="5194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obre bienes de la continuidad, con preferencia a otros acreedores, salvo hipotecarios, prendarios y retencionarios que no consintie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2195640" y="45799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2195640" y="5732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2916360" y="5661000"/>
            <a:ext cx="598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on de la masa, ¿pero no alcanzan a hipotecarios, prendarios 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tencionario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632880" y="1341360"/>
            <a:ext cx="32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ontinuidad Efe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539640" y="1701720"/>
            <a:ext cx="7920000" cy="20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ff"/>
                </a:solidFill>
                <a:latin typeface="Tahoma"/>
              </a:rPr>
              <a:t>+</a:t>
            </a:r>
            <a:r>
              <a:rPr b="1" lang="es-CL" sz="1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tivo de Hec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ff"/>
                </a:solidFill>
                <a:latin typeface="Tahoma"/>
              </a:rPr>
              <a:t>+</a:t>
            </a:r>
            <a:r>
              <a:rPr b="0" lang="es-CL" sz="1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Bienes reivindicados por la m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ff"/>
                </a:solidFill>
                <a:latin typeface="Tahoma"/>
              </a:rPr>
              <a:t>+</a:t>
            </a:r>
            <a:r>
              <a:rPr b="0" lang="es-CL" sz="1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Bienes sometidos a revocación en favor de la m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ff"/>
                </a:solidFill>
                <a:latin typeface="Tahoma"/>
              </a:rPr>
              <a:t>+</a:t>
            </a:r>
            <a:r>
              <a:rPr b="0" lang="es-CL" sz="16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Bienes restituidos por nulidad o resolu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ff"/>
                </a:solidFill>
                <a:latin typeface="Tahoma"/>
              </a:rPr>
              <a:t>+</a:t>
            </a:r>
            <a:r>
              <a:rPr b="0" lang="es-CL" sz="1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Bienes futuros gratui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ff"/>
                </a:solidFill>
                <a:latin typeface="Tahoma"/>
              </a:rPr>
              <a:t>+</a:t>
            </a:r>
            <a:r>
              <a:rPr b="0" lang="es-CL" sz="1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Beneficios líquidos de bienes futuros oneros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26920" y="1844640"/>
            <a:ext cx="7561440" cy="172872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3860640"/>
            <a:ext cx="8497800" cy="180036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85880" y="1474920"/>
            <a:ext cx="29937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Resultado de ecuación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0360" y="4043520"/>
            <a:ext cx="903600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cuperaciones de terceros, separación de bienes: reivindicatorias, resoluciones, compensaciones, modos de extinguir distintos del pa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o afectos al concurso (del deudor: inembargabl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limentos en favor del falli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rgas y derechos preferentes de terceros no acreedores (ej. bienes futuros, discusión de la masa vs. en la mas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9440" y="5925960"/>
            <a:ext cx="32986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= Activo de Dere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042920" y="5877000"/>
            <a:ext cx="2376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14560" y="33336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 Dere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CONCEPTOS GENER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21160" y="1773360"/>
            <a:ext cx="30456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1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Inventario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(94 y siguient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11280" y="2205000"/>
            <a:ext cx="8748720" cy="15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Primer acercamiento al Activo de Dere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Actuación del Síndico, en presencia de M. de Fe (secretario, notario, ad-hoc) y experto téc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1080" y="2349360"/>
            <a:ext cx="287280" cy="142920"/>
          </a:xfrm>
          <a:custGeom>
            <a:avLst/>
            <a:gdLst>
              <a:gd name="textAreaLeft" fmla="*/ 44640 w 287280"/>
              <a:gd name="textAreaRight" fmla="*/ 251640 w 28728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1080" y="2852640"/>
            <a:ext cx="287280" cy="144720"/>
          </a:xfrm>
          <a:custGeom>
            <a:avLst/>
            <a:gdLst>
              <a:gd name="textAreaLeft" fmla="*/ 44640 w 287280"/>
              <a:gd name="textAreaRight" fmla="*/ 251640 w 287280"/>
              <a:gd name="textAreaTop" fmla="*/ 36000 h 144720"/>
              <a:gd name="textAreaBottom" fmla="*/ 108720 h 144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11280" y="344952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Lista + estado.  Incluso, reclamaciones de terceros (94 N°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Se agrega al juicio día siguiente hábil facción,  notificación por avi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9280" y="3571920"/>
            <a:ext cx="287280" cy="144360"/>
          </a:xfrm>
          <a:custGeom>
            <a:avLst/>
            <a:gdLst>
              <a:gd name="textAreaLeft" fmla="*/ 44640 w 287280"/>
              <a:gd name="textAreaRight" fmla="*/ 251640 w 28728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1080" y="4076640"/>
            <a:ext cx="287280" cy="144360"/>
          </a:xfrm>
          <a:custGeom>
            <a:avLst/>
            <a:gdLst>
              <a:gd name="textAreaLeft" fmla="*/ 44640 w 287280"/>
              <a:gd name="textAreaRight" fmla="*/ 251640 w 28728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76360" y="4543560"/>
            <a:ext cx="809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Repite para nuevos bienes (9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Objeciones del fallido y acreedores (98).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Tahoma"/>
              </a:rPr>
              <a:t>No terceros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, efecto relativo del invent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9280" y="4653000"/>
            <a:ext cx="287280" cy="144360"/>
          </a:xfrm>
          <a:custGeom>
            <a:avLst/>
            <a:gdLst>
              <a:gd name="textAreaLeft" fmla="*/ 44640 w 287280"/>
              <a:gd name="textAreaRight" fmla="*/ 251640 w 28728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9280" y="5229360"/>
            <a:ext cx="287280" cy="144360"/>
          </a:xfrm>
          <a:custGeom>
            <a:avLst/>
            <a:gdLst>
              <a:gd name="textAreaLeft" fmla="*/ 44640 w 287280"/>
              <a:gd name="textAreaRight" fmla="*/ 251640 w 28728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14560" y="33336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 Dere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INVENTA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26920" y="1773360"/>
            <a:ext cx="15840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1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Invent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2565360"/>
            <a:ext cx="874872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Alcan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sigue criterio activo de derecho. No debe incluir bienes en poder de terceros que no reconocen derechos al fallido.  No debe incluir inembargables.  Debe incluir bienes de terceros o reivindicados (de reivindicación re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¿Cosa juzgada del inventario? Sólo entre fallido y acreedores, si hubo objeción resuelta por el jue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8000" y="2708280"/>
            <a:ext cx="287280" cy="144360"/>
          </a:xfrm>
          <a:custGeom>
            <a:avLst/>
            <a:gdLst>
              <a:gd name="textAreaLeft" fmla="*/ 44640 w 287280"/>
              <a:gd name="textAreaRight" fmla="*/ 251640 w 28728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8000" y="4363920"/>
            <a:ext cx="287280" cy="144720"/>
          </a:xfrm>
          <a:custGeom>
            <a:avLst/>
            <a:gdLst>
              <a:gd name="textAreaLeft" fmla="*/ 44640 w 287280"/>
              <a:gd name="textAreaRight" fmla="*/ 251640 w 287280"/>
              <a:gd name="textAreaTop" fmla="*/ 36000 h 144720"/>
              <a:gd name="textAreaBottom" fmla="*/ 108720 h 144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14560" y="33336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 Dere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INVENTA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50560" y="1774800"/>
            <a:ext cx="828180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Gestión de administración de la Quiebra  (facultad jurisdiccion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Propia del cargo de Sínd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Primer instrumento de conservación del activo concurs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0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0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30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0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0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30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55640" y="1557360"/>
            <a:ext cx="17625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1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Incau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62000" y="3205080"/>
            <a:ext cx="7902720" cy="37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52 N°2: se incauta de todos los bienes del fallido con fuerza públ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94 N°1: ministro de fe, libros, documentos y bienes del fallido, custo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¿Alcances? Numerosas discus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Lo razonable pareciera s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Bienes en poder del fallido: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Tahoma"/>
              </a:rPr>
              <a:t>todos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, incluso de terceros (presunción de dominio 700 C.Civi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8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3320" y="3284640"/>
            <a:ext cx="309600" cy="215640"/>
          </a:xfrm>
          <a:custGeom>
            <a:avLst/>
            <a:gdLst>
              <a:gd name="textAreaLeft" fmla="*/ 48240 w 309600"/>
              <a:gd name="textAreaRight" fmla="*/ 271080 w 309600"/>
              <a:gd name="textAreaTop" fmla="*/ 54000 h 215640"/>
              <a:gd name="textAreaBottom" fmla="*/ 162000 h 21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33320" y="3789360"/>
            <a:ext cx="309600" cy="216000"/>
          </a:xfrm>
          <a:custGeom>
            <a:avLst/>
            <a:gdLst>
              <a:gd name="textAreaLeft" fmla="*/ 48240 w 309600"/>
              <a:gd name="textAreaRight" fmla="*/ 271080 w 3096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/>
          <p:nvPr/>
        </p:nvCxnSpPr>
        <p:spPr>
          <a:xfrm flipH="1" rot="16200000">
            <a:off x="1269360" y="497988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114560" y="33336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 He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INCAUTAC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560" y="1774800"/>
            <a:ext cx="828180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6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2016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1557360"/>
            <a:ext cx="17625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1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Incau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062000" y="2205000"/>
            <a:ext cx="7902720" cy="21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Incautación deja a salvo el derecho de restituir a legítimos tercer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96 supone presencia del fallido o colaboradores cercan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En domicilio del fallido: matriz, sucursales,  ¿domicilio privado?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/>
          <p:nvPr/>
        </p:nvCxnSpPr>
        <p:spPr>
          <a:xfrm flipH="1" rot="16200000">
            <a:off x="434160" y="183564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cxnSp>
        <p:nvCxnSpPr>
          <p:cNvPr id="108" name=""/>
          <p:cNvCxnSpPr/>
          <p:nvPr/>
        </p:nvCxnSpPr>
        <p:spPr>
          <a:xfrm flipH="1" rot="16200000">
            <a:off x="434160" y="233892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cxnSp>
        <p:nvCxnSpPr>
          <p:cNvPr id="109" name=""/>
          <p:cNvCxnSpPr/>
          <p:nvPr/>
        </p:nvCxnSpPr>
        <p:spPr>
          <a:xfrm flipH="1" rot="16200000">
            <a:off x="434160" y="289116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110" name=""/>
          <p:cNvSpPr/>
          <p:nvPr/>
        </p:nvSpPr>
        <p:spPr>
          <a:xfrm>
            <a:off x="250920" y="3789360"/>
            <a:ext cx="97930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En domicilios de terceros: Puelma distingue si terceros reconocen o no 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domicilio fallido N° 52 N°5, entrega de papeles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bienes al Sínd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Bienes “inocupables”:(ej. derechos en sociedades) (ej. algunos incorporales)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Participación de acreedores y terceros en la incaut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/>
          <p:nvPr/>
        </p:nvCxnSpPr>
        <p:spPr>
          <a:xfrm flipH="1" rot="16200000">
            <a:off x="434160" y="334692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cxnSp>
        <p:nvCxnSpPr>
          <p:cNvPr id="112" name=""/>
          <p:cNvCxnSpPr/>
          <p:nvPr/>
        </p:nvCxnSpPr>
        <p:spPr>
          <a:xfrm flipH="1" rot="16200000">
            <a:off x="434160" y="457092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cxnSp>
        <p:nvCxnSpPr>
          <p:cNvPr id="113" name=""/>
          <p:cNvCxnSpPr/>
          <p:nvPr/>
        </p:nvCxnSpPr>
        <p:spPr>
          <a:xfrm flipH="1" rot="16200000">
            <a:off x="434160" y="505188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1114560" y="333360"/>
            <a:ext cx="65530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ctivo de He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s-ES" sz="1400" spc="-1" strike="noStrike">
                <a:solidFill>
                  <a:srgbClr val="000099"/>
                </a:solidFill>
                <a:latin typeface="Tahoma"/>
              </a:rPr>
              <a:t>INCAUTAC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5T16:15:37Z</dcterms:created>
  <dc:creator/>
  <dc:description/>
  <dc:language>en-US</dc:language>
  <cp:lastModifiedBy>obofill</cp:lastModifiedBy>
  <dcterms:modified xsi:type="dcterms:W3CDTF">2011-04-21T03:51:58Z</dcterms:modified>
  <cp:revision>118</cp:revision>
  <dc:subject/>
  <dc:title>Activo Concursal</dc:title>
</cp:coreProperties>
</file>