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7DD40-9F53-49A0-AE7E-5ED66BC21E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F715-14C4-4B5E-96B4-19EFA621D01D}"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74FF82-8F80-4372-B13E-DA9AF726D7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7259F-3781-4AE2-A4C7-5CBD0D1DA7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B640B8-F693-453F-99BD-9516DA762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72B7B-B265-4719-BB41-A9749E74A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B25DDE-1F8F-40B8-83A4-85BDC111FD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40F308-CB51-4E5A-A2C8-12366A16B8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A28AB6-1A70-458A-8A7C-C582CB348E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326112-DACA-4A10-A8B3-D730CB1A46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82FBE8-AB81-43F4-A68B-343122F7C7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89DA6A-80BA-4A1D-80AE-4E11F73556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AEC2E-9E21-48C2-87FE-3169C588E8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53ABC3-43FB-45B3-A434-D11B057642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943BEE-102C-46B0-9B2C-5A6B02AF1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B8EDDA-1188-4086-82F2-BC6C75B118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214CAA-9AF8-424F-ABCA-35A51561C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322218C-9F98-44E7-9318-33B4EEC20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851074-882C-4EA2-82C2-FE9AA91DB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4EC2F-13E4-4F8B-9CB4-DE965107D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4C8ED-697F-41D4-B6A4-14926F46B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1DD48-6397-4A69-9211-F1B9DBACD3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57F847-F20D-43E0-B553-51EF379F4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5E06D-4A95-4B1C-91D3-2586C17D9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CC37-FB8C-4827-AE6F-17FAD88DF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3C976-EA07-48B7-965F-232572F003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FFCB0-16A8-4159-BED7-B5D60D1045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595AD-D988-4AF2-A9DE-B6F0B9DE5BCB}"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A2C32-03BC-4714-8B60-C52427EE5BF3}"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80CCC-774B-4707-998F-17C81C05E055}"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29T03:29:33Z</dcterms:modified>
  <cp:revision>33</cp:revision>
  <dc:subject/>
  <dc:title>Derecho Constitucional Económico</dc:title>
</cp:coreProperties>
</file>