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5924-6646-4F97-A847-C1B86FED10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0C69-AECA-41D2-B05B-5F38965B6C2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52A4-261A-4D0E-9A67-03D8E2732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32E6C-2B68-40A1-82E0-D8411CA4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7A435-7AFE-460E-89BA-906239EED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AD3EE-B808-4411-A321-A70B27688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B1004-2F7D-4720-9FCE-B0CAD2374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7D755-D61E-4D21-8049-C68D60850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DD7DE-BF08-4CD7-9E41-AC3A028D2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32405-E51D-49E8-AA0C-CD70AF23E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A7930-B0C4-46A7-B34E-AFCA613A1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2896-D0C5-4FFA-B4B9-23A37DB7B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BB1FB-857D-43C1-A5BB-F8BBA6A1A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8BBF-11F6-43AD-9E6A-1A6F26282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22B27-50B5-43D5-B383-08A6C5FB3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5C686-4F82-45C6-88FF-F2A21934C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6BB06-6099-4448-9963-D0F6FD959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477BA-B19F-4E2C-9174-76186E8FA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2C997-37C3-491B-9483-382578FA6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6787-137C-442C-B014-57A3AB87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DB434-B418-4291-8E69-76B58F9F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46C3-EF95-4BBF-99BC-0544D06F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96F4-7634-498B-A226-C12162EE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58C0-BDC0-4242-BEB7-138E92A2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FCD52-65A9-494B-8004-3FC9B5A5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323B-8CCA-4E76-8A2B-ECD5D5133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D13B-5091-4130-BC6E-5A128613D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6352-1C90-44A4-A47A-918DA588E63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15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0B13-1FD6-4270-92A6-928C51AABB0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E35F-1756-4EEF-803A-B209CFE7D56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033B-F59D-41F9-B135-2FD82C900E1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A54D-A07F-46BC-84DC-BE8DF25D0EF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5380-E862-499E-B5A6-179800E6AA0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2EE3-204F-4EAE-80DE-426A01782C4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2368-56BA-4241-B4B0-88D1508E8A9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1A64-1A49-421C-8CA8-7239A48252F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A30C-75ED-4EDD-8F9C-A9BC88BA8B2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C6E5-BDFA-487F-B737-C44A79519BD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26E5-A2C2-44CE-957D-698EC421C1D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611A-4D6D-4EB3-8DE7-EA1AD4CB871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2435-DCFE-4F66-9BC5-52E50B1F899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14T19:28:48Z</dcterms:modified>
  <cp:revision>22</cp:revision>
  <dc:subject/>
  <dc:title>Derecho Constitucional Económico</dc:title>
</cp:coreProperties>
</file>