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B933-2D61-4901-84BE-2E36796A7DB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DD128-5EA4-4D66-B31F-5AAF5C93655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3A876-731E-46B4-9565-8D1B7EB6C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AE6BC-0B1D-4095-9127-B0353EFAF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915C8-0DF0-4067-BBFE-15C59D24D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A6B84-A876-4CFD-9A64-6B32556CC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6F486F-B483-4086-B750-FA33C82F06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C9253-3E06-4BFB-8D33-41218CF46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CEE8E-2D00-4F70-B539-4BA71A2D4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BAEF8-49A3-4E8B-B3A0-DE1460621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C5376-586C-4BF5-B8F7-3EBD34164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A3311-02D0-4595-B509-CB594E899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4FEFA-32E5-4D97-A7A2-A2A6D2106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D894E-55BB-4413-8AFA-434089015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ACA79-B187-460E-BE41-BD321DDD0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F2E9F-0987-496D-96E8-FFFCA0707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BA788-84E0-4397-ADE8-32B417797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53FA4-62A5-47FE-B345-30C752BC0D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27308F-34D8-4AC8-9CEC-C8B3ECD0C8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A8C64-E572-4EE8-8C1F-96C42E5F0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5545B-2388-4F4B-95D5-D1056E7E4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58ECF-5FE6-41A9-986E-B446B9986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CC24B-4BC5-431F-A773-9E45BA5BA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2CD3B-2985-4EE4-8667-E48711EBE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3BFA1-5E5A-4994-9814-2BEDEF809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9CDD0-D329-4043-A020-378AC0767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1AF8-9C6D-4F53-927E-0A3A4A00BB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44DE-0007-437C-A422-5E3CB47124F9}"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ntiago Montt O. / 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3: 15 de marzo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tengan muy presente los gobernantes que, mientras más vigorosamente reine, salvado este principio de función "subsidiaria", el orden jerárquico entre las diversas asociaciones, tanto más firme será no sólo la autoridad, sino también la eficiencia social, y tanto más feliz y próspero el estado de la nación” (Ibid, N° 80) </a:t>
            </a:r>
            <a:endParaRPr b="0" lang="en-US" sz="24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603A-F503-4B8D-B955-CE440CED049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el hombre en necesariamente fundamento, causa y fin de todas las instituciones sociales” (Mater et Magistra de 1961, N° 219, “dignidad humana”)</a:t>
            </a:r>
            <a:endParaRPr b="0" lang="en-US" sz="2400" spc="-1" strike="noStrike">
              <a:solidFill>
                <a:srgbClr val="000000"/>
              </a:solidFill>
              <a:latin typeface="Arial"/>
            </a:endParaRPr>
          </a:p>
        </p:txBody>
      </p:sp>
      <p:sp>
        <p:nvSpPr>
          <p:cNvPr id="12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0A74-2F17-401E-BBD4-79A06A7DB95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las autoridades, en virtud del principio de la función </a:t>
            </a:r>
            <a:r>
              <a:rPr b="0" lang="es-ES" sz="2400" spc="-1" strike="noStrike" u="sng">
                <a:solidFill>
                  <a:srgbClr val="000000"/>
                </a:solidFill>
                <a:uFillTx/>
                <a:latin typeface="Arial"/>
              </a:rPr>
              <a:t>subsidiaria</a:t>
            </a:r>
            <a:r>
              <a:rPr b="0" lang="es-ES" sz="2400" spc="-1" strike="noStrike">
                <a:solidFill>
                  <a:srgbClr val="000000"/>
                </a:solidFill>
                <a:latin typeface="Arial"/>
              </a:rPr>
              <a:t>, tienen que favorecer y auxiliar a la iniciativa privada de tal manera, que sea ésta, en la medida que la realidad permita, la que continúe y concluya el desarrollo económico por ella iniciado”  </a:t>
            </a:r>
            <a:r>
              <a:rPr b="0" lang="en-US" sz="2400" spc="-1" strike="noStrike">
                <a:solidFill>
                  <a:srgbClr val="000000"/>
                </a:solidFill>
                <a:latin typeface="Arial"/>
              </a:rPr>
              <a:t>(</a:t>
            </a:r>
            <a:r>
              <a:rPr b="0" lang="es-ES" sz="2400" spc="-1" strike="noStrike">
                <a:solidFill>
                  <a:srgbClr val="000000"/>
                </a:solidFill>
                <a:latin typeface="Arial"/>
              </a:rPr>
              <a:t>Ibid, N° 2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34" name=""/>
          <p:cNvSpPr txBox="1"/>
          <p:nvPr/>
        </p:nvSpPr>
        <p:spPr>
          <a:xfrm>
            <a:off x="1523880" y="1523520"/>
            <a:ext cx="7010640" cy="449604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La experiencia diaria, prueba, en efecto, que cuando falta la actividad de la iniciativa particular […] produce, además, un estancamiento general en determinados campos de la economía, echándose de menos, en consecuencia, muchos bienes de consumo y múltiples servicios […] ; bienes y servicios cuya obtención ejercita y estimula de modo extraordinario la capacidad creadora del individuo” (ibid, N° 57) = </a:t>
            </a:r>
            <a:r>
              <a:rPr b="0" lang="es-ES" sz="2400" spc="-1" strike="noStrike" u="sng">
                <a:solidFill>
                  <a:srgbClr val="000000"/>
                </a:solidFill>
                <a:uFillTx/>
                <a:latin typeface="Arial"/>
              </a:rPr>
              <a:t>efecto de incentivos</a:t>
            </a:r>
            <a:endParaRPr b="0" lang="en-US" sz="2400" spc="-1" strike="noStrike">
              <a:solidFill>
                <a:srgbClr val="000000"/>
              </a:solidFill>
              <a:latin typeface="Arial"/>
            </a:endParaRPr>
          </a:p>
        </p:txBody>
      </p:sp>
      <p:sp>
        <p:nvSpPr>
          <p:cNvPr id="13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CCA5-8901-4FB5-8F1D-50CFA49E94A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se engarzan dichos conceptos en materias económicas?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de necesidades infinitas con recursos finit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ías de solución (creación de bienesta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o de bienes (crecimiento económico, productividad, avance tecnológi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rientación de estructura de bienes a las necesi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tribución de bienes</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lema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ormación (dónde se encuentran las necesi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ignación eficiente de recurs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tribución / redistribución</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un sistema de mercado, solución mediante procesos de coordinación vía señales de precio entre demandantes y oferentes</a:t>
            </a:r>
            <a:endParaRPr b="0" lang="en-US" sz="24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tema basado en competencia</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beranía del consumidor; estructura de bienes; asignación de recurs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mento productividad; baja de costos; innov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ización de ganancias (costo marginal)</a:t>
            </a:r>
            <a:endParaRPr b="0" lang="en-US" sz="2200" spc="-1" strike="noStrike">
              <a:solidFill>
                <a:srgbClr val="000000"/>
              </a:solidFill>
              <a:latin typeface="Arial"/>
            </a:endParaRPr>
          </a:p>
        </p:txBody>
      </p:sp>
      <p:sp>
        <p:nvSpPr>
          <p:cNvPr id="14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C63B-C559-4473-AB72-E82C713F573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ficiente coordinación vía precios, sólo si:</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ibertad de decisión entre distintas alternativ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ores atomizados (no 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parencia de inform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vilidad de los factores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nalización de todos los cost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re otros …</a:t>
            </a: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ón con D° Constitucionales? ¿19 N° 21, 23 y 24? ¿Otros? </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CD25-87D9-4040-9FA5-F0819EC72F7A}"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5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las de mercado: faltas de dichos supuestos; pérdidas de bienesta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xternalidades negativas (no internalización de los costos social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alta de transparencia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las de mercado legitiman intervención correctiva para reestablecimiento de sistema eficiente de precios (bienesta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27128-C571-4EF7-A597-EBEBB419A01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vención Correctiva</a:t>
            </a:r>
            <a:endParaRPr b="0" lang="en-US" sz="4200" spc="-1" strike="noStrike">
              <a:solidFill>
                <a:srgbClr val="000000"/>
              </a:solidFill>
              <a:latin typeface="Arial"/>
            </a:endParaRPr>
          </a:p>
        </p:txBody>
      </p:sp>
      <p:sp>
        <p:nvSpPr>
          <p:cNvPr id="15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vención correctiva legítima (fallas de mercado) en concordancia con dimensión positiva del principio de subsidiarida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de intervenir? Similar criterio a la detentación de una posición de dominio (legítima) y su abuso (ilegítima)</a:t>
            </a:r>
            <a:endParaRPr b="0" lang="en-US" sz="2400" spc="-1" strike="noStrike">
              <a:solidFill>
                <a:srgbClr val="000000"/>
              </a:solidFill>
              <a:latin typeface="Arial"/>
            </a:endParaRPr>
          </a:p>
        </p:txBody>
      </p:sp>
      <p:sp>
        <p:nvSpPr>
          <p:cNvPr id="15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4D5C2-4F9C-41D4-BB89-55646051FB72}"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0"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5801-B588-4491-AE4F-66048AA605D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encia de la discusión</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el principio de subsidiaried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qué debe ser la intervención del Estado (o privados asimilables) razonable, proporcionada, no privativa, no discriminatoria en forma arbitrari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parte de las discusiones constitucionales de fondo se centran en estas cuesti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vención Correctiva</a:t>
            </a:r>
            <a:endParaRPr b="0" lang="en-US" sz="4200" spc="-1" strike="noStrike">
              <a:solidFill>
                <a:srgbClr val="000000"/>
              </a:solidFill>
              <a:latin typeface="Arial"/>
            </a:endParaRPr>
          </a:p>
        </p:txBody>
      </p:sp>
      <p:sp>
        <p:nvSpPr>
          <p:cNvPr id="158" name=""/>
          <p:cNvSpPr txBox="1"/>
          <p:nvPr/>
        </p:nvSpPr>
        <p:spPr>
          <a:xfrm>
            <a:off x="1523880" y="1676160"/>
            <a:ext cx="7010640" cy="4343400"/>
          </a:xfrm>
          <a:prstGeom prst="rect">
            <a:avLst/>
          </a:prstGeom>
          <a:noFill/>
          <a:ln w="0">
            <a:noFill/>
          </a:ln>
        </p:spPr>
        <p:txBody>
          <a:bodyPr anchor="t">
            <a:normAutofit fontScale="98000"/>
          </a:bodyPr>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usos:</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recios sobre costo marginal</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criminaciones arbitrarias </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tros tipo de distorsiones al sistema eficiente de precio</a:t>
            </a:r>
            <a:endParaRPr b="0" lang="en-US" sz="22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vención Estatal:</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azonable, proporcional, no privativa, etc. (19 N° 26)</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 discriminación arbitraria (19 N° 2, 22)</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vitar distorsiones y pérdidas de bienestar</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ordinación de D°s y Garantías</a:t>
            </a:r>
            <a:endParaRPr b="0" lang="en-US" sz="2200" spc="-1" strike="noStrike">
              <a:solidFill>
                <a:srgbClr val="000000"/>
              </a:solidFill>
              <a:latin typeface="Arial"/>
            </a:endParaRPr>
          </a:p>
          <a:p>
            <a:pPr lvl="1" marL="727920" indent="-280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6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36B81-E168-4BF4-BF2B-B9EA506C0E0A}"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blemas </a:t>
            </a:r>
            <a:endParaRPr b="0" lang="en-US" sz="4200" spc="-1" strike="noStrike">
              <a:solidFill>
                <a:srgbClr val="000000"/>
              </a:solidFill>
              <a:latin typeface="Arial"/>
            </a:endParaRPr>
          </a:p>
        </p:txBody>
      </p:sp>
      <p:sp>
        <p:nvSpPr>
          <p:cNvPr id="16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os no precisos: Errores tipo I (falso positivo) y tipo II (falso negativ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mo los concretiza el TC? ¿Hay uniformidad?  </a:t>
            </a:r>
            <a:endParaRPr b="0" lang="en-US" sz="2400" spc="-1" strike="noStrike">
              <a:solidFill>
                <a:srgbClr val="000000"/>
              </a:solidFill>
              <a:latin typeface="Arial"/>
            </a:endParaRPr>
          </a:p>
        </p:txBody>
      </p:sp>
      <p:sp>
        <p:nvSpPr>
          <p:cNvPr id="16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6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09B6-5284-4D56-B48B-97BF843E0A6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0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io de subsidiariedad tiene una dimensión positiva y una negativ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mensión negativa</a:t>
            </a:r>
            <a:r>
              <a:rPr b="0" lang="en-US" sz="2400" spc="-1" strike="noStrike">
                <a:solidFill>
                  <a:srgbClr val="000000"/>
                </a:solidFill>
                <a:latin typeface="Arial"/>
              </a:rPr>
              <a:t>, el Estado "</a:t>
            </a:r>
            <a:r>
              <a:rPr b="1" lang="en-US" sz="2400" spc="-1" strike="noStrike">
                <a:solidFill>
                  <a:srgbClr val="000000"/>
                </a:solidFill>
                <a:latin typeface="Arial"/>
              </a:rPr>
              <a:t>no debe intervenir en las actividades de las sociedades intermedias cuando desarrollan su actividad y fines real y eficazmente dentro del bien común</a:t>
            </a:r>
            <a:r>
              <a:rPr b="0" lang="en-US" sz="2400" spc="-1" strike="noStrike">
                <a:solidFill>
                  <a:srgbClr val="000000"/>
                </a:solidFill>
                <a:latin typeface="Arial"/>
              </a:rPr>
              <a:t>;...". (“</a:t>
            </a:r>
            <a:r>
              <a:rPr b="0" i="1" lang="en-US" sz="2400" spc="-1" strike="noStrike">
                <a:solidFill>
                  <a:srgbClr val="000000"/>
                </a:solidFill>
                <a:latin typeface="Arial"/>
              </a:rPr>
              <a:t>Autonomía Subsidiaria</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1F043-CF7A-4D26-A9F6-7EFE194F2CA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08"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Dimensión positiva</a:t>
            </a:r>
            <a:r>
              <a:rPr b="0" lang="es-ES" sz="2400" spc="-1" strike="noStrike">
                <a:solidFill>
                  <a:srgbClr val="000000"/>
                </a:solidFill>
                <a:latin typeface="Arial"/>
              </a:rPr>
              <a:t> ...implica una </a:t>
            </a:r>
            <a:r>
              <a:rPr b="1" lang="es-ES" sz="2400" spc="-1" strike="noStrike">
                <a:solidFill>
                  <a:srgbClr val="000000"/>
                </a:solidFill>
                <a:latin typeface="Arial"/>
              </a:rPr>
              <a:t>protección de las sociedades o grupos intermedios menores </a:t>
            </a:r>
            <a:r>
              <a:rPr b="1" lang="es-ES" sz="2400" spc="-1" strike="noStrike" u="sng">
                <a:solidFill>
                  <a:srgbClr val="000000"/>
                </a:solidFill>
                <a:uFillTx/>
                <a:latin typeface="Arial"/>
              </a:rPr>
              <a:t>frente a los mayores</a:t>
            </a:r>
            <a:r>
              <a:rPr b="1" lang="es-ES" sz="2400" spc="-1" strike="noStrike">
                <a:solidFill>
                  <a:srgbClr val="000000"/>
                </a:solidFill>
                <a:latin typeface="Arial"/>
              </a:rPr>
              <a:t>, como asimismo un derecho de intervenir del Estado, cuando las sociedades intermedias no sean capaces de realizar su actividad </a:t>
            </a:r>
            <a:r>
              <a:rPr b="1" lang="es-ES" sz="2400" spc="-1" strike="noStrike" u="sng">
                <a:solidFill>
                  <a:srgbClr val="000000"/>
                </a:solidFill>
                <a:uFillTx/>
                <a:latin typeface="Arial"/>
              </a:rPr>
              <a:t>real o eficazmente</a:t>
            </a:r>
            <a:r>
              <a:rPr b="1" lang="es-ES" sz="2400" spc="-1" strike="noStrike">
                <a:solidFill>
                  <a:srgbClr val="000000"/>
                </a:solidFill>
                <a:latin typeface="Arial"/>
              </a:rPr>
              <a:t> o cuando ellas atenten </a:t>
            </a:r>
            <a:r>
              <a:rPr b="1" lang="es-ES" sz="2400" spc="-1" strike="noStrike" u="sng">
                <a:solidFill>
                  <a:srgbClr val="000000"/>
                </a:solidFill>
                <a:uFillTx/>
                <a:latin typeface="Arial"/>
              </a:rPr>
              <a:t>contra el bien común</a:t>
            </a:r>
            <a:r>
              <a:rPr b="0" lang="es-ES" sz="2400" spc="-1" strike="noStrike">
                <a:solidFill>
                  <a:srgbClr val="000000"/>
                </a:solidFill>
                <a:latin typeface="Arial"/>
              </a:rPr>
              <a:t>. En tal caso, el Estado debe suplir su tarea, removiendo los obstáculos y restableciendo, </a:t>
            </a:r>
            <a:r>
              <a:rPr b="0" lang="es-ES" sz="2400" spc="-1" strike="noStrike" u="sng">
                <a:solidFill>
                  <a:srgbClr val="000000"/>
                </a:solidFill>
                <a:uFillTx/>
                <a:latin typeface="Arial"/>
              </a:rPr>
              <a:t>una vez superados estos últimos, la autonomía de las sociedades intermedias afectadas</a:t>
            </a:r>
            <a:r>
              <a:rPr b="0" lang="es-ES" sz="2400" spc="-1" strike="noStrike">
                <a:solidFill>
                  <a:srgbClr val="000000"/>
                </a:solidFill>
                <a:latin typeface="Arial"/>
              </a:rPr>
              <a:t>" (</a:t>
            </a:r>
            <a:r>
              <a:rPr b="0" i="1" lang="es-ES" sz="2400" spc="-1" strike="noStrike">
                <a:solidFill>
                  <a:srgbClr val="000000"/>
                </a:solidFill>
                <a:latin typeface="Arial"/>
              </a:rPr>
              <a:t>Asistencia Subsidiaria</a:t>
            </a:r>
            <a:r>
              <a:rPr b="0" lang="es-ES" sz="2400" spc="-1" strike="noStrike">
                <a:solidFill>
                  <a:srgbClr val="000000"/>
                </a:solidFill>
                <a:latin typeface="Arial"/>
              </a:rPr>
              <a:t>) Rol N° 1295-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br>
              <a:rPr sz="4200"/>
            </a:br>
            <a:r>
              <a:rPr b="0" lang="en-US" sz="4200" spc="-1" strike="noStrike">
                <a:solidFill>
                  <a:srgbClr val="000000"/>
                </a:solidFill>
                <a:latin typeface="Arial"/>
              </a:rPr>
              <a:t>Aplicación Práctica</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Ha sido utilizado últimamente para justificar la participación de los privados en los seguros de salud (Isapres) = Roles N° 1218, 1287, etc.</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Turno gratuito de abogados, justificación de participación de privados = Roles N° 755-07, 1138-0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br>
              <a:rPr sz="4200"/>
            </a:br>
            <a:r>
              <a:rPr b="0" lang="en-US" sz="4200" spc="-1" strike="noStrike">
                <a:solidFill>
                  <a:srgbClr val="000000"/>
                </a:solidFill>
                <a:latin typeface="Arial"/>
              </a:rPr>
              <a:t>Aplicación Práctica</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aso “Editorial Jurídica de Chile” y su monopolio de la ediciones oficiales de los “Códigos de la Repúblic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3000" spc="-1" strike="noStrike">
                <a:solidFill>
                  <a:srgbClr val="000000"/>
                </a:solidFill>
                <a:latin typeface="Arial"/>
              </a:rPr>
              <a:t>Rol 1144-0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1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clásica del principio de subsidiaridad en la Encíclica Quadragesimo Anno (1931), dentro de concepto de “Restauración Soci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puesta de la Doctrina Social de la Iglesia a sistemas basados en el individualismo o en el colectivismo.</a:t>
            </a:r>
            <a:endParaRPr b="0" lang="en-US" sz="2400" spc="-1" strike="noStrike">
              <a:solidFill>
                <a:srgbClr val="000000"/>
              </a:solidFill>
              <a:latin typeface="Arial"/>
            </a:endParaRPr>
          </a:p>
        </p:txBody>
      </p:sp>
      <p:sp>
        <p:nvSpPr>
          <p:cNvPr id="11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9D69A-F6A4-4BA9-8394-543C299C6AB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u="sng">
                <a:solidFill>
                  <a:srgbClr val="000000"/>
                </a:solidFill>
                <a:uFillTx/>
                <a:latin typeface="Arial"/>
              </a:rPr>
              <a:t>no se puede quitar a los individuos</a:t>
            </a:r>
            <a:r>
              <a:rPr b="0" lang="en-US" sz="2400" spc="-1" strike="noStrike">
                <a:solidFill>
                  <a:srgbClr val="000000"/>
                </a:solidFill>
                <a:latin typeface="Arial"/>
              </a:rPr>
              <a:t> y dar a la comunidad lo que ellos pueden realizar con su </a:t>
            </a:r>
            <a:r>
              <a:rPr b="0" lang="en-US" sz="2400" spc="-1" strike="noStrike" u="sng">
                <a:solidFill>
                  <a:srgbClr val="000000"/>
                </a:solidFill>
                <a:uFillTx/>
                <a:latin typeface="Arial"/>
              </a:rPr>
              <a:t>propio esfuerzo e industria</a:t>
            </a:r>
            <a:r>
              <a:rPr b="0" lang="en-US" sz="2400" spc="-1" strike="noStrike">
                <a:solidFill>
                  <a:srgbClr val="000000"/>
                </a:solidFill>
                <a:latin typeface="Arial"/>
              </a:rPr>
              <a:t>, así tampoco es justo, constituyendo un grave perjuicio y perturbación del recto orden, </a:t>
            </a:r>
            <a:r>
              <a:rPr b="0" lang="en-US" sz="2400" spc="-1" strike="noStrike" u="sng">
                <a:solidFill>
                  <a:srgbClr val="000000"/>
                </a:solidFill>
                <a:uFillTx/>
                <a:latin typeface="Arial"/>
              </a:rPr>
              <a:t>quitar a las comunidades menores e inferiores lo que ellas pueden hacer y proporcionar y dárselo a una sociedad mayor</a:t>
            </a:r>
            <a:r>
              <a:rPr b="0" lang="en-US" sz="2400" spc="-1" strike="noStrike">
                <a:solidFill>
                  <a:srgbClr val="000000"/>
                </a:solidFill>
                <a:latin typeface="Arial"/>
              </a:rPr>
              <a:t> y más elev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2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ya que toda acción de la sociedad, por su propia fuerza y naturaleza, debe prestar ayuda a los miembros del cuerpo social, pero no destruirlos y absorberlos” (Quadragesimo Anno N° 79) </a:t>
            </a:r>
            <a:endParaRPr b="0" lang="en-US" sz="24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1860-AE06-4E63-A26B-3C96805F508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03-14T19:28:48Z</dcterms:modified>
  <cp:revision>22</cp:revision>
  <dc:subject/>
  <dc:title>Derecho Constitucional Económico</dc:title>
</cp:coreProperties>
</file>