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3EA9-C12D-4C83-947F-0321CB14FC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E9DC-5EDC-4915-B286-23D8AABB5FF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4553E-F659-492C-8F02-559DFB5C0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8F40-C894-4D62-819B-9D81667A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4AED1-55B8-422A-B9E8-256328077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2C7B-7E4F-4C7D-AA7C-0F4777270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20DEE-03C9-4509-9CFA-C3B3F7D53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4D8CF-1F1D-420E-B1BE-099B3B44A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8037A-DF92-4C48-8BCA-DB0C08E89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FE680-628E-4AA6-8736-F8C7029F4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B1699-112D-49FF-8CAB-CE362B032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37A94-467F-4D4B-A299-B9E87B500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8D27B-3783-4F4C-B38D-46060A785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7E825-3B50-4B53-8290-FB30A23C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BB3B1-17B5-47E1-9523-480F80137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52E9F-F71A-48C7-AD03-433B7D9CB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1B9FD-9C2B-4505-BC7C-B242FEC15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69721-56A9-44C0-9834-61FA60390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D995A-5637-4B4B-91DC-9918AC141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F169A-535A-4354-BDD8-B929A296F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E4A7-84A8-4792-B3D3-86B3D3E2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AA01-2C57-48DA-953E-A2F89264D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E152-BD71-43B4-821E-CCD169E39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1E9D-69CA-4146-BF9A-E648AB6E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43EA-153A-4D2A-93B1-D500FF880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F2F1-78D0-4AAD-8E00-08EE5E275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F4F6-732A-4668-8434-AE3A2D853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1811-4FE5-42CF-B671-1E737073ED7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15 de marzo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708F-AD6E-4E63-A49B-73AA5D68D3C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DBE5-4897-49FE-BD59-7E77F0B2E21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8CE1-F279-4FC1-8227-5F51A8AC1E8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3994-992F-468D-865D-F1582F59941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1F43-D6F5-487F-921C-95CF485D700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CF9C-0957-4325-A24A-C69CA917A91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975A-99C3-44AD-9345-65204926ECD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637A-67F2-4926-86A0-7CF43C7E86D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B120-7F08-4C39-82D3-E8B7AC7C0FF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1771-08F4-468B-B3D3-4A216CA792B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9DA0-73FD-4C47-9AC1-6CE8CE795D0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7870-E5C6-473D-809A-893C8EDCC89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F495-42D6-414F-A6F0-40E5DEF578B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3-14T19:28:48Z</dcterms:modified>
  <cp:revision>22</cp:revision>
  <dc:subject/>
  <dc:title>Derecho Constitucional Económico</dc:title>
</cp:coreProperties>
</file>