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2801600" cy="96012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D81-5E6E-494E-8290-63E42C50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E5D-8264-4E7B-9C67-EDF30149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DE1-7D43-4CC9-88B0-8C0024DE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056-D504-4B72-AD97-9E3B308F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BD9-A66A-471E-ADB1-38C6E7B7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3C2-3B80-4A4B-A5A2-515E35C0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258-6406-4FD9-B77D-89C8634E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DD6-FFC4-4EFC-89B0-2D065833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9BCC-C9CF-446D-99C7-5F7699BB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1B4-1CC9-4674-BC20-6538D94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8BC-5BB7-4280-B8F5-C846076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E73-BB26-404C-B9D4-F53D7E08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s-E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06C455F-5A47-4609-A57E-0623A2D90195}" type="slidenum">
              <a:rPr b="0" lang="es-E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0720" y="349200"/>
            <a:ext cx="64382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versidad de Ch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Facultad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ofesor Sr. José Luis López 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6080" y="1920960"/>
            <a:ext cx="1051380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2440" y="7321680"/>
            <a:ext cx="1188072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FERENCIA   COMPRAVENTA INTERNACIONAL DE MERCADE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DE PROPIEDAD INTELECTUAL 204553 DE 2011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MAYO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8440" y="407880"/>
            <a:ext cx="95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8080" y="1631880"/>
            <a:ext cx="12233160" cy="2881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COMPRAVENTA INTERNACIONAL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DE MERCADERIA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DIAGR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9720" y="5592600"/>
            <a:ext cx="11522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REGISTRO PROPIEDAD INTELECTUAL Nº 204553 DE 2011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JOSE LUIS LOPEZ BLANCO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www.rclabogados.cl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   AV. 11 DE SEPTIEMBRE 2353, P. 14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       F:  2336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410000" y="6721560"/>
          <a:ext cx="24177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0000" y="6721560"/>
                    <a:ext cx="2417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410000" y="6640560"/>
            <a:ext cx="2844720" cy="1439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405400" y="5521320"/>
            <a:ext cx="127944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40320" y="4079880"/>
          <a:ext cx="1071360" cy="9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0320" y="4079880"/>
                    <a:ext cx="10713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26960" y="463248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90800" y="712116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008800" y="3029400"/>
            <a:ext cx="80013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ocumentos de embar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0800" y="5200560"/>
            <a:ext cx="270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90800" y="5200560"/>
            <a:ext cx="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040400">
            <a:off x="3807000" y="4479480"/>
            <a:ext cx="744480" cy="311400"/>
          </a:xfrm>
          <a:custGeom>
            <a:avLst/>
            <a:gdLst>
              <a:gd name="textAreaLeft" fmla="*/ 130320 w 744480"/>
              <a:gd name="textAreaRight" fmla="*/ 540000 w 744480"/>
              <a:gd name="textAreaTop" fmla="*/ 41760 h 311400"/>
              <a:gd name="textAreaBottom" fmla="*/ 269640 h 3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1321000">
            <a:off x="5176440" y="4223880"/>
            <a:ext cx="862200" cy="244440"/>
          </a:xfrm>
          <a:custGeom>
            <a:avLst/>
            <a:gdLst>
              <a:gd name="textAreaLeft" fmla="*/ 150840 w 862200"/>
              <a:gd name="textAreaRight" fmla="*/ 625320 w 862200"/>
              <a:gd name="textAreaTop" fmla="*/ 32760 h 244440"/>
              <a:gd name="textAreaBottom" fmla="*/ 211680 h 24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51480" y="4960800"/>
            <a:ext cx="184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MX" sz="1700" spc="-1" strike="noStrike">
                <a:solidFill>
                  <a:srgbClr val="000000"/>
                </a:solidFill>
                <a:latin typeface="Times New Roman"/>
              </a:rPr>
              <a:t>Export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21360" y="3600360"/>
            <a:ext cx="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3868200" y="2622960"/>
            <a:ext cx="2322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gistro de export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983040" y="465120"/>
            <a:ext cx="227484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72080" y="0"/>
            <a:ext cx="11905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ADUA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73840" y="520056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73840" y="616068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77400">
            <a:off x="4402080" y="6721200"/>
            <a:ext cx="860400" cy="236520"/>
          </a:xfrm>
          <a:custGeom>
            <a:avLst/>
            <a:gdLst>
              <a:gd name="textAreaLeft" fmla="*/ 150480 w 860400"/>
              <a:gd name="textAreaRight" fmla="*/ 623880 w 860400"/>
              <a:gd name="textAreaTop" fmla="*/ 31680 h 236520"/>
              <a:gd name="textAreaBottom" fmla="*/ 204840 h 23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541200">
            <a:off x="4406760" y="7440120"/>
            <a:ext cx="855720" cy="320760"/>
          </a:xfrm>
          <a:custGeom>
            <a:avLst/>
            <a:gdLst>
              <a:gd name="textAreaLeft" fmla="*/ 149760 w 855720"/>
              <a:gd name="textAreaRight" fmla="*/ 620640 w 855720"/>
              <a:gd name="textAreaTop" fmla="*/ 42840 h 320760"/>
              <a:gd name="textAreaBottom" fmla="*/ 277920 h 3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4960" y="7761240"/>
            <a:ext cx="1227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Importad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75440" y="8240760"/>
            <a:ext cx="17460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Descarga y reti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De puer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24160" y="5951520"/>
            <a:ext cx="15652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ontra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200" y="9280440"/>
            <a:ext cx="1727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rto 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01160" y="9215280"/>
            <a:ext cx="14990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uerto dest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80240" y="7921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54720" y="79218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856152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7760" y="672156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57000" y="6591240"/>
            <a:ext cx="1271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olicit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45520" y="672156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9672120" y="6880320"/>
            <a:ext cx="42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21320" y="6751800"/>
            <a:ext cx="2192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ntrega docu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543360" y="688032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57880" y="712152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88440" y="71215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2200" y="7018200"/>
            <a:ext cx="2160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a docume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40920" y="7018200"/>
            <a:ext cx="256068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Banco comercial extranje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0240920" y="4960440"/>
            <a:ext cx="0" cy="104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9099360" y="4065840"/>
            <a:ext cx="2102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Confirma y avis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937880" y="5160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9337320" y="3793680"/>
            <a:ext cx="304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Remite doumentos de 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945880" y="5160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10373760" y="3825360"/>
            <a:ext cx="2966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a documentos de embae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088800" y="2424240"/>
            <a:ext cx="0" cy="56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0240920" y="223956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1080800" y="220788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069920" y="552600"/>
            <a:ext cx="24058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Banco comercial chile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21360" y="17604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973480" y="416088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6760" y="2000160"/>
            <a:ext cx="1320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Notific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43720" y="416088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969240" y="2160720"/>
            <a:ext cx="0" cy="20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69240" y="21607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961480" y="2160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218560" y="2751840"/>
            <a:ext cx="2751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Solicita credito pre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689080" y="3921120"/>
            <a:ext cx="85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689440" y="392076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69240" y="1920960"/>
            <a:ext cx="270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84840" y="1920960"/>
            <a:ext cx="28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546880" y="1839600"/>
            <a:ext cx="0" cy="23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6880" y="183996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43720" y="152100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3720" y="1521000"/>
            <a:ext cx="4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1800" y="1039680"/>
            <a:ext cx="214236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esenta documento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Embarque. Cobra 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y paga crédit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eembar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02600" y="152100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2920" y="3360600"/>
          <a:ext cx="1847880" cy="15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2920" y="3360600"/>
                    <a:ext cx="18478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3982680" y="4160880"/>
            <a:ext cx="56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53560" y="3921120"/>
            <a:ext cx="14504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o faen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Frio embal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133360" y="416088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6800" y="494496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582480" y="5971680"/>
            <a:ext cx="19501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Transporte a puer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960" y="680076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0" y="1120680"/>
            <a:ext cx="2133720" cy="1519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267080" y="3921120"/>
            <a:ext cx="2845080" cy="144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267080" y="2079720"/>
            <a:ext cx="0" cy="17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82680" y="2079720"/>
            <a:ext cx="28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20880" y="1920960"/>
            <a:ext cx="1689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ago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product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76280" y="2079720"/>
            <a:ext cx="42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71480" y="7601040"/>
          <a:ext cx="139068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1480" y="7601040"/>
                    <a:ext cx="13906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0780560" y="7601040"/>
          <a:ext cx="1392480" cy="1731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780560" y="7601040"/>
                    <a:ext cx="139248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0702800" y="5921280"/>
          <a:ext cx="1511280" cy="1190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0702800" y="5921280"/>
                    <a:ext cx="15112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561680" y="1039680"/>
          <a:ext cx="1511280" cy="11923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0561680" y="1039680"/>
                    <a:ext cx="151128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rot="10472400">
            <a:off x="5546880" y="6560640"/>
            <a:ext cx="855360" cy="319320"/>
          </a:xfrm>
          <a:custGeom>
            <a:avLst/>
            <a:gdLst>
              <a:gd name="textAreaLeft" fmla="*/ 149400 w 855360"/>
              <a:gd name="textAreaRight" fmla="*/ 620280 w 855360"/>
              <a:gd name="textAreaTop" fmla="*/ 42480 h 319320"/>
              <a:gd name="textAreaBottom" fmla="*/ 276840 h 3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7591400">
            <a:off x="6551280" y="7361280"/>
            <a:ext cx="642960" cy="480960"/>
          </a:xfrm>
          <a:custGeom>
            <a:avLst/>
            <a:gdLst>
              <a:gd name="textAreaLeft" fmla="*/ 112320 w 642960"/>
              <a:gd name="textAreaRight" fmla="*/ 466200 w 642960"/>
              <a:gd name="textAreaTop" fmla="*/ 64440 h 480960"/>
              <a:gd name="textAreaBottom" fmla="*/ 416520 h 4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8"/>
          <a:stretch/>
        </p:blipFill>
        <p:spPr>
          <a:xfrm>
            <a:off x="4267080" y="8640720"/>
            <a:ext cx="2133720" cy="565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701800" y="912168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9121680"/>
            <a:ext cx="355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4600" y="9158400"/>
            <a:ext cx="20372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Times New Roman"/>
              </a:rPr>
              <a:t>Transporte marítim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39720" y="384120"/>
            <a:ext cx="11522160" cy="10317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FUENTES LEGAL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36440" y="1487160"/>
            <a:ext cx="9937800" cy="7489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onvención de Viena de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Principios UNIDR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UCP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7152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LA FUNCION D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39720" y="2855520"/>
            <a:ext cx="11522160" cy="5721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 1545 del Código Ci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 6º Convención de Vi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Artículos 1.1 y 1.3 de Principios UNIDR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Las reglas INCOTERMS no proporcionan un contrato de compraventa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LA FUNCION D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39720" y="2063520"/>
            <a:ext cx="11522160" cy="7273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Principio de la autonomía de la volunt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Reconocimiento 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s partes deben reflejar en el contrato claramente su intención respecto de todos l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s controversias entre las partes se resolverán de acuerdo con lo expresado en el cont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Se incluye anexo con pauta de puntos básicos a nego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La negociación y la redacción del contrato requieren asesoría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PAUTA DE NEGO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9720" y="1920960"/>
            <a:ext cx="11522160" cy="76802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9000"/>
          </a:bodyPr>
          <a:p>
            <a:pPr marL="848520" indent="-8485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Se recomienda que las partes negocien y definan sus acuerdos con claridad sobre los siguientes pu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Vendedor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0.    Destino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omprador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1.    Transpor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Producto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2.    Segu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alidad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3.    Certificados y documen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Cantidad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4.    Legislación aplic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Embalaje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15.    Arbitra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Forma de pa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-735480">
              <a:lnSpc>
                <a:spcPct val="100000"/>
              </a:lnSpc>
              <a:spcBef>
                <a:spcPts val="476"/>
              </a:spcBef>
              <a:buClr>
                <a:srgbClr val="0033cc"/>
              </a:buClr>
              <a:buFont typeface="Verdana"/>
              <a:buAutoNum type="arabicPeriod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33cc"/>
                </a:solidFill>
                <a:latin typeface="Verdana"/>
              </a:rPr>
              <a:t>Embarque   (Entreg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3687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96960"/>
            <a:ext cx="12450600" cy="10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4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REGLAS I.C.C.</a:t>
            </a: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ENTREG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DISTRIBUCIÓN DE COS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TRANSPORTE DE MERCAD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8381880"/>
            <a:ext cx="449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762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3000" spc="-1" strike="noStrike">
                <a:solidFill>
                  <a:srgbClr val="0033cc"/>
                </a:solidFill>
                <a:latin typeface="Verdana"/>
              </a:rPr>
              <a:t>LA CÁMARA DE COMERCIO INTERNACIONAL 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0033cc"/>
                </a:solidFill>
                <a:latin typeface="Verdana"/>
              </a:rPr>
              <a:t>I.C.C.      www.iccwbo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87440" y="2424240"/>
            <a:ext cx="12314160" cy="6953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Fue creada en 1919 por un grupo de empresarios, industriales, financistas y comercian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Se autodenominaron “los comerciantes de la paz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n 1923 la ICC creó la Corte Internacional de Arbitra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En 1945 fue designada miembro consultor de Naciones Unid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La ICC ha creado diversas reglas para facilitar el comercio internacio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FUNCIONES PRINCIP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83720" y="2239920"/>
            <a:ext cx="11377800" cy="66643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3000"/>
          </a:bodyPr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Proposición de reglas uniformes en materias comerciales y bancaria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Tribunal Arbitral Internacional en materias comercial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Asesoría a Naciones Unida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Coordinación global de Cámaras de Comerc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Prohibición del comercio ileg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100000"/>
              </a:lnSpc>
              <a:spcBef>
                <a:spcPts val="774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100" spc="-1" strike="noStrike">
                <a:solidFill>
                  <a:srgbClr val="0033cc"/>
                </a:solidFill>
                <a:latin typeface="Verdana"/>
              </a:rPr>
              <a:t>Ediciones y publicaciones en materia comerc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2096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3400" spc="-1" strike="noStrike">
                <a:solidFill>
                  <a:srgbClr val="0033cc"/>
                </a:solidFill>
                <a:latin typeface="Verdana"/>
              </a:rPr>
              <a:t>I.C.C PUBLICACIONES</a:t>
            </a:r>
            <a:br>
              <a:rPr sz="3400"/>
            </a:br>
            <a:br>
              <a:rPr sz="3400"/>
            </a:br>
            <a:r>
              <a:rPr b="1" lang="es-ES" sz="3400" spc="-1" strike="noStrike">
                <a:solidFill>
                  <a:srgbClr val="0033cc"/>
                </a:solidFill>
                <a:latin typeface="Verdana"/>
              </a:rPr>
              <a:t>www.iccbooks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9360" y="2239560"/>
            <a:ext cx="11882520" cy="69534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ncoterms® 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Uniform Customs and Practice for Documentary Credits. UCP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Model International Transfer of Technology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Business Law in China. Trade, Investment, Operations and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Model International Trademark Li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ES" sz="2800" spc="-1" strike="noStrike">
                <a:solidFill>
                  <a:srgbClr val="0033cc"/>
                </a:solidFill>
                <a:latin typeface="Verdana"/>
              </a:rPr>
              <a:t>ICC Uniform Rules for Bank-to-Bank Reimbursements under documentary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720" y="0"/>
            <a:ext cx="11522160" cy="19843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ANTECEDENTES: 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GLOBAL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76440" y="2279520"/>
            <a:ext cx="525636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2440" y="7680240"/>
            <a:ext cx="1216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Verdana"/>
              </a:rPr>
              <a:t>Es una radio de marca americana, fabricada en China, con componentes japoneses, que un amigo alemán, a su llegada de Australia, me regaló en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© </a:t>
            </a:r>
            <a:r>
              <a:rPr b="1" lang="es-ES" sz="2000" spc="-1" strike="noStrike">
                <a:solidFill>
                  <a:srgbClr val="0033cc"/>
                </a:solidFill>
                <a:latin typeface="Verdana"/>
              </a:rPr>
              <a:t>( El Mercurio 23.09.0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640800" y="2855880"/>
            <a:ext cx="316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Calma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A ver..., todo de nuev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080" y="2855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Verdana"/>
              </a:rPr>
              <a:t>ADU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552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92096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2800" y="1920960"/>
            <a:ext cx="11530080" cy="67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Conjunto de términos que establecen las definiciones de los términos comerciales más comúnmente utilizados en el comercio internacional. Las partes de un contrato de compraventa internacional pueden recurrir a este conjunto de términos para establecer con claridad y precisión las obligaciones de cada una de ellas en ese contrato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os INCOTERMS fueron establecidos por primera vez en el año 1936.  Posteriormente, fueron modificados en diversas oportunidades, siendo la última versión INCOTERMS 2010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a actual versión INCOTERMS 2010 empezó a regir el 1º de enero del año 20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La modificación 2010 reduce las cláusulas de 13 a 1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Se eliminan  las cláusulas DAF, DES, DEQ, DDU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300" spc="-1" strike="noStrike">
                <a:solidFill>
                  <a:srgbClr val="0033cc"/>
                </a:solidFill>
                <a:latin typeface="Verdana"/>
              </a:rPr>
              <a:t>Se crean las cláusulas DAT, DA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6800" y="263520"/>
            <a:ext cx="88520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INCOTERMS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PROPÓSITO Y CAMPO DE APLICACIÓN</a:t>
            </a:r>
            <a:r>
              <a:rPr b="0" lang="es-CL" sz="2800" spc="-1" strike="noStrike">
                <a:solidFill>
                  <a:srgbClr val="00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Verdana"/>
              </a:rPr>
              <a:t>DIAGRAMA LOGISTICA COMPRAVENT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3720" y="3216240"/>
            <a:ext cx="7201080" cy="1660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90880" y="7047000"/>
            <a:ext cx="145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RO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AÍ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6120" y="705312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ADU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59120" y="704700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LOCAL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46440" y="7053120"/>
            <a:ext cx="155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UERTO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OR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25400" y="7059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UERTO P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6800" y="4079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20800" y="429588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4"/>
            <a:endCxn id="220" idx="0"/>
          </p:cNvCxnSpPr>
          <p:nvPr/>
        </p:nvCxnSpPr>
        <p:spPr>
          <a:xfrm flipH="1" rot="16200000">
            <a:off x="2775600" y="3742920"/>
            <a:ext cx="2470680" cy="4150440"/>
          </a:xfrm>
          <a:prstGeom prst="bentConnector3">
            <a:avLst>
              <a:gd name="adj1" fmla="val 49927"/>
            </a:avLst>
          </a:prstGeom>
          <a:ln w="3492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144440" y="4297320"/>
            <a:ext cx="432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84440" y="429732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22424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/>
          <p:nvPr/>
        </p:nvCxnSpPr>
        <p:spPr>
          <a:xfrm flipH="1" rot="16200000">
            <a:off x="5282280" y="4478040"/>
            <a:ext cx="2527920" cy="2451960"/>
          </a:xfrm>
          <a:prstGeom prst="bentConnector3">
            <a:avLst>
              <a:gd name="adj1" fmla="val 72610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8963280" y="7074000"/>
            <a:ext cx="155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TRANS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LOCAL P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5320" y="4081320"/>
            <a:ext cx="432000" cy="28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2" idx="4"/>
            <a:endCxn id="231" idx="0"/>
          </p:cNvCxnSpPr>
          <p:nvPr/>
        </p:nvCxnSpPr>
        <p:spPr>
          <a:xfrm flipH="1" rot="16200000">
            <a:off x="6862680" y="4196520"/>
            <a:ext cx="2705760" cy="3050280"/>
          </a:xfrm>
          <a:prstGeom prst="bentConnector3">
            <a:avLst>
              <a:gd name="adj1" fmla="val 49926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39720" y="4513320"/>
            <a:ext cx="0" cy="23749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4"/>
            <a:endCxn id="221" idx="0"/>
          </p:cNvCxnSpPr>
          <p:nvPr/>
        </p:nvCxnSpPr>
        <p:spPr>
          <a:xfrm flipH="1" rot="16200000">
            <a:off x="816480" y="5127480"/>
            <a:ext cx="2463120" cy="1377000"/>
          </a:xfrm>
          <a:prstGeom prst="bentConnector3">
            <a:avLst>
              <a:gd name="adj1" fmla="val 49963"/>
            </a:avLst>
          </a:prstGeom>
          <a:ln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10800720" y="7053120"/>
            <a:ext cx="150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COMPR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PAÍ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64440" y="4079880"/>
            <a:ext cx="431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6"/>
            <a:endCxn id="236" idx="0"/>
          </p:cNvCxnSpPr>
          <p:nvPr/>
        </p:nvCxnSpPr>
        <p:spPr>
          <a:xfrm>
            <a:off x="7696080" y="4224240"/>
            <a:ext cx="3859920" cy="2829600"/>
          </a:xfrm>
          <a:prstGeom prst="bentConnector2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 flipV="1">
            <a:off x="6113520" y="4368600"/>
            <a:ext cx="0" cy="1439640"/>
          </a:xfrm>
          <a:prstGeom prst="line">
            <a:avLst/>
          </a:prstGeom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3160" y="4008600"/>
            <a:ext cx="5778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"/>
          <p:cNvCxnSpPr>
            <a:stCxn id="240" idx="4"/>
            <a:endCxn id="222" idx="0"/>
          </p:cNvCxnSpPr>
          <p:nvPr/>
        </p:nvCxnSpPr>
        <p:spPr>
          <a:xfrm flipH="1" rot="16200000">
            <a:off x="2305800" y="4935240"/>
            <a:ext cx="2613600" cy="1623240"/>
          </a:xfrm>
          <a:prstGeom prst="bentConnector3">
            <a:avLst>
              <a:gd name="adj1" fmla="val 49993"/>
            </a:avLst>
          </a:prstGeom>
          <a:ln w="349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928800" y="8904240"/>
            <a:ext cx="1087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600" spc="-1" strike="noStrike">
                <a:solidFill>
                  <a:srgbClr val="0033cc"/>
                </a:solidFill>
                <a:latin typeface="Verdana"/>
              </a:rPr>
              <a:t>REGISTRO DE PROPIEDAD INTELECTUAL Nº 204553 D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3880" y="1704960"/>
            <a:ext cx="118652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Las cláusulas INCOTERMS se incorporan en cada contrato en la cláusula del precio.  Se indican a continuación algunos ejempl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100 la unidad Ex Works Fábrica San Bernardo, Santiag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50 la caja FCA Colina, Santiag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15 la caja FAS Valparaíso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0.95 la libra FOB Antofagasta, Ch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750 la tonelada métrica CFR Nueva Y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600" spc="-1" strike="noStrike">
                <a:solidFill>
                  <a:srgbClr val="0033cc"/>
                </a:solidFill>
                <a:latin typeface="Verdana"/>
              </a:rPr>
              <a:t>US$ 500 la tonelada métrica CIF Ámsterd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6800" y="479520"/>
            <a:ext cx="88520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Verdana"/>
              </a:rPr>
              <a:t>EJEMPLOS DE CLAUSULAS INCO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8440" y="263520"/>
            <a:ext cx="11017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Verdana"/>
              </a:rPr>
              <a:t>ESTRUCTURA INCOTERMS    </a:t>
            </a:r>
            <a:r>
              <a:rPr b="1" lang="es-CL" sz="2400" spc="-1" strike="noStrike">
                <a:solidFill>
                  <a:srgbClr val="0033cc"/>
                </a:solidFill>
                <a:latin typeface="Verdana"/>
              </a:rPr>
              <a:t>(TRADI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133720" y="2387520"/>
          <a:ext cx="8534160" cy="71262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ÉRMI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  <a:ea typeface="Times New Roman"/>
                        </a:rPr>
                        <a:t>EXW</a:t>
                      </a: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C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F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F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E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800" spc="-1" strike="noStrike">
                <a:solidFill>
                  <a:srgbClr val="0033cc"/>
                </a:solidFill>
                <a:latin typeface="Verdana"/>
              </a:rPr>
              <a:t>ESTRUCTURA INCOTERMS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55720" y="2239920"/>
            <a:ext cx="11306160" cy="7361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 u="sng">
                <a:solidFill>
                  <a:srgbClr val="0033cc"/>
                </a:solidFill>
                <a:uFillTx/>
                <a:latin typeface="Verdana"/>
              </a:rPr>
              <a:t>Reglas para cualquier modo de transpor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EX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F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C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Verdana"/>
              </a:rPr>
              <a:t>D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800" spc="-1" strike="noStrike">
                <a:solidFill>
                  <a:srgbClr val="0033cc"/>
                </a:solidFill>
                <a:latin typeface="Verdana"/>
              </a:rPr>
              <a:t>ESTRUCTURA INCOTERMS 20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55720" y="2239920"/>
            <a:ext cx="11306160" cy="7361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 u="sng">
                <a:solidFill>
                  <a:srgbClr val="0033cc"/>
                </a:solidFill>
                <a:uFillTx/>
                <a:latin typeface="Verdana"/>
              </a:rPr>
              <a:t>Reglas para transporte marítimo y vías navegab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F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C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6800" y="479520"/>
            <a:ext cx="88520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Verdana"/>
              </a:rPr>
              <a:t>OBLIGACIONES DE LAS P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52440" y="1487520"/>
          <a:ext cx="11953800" cy="7808760"/>
        </p:xfrm>
        <a:graphic>
          <a:graphicData uri="http://schemas.openxmlformats.org/drawingml/2006/table">
            <a:tbl>
              <a:tblPr/>
              <a:tblGrid>
                <a:gridCol w="863640"/>
                <a:gridCol w="5040360"/>
                <a:gridCol w="792000"/>
                <a:gridCol w="525780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 u="sng">
                          <a:solidFill>
                            <a:srgbClr val="0033cc"/>
                          </a:solidFill>
                          <a:uFillTx/>
                          <a:latin typeface="Verdana"/>
                        </a:rPr>
                        <a:t>El Vendedor debe...</a:t>
                      </a: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1" lang="es-ES_tradnl" sz="2000" spc="-1" strike="noStrike" u="sng">
                          <a:solidFill>
                            <a:srgbClr val="0033cc"/>
                          </a:solidFill>
                          <a:uFillTx/>
                          <a:latin typeface="Verdana"/>
                        </a:rPr>
                        <a:t>El Comprador debe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Obligaciones generales del 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Obligaciones generales de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icencias, autorizaciones, acreditaciones de seguridad y otras formal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Licencias, autorizaciones, acreditaciones de seguridad y otras formalidad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ntratos de transporte y segu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ntratos de transporte y segur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cep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ransmisión de ries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Transmisión de riesg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part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Reparto de cos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Notificaciones al compra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Notificaciones al vende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Documento de 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Prueba de la entreg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Comprobación – embalaje – marc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Inspección de la mercaderí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yuda con la información y costos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B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279440"/>
                          <a:tab algn="l" pos="2558880"/>
                          <a:tab algn="l" pos="3838680"/>
                          <a:tab algn="l" pos="5118120"/>
                          <a:tab algn="l" pos="6397560"/>
                          <a:tab algn="l" pos="7677000"/>
                          <a:tab algn="l" pos="8956800"/>
                          <a:tab algn="l" pos="1023624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Ayuda con la información y costos relaciona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Verdana"/>
              </a:rPr>
              <a:t>EXPLICACIONES Y GRA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6440" y="1847880"/>
            <a:ext cx="11671560" cy="7208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 explicaciones y gráficos que siguen, constituyen una creación exclusiva del profesor José Luis López Blan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Se utilizan, solamente para efectos ilustrativos y pedagó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No constituyen una redacción formal de las normas INCO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Las reglas INCOTERMS 2010 contienen en cada caso normas y precisiones más completas que las menciones explicativas de cada grá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Estas explicaciones no deben utilizarse en ningún contrato, ni documentación leg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2855880"/>
            <a:ext cx="1280160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EL TERMINO</a:t>
            </a:r>
            <a:r>
              <a:rPr b="1" lang="es-CL" sz="2300" spc="-1" strike="noStrike">
                <a:solidFill>
                  <a:srgbClr val="33cccc"/>
                </a:solidFill>
                <a:latin typeface="Verdana"/>
              </a:rPr>
              <a:t> </a:t>
            </a:r>
            <a:r>
              <a:rPr b="1" lang="es-CL" sz="4000" spc="-1" strike="noStrike">
                <a:solidFill>
                  <a:srgbClr val="ff5050"/>
                </a:solidFill>
                <a:latin typeface="Verdana"/>
              </a:rPr>
              <a:t>EXW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VENDEDOR MINIMIZA SU RIESGO AL HAC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DISPONIBLES LAS MERCADERIAS EN SU PROPIO ESTABLECI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E</a:t>
            </a:r>
            <a:r>
              <a:rPr b="1" lang="es-CL" sz="57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9720" y="465624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EX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EX</a:t>
            </a:r>
            <a:r>
              <a:rPr b="1" lang="es-MX" sz="3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36680" y="192240"/>
            <a:ext cx="61801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EXW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EX Wor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37520" y="552132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LOS  COSTOS SE TRANSFIEREN DEL VENDEDOR AL     COMPRADOR  CUANDO LAS  MERCADERIAS     SE   PONEN     A DISPOSICIÓN DEL COMPRADOR EN EL ESTABLECIMIENTO DEL VEN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37520" y="6999120"/>
            <a:ext cx="5464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LOS RIESGOS SE TRANSFIEREN DEL VENDEDOR AL  COMPRADOR  CUANDO LAS MERCADERIAS  SE  PONEN  A  DISPOSICIÓN DEL COMPRADOR EN EL ESTABL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DEL VENDE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37520" y="8413920"/>
            <a:ext cx="524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EL COMPRADOR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23720" y="1920960"/>
            <a:ext cx="7201080" cy="1660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018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>
              <a:alpha val="72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>
              <a:alpha val="72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37520" y="407988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ÓA PONIÉNDOLA A DISPOSICIÓN DEL COMPRADOR EN EL PUNTO ACODADO DE SU ESTABL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EFEC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1000"/>
          </a:bodyPr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exportaciones y de im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invers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Aumento de contrat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International joint ven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Convenios de colaboración empresari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Financiamiento interna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46080" indent="-363960">
              <a:lnSpc>
                <a:spcPct val="90000"/>
              </a:lnSpc>
              <a:spcBef>
                <a:spcPts val="476"/>
              </a:spcBef>
              <a:buClr>
                <a:srgbClr val="0033cc"/>
              </a:buClr>
              <a:buFont typeface="Verdana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1900" spc="-1" strike="noStrike">
                <a:solidFill>
                  <a:srgbClr val="0033cc"/>
                </a:solidFill>
                <a:latin typeface="Verdana"/>
              </a:rPr>
              <a:t>Seguros internaciona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Sometimiento a legislación y jurisdicción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-4363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Verdana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Verdana"/>
              </a:rPr>
              <a:t>Efectos globales de situacione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3287880"/>
            <a:ext cx="135237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BAJO LOS  TERMINOS</a:t>
            </a:r>
            <a:r>
              <a:rPr b="1" lang="es-CL" sz="20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5050"/>
                </a:solidFill>
                <a:latin typeface="Verdana"/>
              </a:rPr>
              <a:t>F</a:t>
            </a:r>
            <a:r>
              <a:rPr b="1" lang="es-CL" sz="2000" spc="-1" strike="noStrike">
                <a:solidFill>
                  <a:srgbClr val="777777"/>
                </a:solidFill>
                <a:latin typeface="Verdana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EL VENDEDOR CONTRATA LOS TRANSPORTES INT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Verdana"/>
              </a:rPr>
              <a:t>HASTA LUGAR DE EMBARQUE EN EL PAIS DE EXPOR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F</a:t>
            </a: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6800" y="5664240"/>
            <a:ext cx="504036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CArr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22960" y="5675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Alongside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O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Free  On Boar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Arial"/>
              </a:rPr>
              <a:t>EL TRANSPORTE PRINCIPAL NO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36680" y="192240"/>
            <a:ext cx="64213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CA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Carri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553160" y="5376960"/>
            <a:ext cx="5248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 CUANDO  LAS  MERCADERIAS HAN SIDO ENTREGADAS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AL TRANSPORTISTA EN EL LUGAR DE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53160" y="6816600"/>
            <a:ext cx="5631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 RIESGOS  SE  TRANSFIEREN    DEL VENDEDOR   AL     COMPRADOR   CUANDO  LAS MERCADERIAS HAN SIDO ENTREGADA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AL  TRANSPORTISTA   EN  EL  LUGAR  DE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3160" y="836604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EL  COMPRADOR,  O  POR CUENTA DEL </a:t>
            </a: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COMPR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7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53160" y="407988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ERIA AL PORTEADOR EN EL PUNTO ACORDADO, EN EL PAÍS DE OR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952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190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62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048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4464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8772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272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7028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0976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6888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5284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419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8464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277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6720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028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4976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737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164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59560" y="6888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61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020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00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1276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558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532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3840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782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20960" y="400860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1608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5600" y="4008600"/>
            <a:ext cx="298440" cy="607680"/>
          </a:xfrm>
          <a:custGeom>
            <a:avLst/>
            <a:gdLst>
              <a:gd name="textAreaLeft" fmla="*/ 0 w 298440"/>
              <a:gd name="textAreaRight" fmla="*/ 298800 w 29844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503520" y="400860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7926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3532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784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182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160960" y="400860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080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24440" y="400860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6752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10240" y="4008600"/>
            <a:ext cx="465120" cy="607680"/>
          </a:xfrm>
          <a:custGeom>
            <a:avLst/>
            <a:gdLst>
              <a:gd name="textAreaLeft" fmla="*/ 0 w 465120"/>
              <a:gd name="textAreaRight" fmla="*/ 465480 w 4651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6840" y="400860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020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00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1276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558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532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3840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782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20960" y="537696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608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5600" y="537696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3520" y="537696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926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3532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784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182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60960" y="537696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0080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24440" y="537696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6752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0240" y="537696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46840" y="537696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AS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Alongside Shi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480440" y="559260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  COSTOS    SE  TRANSFIEREN   DEL   VENDEDOR  AL     COMPRADOR  CUANDO LAS MERCADERIAS HAN SIDO PUESTAS AL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COSTADO DEL BUQUE EN EL PUERTO DE 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80440" y="6854760"/>
            <a:ext cx="5321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 SE TRANSFIEREN DEL VENDEDOR AL COMPRADOR  CUANDO LAS  MERCADERIAS HAN SIDO PUESTAS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COSTADO  DEL BUQUE   EN EL PUERTO DE 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80440" y="826596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POR    EL  COMPRA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655720" y="2057400"/>
            <a:ext cx="0" cy="6840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80440" y="407988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SERÍA A UN COSTADO DEL BUQUE DESIGNADO POR EL COMPRADOR EN EL PUNTO DE CARGA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644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784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732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13040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7312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129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55680" y="6888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955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3860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780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2116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5296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3552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78600" y="6888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18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42080" y="6888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184800" y="6888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27880" y="6888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dfe5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6888240"/>
            <a:ext cx="298800" cy="608040"/>
          </a:xfrm>
          <a:custGeom>
            <a:avLst/>
            <a:gdLst>
              <a:gd name="textAreaLeft" fmla="*/ 0 w 298800"/>
              <a:gd name="textAreaRight" fmla="*/ 299160 w 298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184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148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13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440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71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6696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20968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495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92600" y="566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32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75160" y="566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863880" y="566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696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49680" y="566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8952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32240" y="566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72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9608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38800" y="566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1880" y="5664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6880" y="5664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184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0148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413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844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271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669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495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92600" y="422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3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75160" y="42242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63880" y="422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069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49680" y="42242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895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32240" y="42242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7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96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2388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81880" y="422424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6880" y="42242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FOB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PUERTO DE EMBARQUE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Free On Bo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7337520" y="563076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    COSTOS      SE      TRANSFIEREN   DEL   VENDEDOR      AL     COMPRADOR CUANDO  LAS      MERCADERIAS HAN SIDO PUESTAS A BORDO DEL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BUQUE    EN    EL    PUERTO   DE  EMBARQUE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37520" y="6999120"/>
            <a:ext cx="5464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  RIESGOS    SE     TRANSFIEREN      DEL VENDEDOR     AL    COMPRADOR      CUANDO  LAS    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EN  EL    PUERTO   DE  EMBARQUE  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337520" y="8265960"/>
            <a:ext cx="525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 POR    EL  COMPRA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066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37520" y="400860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DESIGNADO POR EL COMPRADOR EN EL PUERTO DE EMBARQUE CONVEN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2784600"/>
            <a:ext cx="1352376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LOS  TERMINOS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4000" spc="-1" strike="noStrike">
                <a:solidFill>
                  <a:srgbClr val="ff5050"/>
                </a:solidFill>
                <a:latin typeface="Arial"/>
              </a:rPr>
              <a:t>C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VENDEDOR CONTRATA Y PAGA 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PRINCIPAL PERO SIN ASUMIR EL RIESGO DEL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C</a:t>
            </a:r>
            <a:r>
              <a:rPr b="1" lang="es-CL" sz="5700" spc="-1" strike="noStrike">
                <a:solidFill>
                  <a:srgbClr val="777777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23720" y="5664240"/>
            <a:ext cx="51134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F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ost and F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69160" y="5675400"/>
            <a:ext cx="62658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I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ost Insurance and Fre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3720" y="7691400"/>
            <a:ext cx="51120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P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arriage P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2208240"/>
            <a:ext cx="128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2800" spc="-1" strike="noStrike">
                <a:solidFill>
                  <a:srgbClr val="0033cc"/>
                </a:solidFill>
                <a:latin typeface="Verdana"/>
              </a:rPr>
              <a:t>EL TRANSPORTE PRINCIPAL  ES DE CARGO DEL VENDE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969160" y="7680240"/>
            <a:ext cx="626580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Carriage, Insurance Paid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FR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ost and F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408800" y="5415120"/>
            <a:ext cx="5113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408800" y="692640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RIESGOS SE TRANSFIEREN  DEL VENDEDOR AL    COMPRADOR CUANDO  LAS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 EN  EL  PUERTO   DE  EMBARQUE   CONVEN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408800" y="829476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  TRANSPORTE   DEBE  SER  CONTRA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45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408800" y="400860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L VENDEDOR ENTREGA LA MERCADERI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IF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ost Insurance and Fr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7553160" y="5376960"/>
            <a:ext cx="5248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669080" y="6854760"/>
            <a:ext cx="4853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SE  TRANSFIEREN  DEL VENDEDOR     AL    COMPRADOR  CUANDO  LAS  MERCADERIAS HAN SIDO PUESTAS A BORDO DE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BUQUE    EN    EL    PUERTO  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96080" y="8265960"/>
            <a:ext cx="5105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EL    TRANSPORTE  Y  SEGURO   DEBE</a:t>
            </a:r>
            <a:r>
              <a:rPr b="1" lang="es-MX" sz="1200" spc="-1" strike="noStrike">
                <a:solidFill>
                  <a:srgbClr val="000099"/>
                </a:solidFill>
                <a:latin typeface="Verdana"/>
              </a:rPr>
              <a:t>N</a:t>
            </a: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   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0099"/>
                </a:solidFill>
                <a:latin typeface="Verdana"/>
              </a:rPr>
              <a:t>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7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553160" y="4152960"/>
            <a:ext cx="524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PT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arriage P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7480440" y="5376960"/>
            <a:ext cx="5321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480440" y="692640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RIESGOS SE  TRANSFIEREN  DEL VENDEDOR  AL   COMPRADOR     CUANDO LAS    MERCADERIAS  SE ENTREGRAN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RIMER TRANSPORTISTA PARA QUE LAS TRASLADE A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80440" y="8194680"/>
            <a:ext cx="532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6080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76116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480440" y="4152960"/>
            <a:ext cx="5321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7172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432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36680" y="192240"/>
            <a:ext cx="79819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CIP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800" spc="-1" strike="noStrike">
                <a:solidFill>
                  <a:srgbClr val="0033cc"/>
                </a:solidFill>
                <a:latin typeface="Verdana"/>
              </a:rPr>
              <a:t>Carriage, Insurance Paid 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7342200" y="5376960"/>
            <a:ext cx="5459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COMPRADOR CUANDO LAS MERCADERIAS LLEGAN A PUERTO DE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STINO, ASUMIENDO EL COMPRADOR LOS COSTOS CORRESPONDIENTES SEGÚN EL CONTRATO DE COMPRAVEN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440480" y="6816600"/>
            <a:ext cx="536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RIESGOS  SE  TRANSFIEREN DEL VENDEDOR AL COMPRADOR  CUANDO  LAS     MERCADERIAS  SE ENTREGRAN AL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RIMER TRANSPORTISTA PARA QUE 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TRASLADE A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9390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480440" y="8194680"/>
            <a:ext cx="532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376440" y="1992240"/>
            <a:ext cx="0" cy="482436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1280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00080" y="4368960"/>
            <a:ext cx="612720" cy="607680"/>
          </a:xfrm>
          <a:custGeom>
            <a:avLst/>
            <a:gdLst>
              <a:gd name="textAreaLeft" fmla="*/ 0 w 612720"/>
              <a:gd name="textAreaRight" fmla="*/ 613080 w 6127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432080" y="4368960"/>
            <a:ext cx="541080" cy="607680"/>
          </a:xfrm>
          <a:custGeom>
            <a:avLst/>
            <a:gdLst>
              <a:gd name="textAreaLeft" fmla="*/ 0 w 541080"/>
              <a:gd name="textAreaRight" fmla="*/ 541440 w 54108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86372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2264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58300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94336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303720" y="4368960"/>
            <a:ext cx="466560" cy="607680"/>
          </a:xfrm>
          <a:custGeom>
            <a:avLst/>
            <a:gdLst>
              <a:gd name="textAreaLeft" fmla="*/ 0 w 466560"/>
              <a:gd name="textAreaRight" fmla="*/ 466920 w 4665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664080" y="4368960"/>
            <a:ext cx="469800" cy="607680"/>
          </a:xfrm>
          <a:custGeom>
            <a:avLst/>
            <a:gdLst>
              <a:gd name="textAreaLeft" fmla="*/ 0 w 469800"/>
              <a:gd name="textAreaRight" fmla="*/ 470160 w 469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800" y="4368960"/>
            <a:ext cx="298440" cy="607680"/>
          </a:xfrm>
          <a:custGeom>
            <a:avLst/>
            <a:gdLst>
              <a:gd name="textAreaLeft" fmla="*/ 0 w 298440"/>
              <a:gd name="textAreaRight" fmla="*/ 298800 w 29844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022640" y="4368960"/>
            <a:ext cx="466920" cy="607680"/>
          </a:xfrm>
          <a:custGeom>
            <a:avLst/>
            <a:gdLst>
              <a:gd name="textAreaLeft" fmla="*/ 0 w 466920"/>
              <a:gd name="textAreaRight" fmla="*/ 467280 w 46692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74336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38300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10372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46408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d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824440" y="4368960"/>
            <a:ext cx="577800" cy="607680"/>
          </a:xfrm>
          <a:custGeom>
            <a:avLst/>
            <a:gdLst>
              <a:gd name="textAreaLeft" fmla="*/ 0 w 577800"/>
              <a:gd name="textAreaRight" fmla="*/ 578160 w 57780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18480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545160" y="4368960"/>
            <a:ext cx="470160" cy="607680"/>
          </a:xfrm>
          <a:custGeom>
            <a:avLst/>
            <a:gdLst>
              <a:gd name="textAreaLeft" fmla="*/ 0 w 470160"/>
              <a:gd name="textAreaRight" fmla="*/ 470520 w 470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337520" y="429588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PONIENDOLA A BORDO DEL BUQUE EN EL PUERTO DE EMBAR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1992240"/>
            <a:ext cx="131698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BAJO  LOS   TERMINOS</a:t>
            </a:r>
            <a:r>
              <a:rPr b="1" lang="es-CL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4000" spc="-1" strike="noStrike">
                <a:solidFill>
                  <a:srgbClr val="ff5050"/>
                </a:solidFill>
                <a:latin typeface="Verdana"/>
              </a:rPr>
              <a:t>D </a:t>
            </a:r>
            <a:r>
              <a:rPr b="1" lang="es-CL" sz="23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EL  COSTO Y  RIESGO DEL VENDEDOR SE MAXIMIZA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TIENE QUE HACER DISPONIBLES LAS MERCANCIAS AL COMPRAD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CL" sz="2300" spc="-1" strike="noStrike">
                <a:solidFill>
                  <a:srgbClr val="0033cc"/>
                </a:solidFill>
                <a:latin typeface="Verdana"/>
              </a:rPr>
              <a:t>A SU LLEGADA EN EL LUGAR DE DESTIN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95360" y="696960"/>
            <a:ext cx="1152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GRUPO  D</a:t>
            </a:r>
            <a:r>
              <a:rPr b="1" lang="es-CL" sz="57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400800" y="4800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 Pl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448080" y="660096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D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8440" y="4800600"/>
            <a:ext cx="511308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 Termi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55560" y="1978200"/>
          <a:ext cx="11289960" cy="6955920"/>
        </p:xfrm>
        <a:graphic>
          <a:graphicData uri="http://schemas.openxmlformats.org/drawingml/2006/table">
            <a:tbl>
              <a:tblPr/>
              <a:tblGrid>
                <a:gridCol w="1231200"/>
                <a:gridCol w="3993480"/>
                <a:gridCol w="3869280"/>
                <a:gridCol w="2196000"/>
              </a:tblGrid>
              <a:tr h="7020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,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,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,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,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7,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9,7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7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5,1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4,1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9,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9,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5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394,2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26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233,3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115,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349,1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589,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40,3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629,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118,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93,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12,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70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7,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9,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6,8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60,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4,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434,5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644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80,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77,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757,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55640" y="1171440"/>
            <a:ext cx="10483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omic Sans MS"/>
              </a:rPr>
              <a:t>7.    </a:t>
            </a: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T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Termi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TERMINAL DESIGNADO EN EL LUGAR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408800" y="6672240"/>
            <a:ext cx="5392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</a:t>
            </a:r>
            <a:r>
              <a:rPr b="1" lang="es-MX" sz="1200" spc="-1" strike="noStrike">
                <a:solidFill>
                  <a:srgbClr val="ff5050"/>
                </a:solidFill>
                <a:latin typeface="Verdana"/>
              </a:rPr>
              <a:t>EN EL TERMINAL DESIGNADO EN EL LUGAR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P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Pl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EDIO DE TRANSPORTE  EN EL LUGAR DESIGN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408800" y="6672240"/>
            <a:ext cx="5392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EN EL MEDIO DE TRANSPORTE EN LUGAR DE DESTINO CONVENIDO ANTES DE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329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 EN EL LUGAR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DP</a:t>
            </a:r>
            <a:r>
              <a:rPr b="1" lang="es-MX" sz="5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Duty 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37520" y="5016600"/>
            <a:ext cx="5464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 EN  EL MEDIO DE TRANSPORTE EN EL LUGAR DE DESTINO CONVENIDO  DESPUES   DE    PAGADOS  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7337520" y="6745320"/>
            <a:ext cx="5464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COMPRADOR  CUANDO  LAS 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 EN  EL MEDIO DE TRANSPORTE EN EL LUGAR DE DESTINO CONVENIDO DESPUES DE 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7408800" y="825660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905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337520" y="400860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UN MEDIO DE TRANSPORTE EN EL LUGAR DE DESTINO CONVENIDO, DESPUES DE PAGADOS LOS DERECHOS DE ADU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68808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0" y="2352600"/>
            <a:ext cx="131698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br>
              <a:rPr sz="1400"/>
            </a:br>
            <a:r>
              <a:rPr b="1" lang="es-CL" sz="2300" spc="-1" strike="noStrike">
                <a:solidFill>
                  <a:srgbClr val="000000"/>
                </a:solidFill>
                <a:latin typeface="Verdana"/>
              </a:rPr>
              <a:t>Se indican las cláusulas eliminadas de INCOTERMS 2010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0" y="1992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39720" y="336600"/>
            <a:ext cx="11379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GRUPO  D</a:t>
            </a: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	</a:t>
            </a:r>
            <a:br>
              <a:rPr sz="3400"/>
            </a:br>
            <a:br>
              <a:rPr sz="3400"/>
            </a:br>
            <a:r>
              <a:rPr b="1" lang="es-CL" sz="3400" spc="-1" strike="noStrike">
                <a:solidFill>
                  <a:srgbClr val="0033cc"/>
                </a:solidFill>
                <a:latin typeface="Verdana"/>
              </a:rPr>
              <a:t>CLAUSULAS ELIMINA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688080" y="4800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Ex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68440" y="6816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Ex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Q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23720" y="4800600"/>
            <a:ext cx="51134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A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At</a:t>
            </a:r>
            <a:r>
              <a:rPr b="1" lang="es-MX" sz="3400" spc="-1" strike="noStrike">
                <a:solidFill>
                  <a:srgbClr val="33cccc"/>
                </a:solidFill>
                <a:latin typeface="Arial"/>
              </a:rPr>
              <a:t> 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F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688080" y="6816600"/>
            <a:ext cx="5111640" cy="1163880"/>
          </a:xfrm>
          <a:prstGeom prst="rect">
            <a:avLst/>
          </a:prstGeom>
          <a:gradFill rotWithShape="0">
            <a:gsLst>
              <a:gs pos="0">
                <a:srgbClr val="c2c2bc"/>
              </a:gs>
              <a:gs pos="50000">
                <a:srgbClr val="fffff7">
                  <a:alpha val="14117"/>
                </a:srgbClr>
              </a:gs>
              <a:gs pos="100000">
                <a:srgbClr val="c2c2bc"/>
              </a:gs>
            </a:gsLst>
            <a:lin ang="5400000"/>
          </a:gra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D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ff5050"/>
                </a:solidFill>
                <a:latin typeface="Arial"/>
              </a:rPr>
              <a:t>Delivered Duty</a:t>
            </a:r>
            <a:r>
              <a:rPr b="1" lang="es-MX" sz="3400" spc="-1" strike="noStrike">
                <a:solidFill>
                  <a:srgbClr val="ff3300"/>
                </a:solidFill>
                <a:latin typeface="Arial"/>
              </a:rPr>
              <a:t> U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AF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LUGAR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At Fronti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7840800" y="5592600"/>
            <a:ext cx="496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Verdana"/>
              </a:rPr>
              <a:t>LOS     COSTOS  SE  TRANSFIEREN  DEL VENDEDOR  AL  COMPRADOR CUANDO LAS MERCADERIAS HAN SIDO ENTREGADAS EN EL LUGAR CONVENIDO EN LA FRONT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840800" y="6888240"/>
            <a:ext cx="4960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Verdana"/>
              </a:rPr>
              <a:t>LOS RIESGOS SE TRANSFIEREN DEL VENDEDOR AL    COMPRADOR   CUANDO LAS MERCADERIAS HAN SIDO ENTREGADAS EN EL LUGAR CONVENIDO EN LA FRONT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913520" y="8185320"/>
            <a:ext cx="488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016080" y="2855880"/>
            <a:ext cx="252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087720" y="2784600"/>
            <a:ext cx="2521080" cy="936360"/>
          </a:xfrm>
          <a:prstGeom prst="rect">
            <a:avLst/>
          </a:prstGeom>
          <a:solidFill>
            <a:srgbClr val="ffffd9"/>
          </a:solidFill>
          <a:ln w="3492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2"/>
          <a:stretch/>
        </p:blipFill>
        <p:spPr>
          <a:xfrm>
            <a:off x="3738600" y="2496960"/>
            <a:ext cx="1365120" cy="91152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467208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769160" y="4224240"/>
            <a:ext cx="5032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UN PUNTO DETERMINADO DE LA FRONTERA DE UN PAÍ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ES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Ex Shi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7337520" y="5376960"/>
            <a:ext cx="5464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A BORDO DEL BUQU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375680" y="6672240"/>
            <a:ext cx="542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S SE TRANSFIEREN DEL VENDEDOR AL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A BORDO DEL BUQU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408800" y="804060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280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5464080" y="8224920"/>
            <a:ext cx="598680" cy="608040"/>
          </a:xfrm>
          <a:custGeom>
            <a:avLst/>
            <a:gdLst>
              <a:gd name="textAreaLeft" fmla="*/ 0 w 598680"/>
              <a:gd name="textAreaRight" fmla="*/ 599040 w 59868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23720" y="52322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00"/>
                </a:solidFill>
                <a:latin typeface="Verdana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30920" y="652932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3300"/>
                </a:solidFill>
                <a:latin typeface="Verdana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337520" y="4152960"/>
            <a:ext cx="50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A BORDO DEL BUQUE EN EL PUERTO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EQ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 (... INDICANDO PUERTO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Ex Qu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7388280" y="5305320"/>
            <a:ext cx="541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COMPRADOR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UELLE EN EL 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408800" y="6529320"/>
            <a:ext cx="539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 COMPRADOR   EN   EL   MUELLE   EN   E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PUERTO DE DESTI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480440" y="7969320"/>
            <a:ext cx="532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EL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68152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337520" y="4079880"/>
            <a:ext cx="49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UELLE EN EL PUERTO DE D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436680" y="192240"/>
            <a:ext cx="798192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5600" spc="-1" strike="noStrike">
                <a:solidFill>
                  <a:srgbClr val="0033cc"/>
                </a:solidFill>
                <a:latin typeface="Verdana"/>
              </a:rPr>
              <a:t>DDU  </a:t>
            </a:r>
            <a:r>
              <a:rPr b="1" lang="es-MX" sz="1800" spc="-1" strike="noStrike">
                <a:solidFill>
                  <a:srgbClr val="0033cc"/>
                </a:solidFill>
                <a:latin typeface="Verdana"/>
              </a:rPr>
              <a:t>(... INDICANDO LUGAR DE DESTINO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MX" sz="3400" spc="-1" strike="noStrike">
                <a:solidFill>
                  <a:srgbClr val="0033cc"/>
                </a:solidFill>
                <a:latin typeface="Verdana"/>
              </a:rPr>
              <a:t>Delivered Duty Unpai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" descr=""/>
          <p:cNvPicPr/>
          <p:nvPr/>
        </p:nvPicPr>
        <p:blipFill>
          <a:blip r:embed="rId1"/>
          <a:stretch/>
        </p:blipFill>
        <p:spPr>
          <a:xfrm>
            <a:off x="353880" y="2428920"/>
            <a:ext cx="7918560" cy="12841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/>
          <p:nvPr/>
        </p:nvSpPr>
        <p:spPr>
          <a:xfrm>
            <a:off x="7408800" y="5232240"/>
            <a:ext cx="539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COS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006600"/>
                </a:solidFill>
                <a:latin typeface="Verdana"/>
              </a:rPr>
              <a:t>LOS COSTOS SE TRANSFIEREN DEL VENDEDOR AL       COMPRADOR  CUANDO LAS MERCADERIAS SE PONEN A DISPOSICIÓN </a:t>
            </a:r>
            <a:r>
              <a:rPr b="1" lang="es-MX" sz="1200" spc="-1" strike="noStrike">
                <a:solidFill>
                  <a:srgbClr val="006600"/>
                </a:solidFill>
                <a:latin typeface="Verdana"/>
              </a:rPr>
              <a:t>DEL COMPRADOR EN EL MEDIO DE TRANSPORTE  ANTES DE PAGAR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0" y="1776240"/>
            <a:ext cx="128016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7408800" y="6672240"/>
            <a:ext cx="5392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RIESG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LOS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RIESGOS</a:t>
            </a:r>
            <a:r>
              <a:rPr b="1" lang="es-ES" sz="1200" spc="-1" strike="noStrike">
                <a:solidFill>
                  <a:srgbClr val="ff3300"/>
                </a:solidFill>
                <a:latin typeface="Verdana"/>
              </a:rPr>
              <a:t> SE TRANSFIEREN DEL VENDEDOR AL       COMPRADOR CUANDO LAS MERCADERIAS SE PONEN A DISPOSICIÓN </a:t>
            </a:r>
            <a:r>
              <a:rPr b="1" lang="es-MX" sz="1200" spc="-1" strike="noStrike">
                <a:solidFill>
                  <a:srgbClr val="ff3300"/>
                </a:solidFill>
                <a:latin typeface="Verdana"/>
              </a:rPr>
              <a:t>DEL COMPRADOR EN EL MEDIOI DE TRANSPORTE EN LUGAR DE DESTINO CONVENIDO CONVENIDO ANTES DE PAGADOS LOS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408800" y="8194680"/>
            <a:ext cx="539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POR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EL TRANSPORTE DEBE SER CONTRATADO POR    EL  VENDEDOR,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256440" y="1992240"/>
            <a:ext cx="0" cy="6840720"/>
          </a:xfrm>
          <a:prstGeom prst="line">
            <a:avLst/>
          </a:prstGeom>
          <a:ln cap="rnd" w="475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9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855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14444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432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72080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07972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440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00440" y="6961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08772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37644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373680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097160" y="6961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45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81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176800" y="6961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53716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89608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256440" y="6961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616800" y="69613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ed1e7"/>
              </a:gs>
              <a:gs pos="100000">
                <a:srgbClr val="ff99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223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8618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20492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5476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88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23056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57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91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2529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59568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8847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2274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57056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1004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253120" y="82249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592600" y="82249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91660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6259680" y="82249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602400" y="8224920"/>
            <a:ext cx="465120" cy="608040"/>
          </a:xfrm>
          <a:custGeom>
            <a:avLst/>
            <a:gdLst>
              <a:gd name="textAreaLeft" fmla="*/ 0 w 465120"/>
              <a:gd name="textAreaRight" fmla="*/ 465480 w 4651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dbbff"/>
              </a:gs>
              <a:gs pos="50000">
                <a:srgbClr val="c1d9fe"/>
              </a:gs>
              <a:gs pos="100000">
                <a:srgbClr val="8dbbff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63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000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36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72080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0797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44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80044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16080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521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3720" y="5737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9966"/>
              </a:gs>
              <a:gs pos="50000">
                <a:srgbClr val="2b8357"/>
              </a:gs>
              <a:gs pos="100000">
                <a:srgbClr val="339966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879720" y="573732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60044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24008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96080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321160" y="573732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5680080" y="573732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96916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8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32952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688080" y="573732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50000">
                <a:srgbClr val="d3fed3"/>
              </a:gs>
              <a:gs pos="100000">
                <a:srgbClr val="ccffcc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71280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07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43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79388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15280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51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87352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23388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59424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96800" y="422604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952800" y="4226040"/>
            <a:ext cx="466920" cy="608040"/>
          </a:xfrm>
          <a:custGeom>
            <a:avLst/>
            <a:gdLst>
              <a:gd name="textAreaLeft" fmla="*/ 0 w 466920"/>
              <a:gd name="textAreaRight" fmla="*/ 467280 w 4669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67352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313160" y="42260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033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394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753160" y="4226040"/>
            <a:ext cx="466560" cy="608040"/>
          </a:xfrm>
          <a:custGeom>
            <a:avLst/>
            <a:gdLst>
              <a:gd name="textAreaLeft" fmla="*/ 0 w 466560"/>
              <a:gd name="textAreaRight" fmla="*/ 466920 w 4665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604188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402240" y="4226040"/>
            <a:ext cx="470160" cy="608040"/>
          </a:xfrm>
          <a:custGeom>
            <a:avLst/>
            <a:gdLst>
              <a:gd name="textAreaLeft" fmla="*/ 0 w 470160"/>
              <a:gd name="textAreaRight" fmla="*/ 470520 w 47016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408800" y="4079880"/>
            <a:ext cx="5392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3300"/>
                </a:solidFill>
                <a:latin typeface="Verdana"/>
              </a:rPr>
              <a:t>ENTREG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c3300"/>
                </a:solidFill>
                <a:latin typeface="Verdana"/>
              </a:rPr>
              <a:t>EL VENDEDOR ENTREGA LA MERCADERÍA EN EL MEDIO DE TRANSPORTE DESIGNADO EN DESTINO ANTES DE PAGAR DERECHOS DE ADU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52440" y="69613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06" y="0"/>
                </a:lnTo>
                <a:lnTo>
                  <a:pt x="21600" y="10800"/>
                </a:lnTo>
                <a:lnTo>
                  <a:pt x="930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47760" y="8224920"/>
            <a:ext cx="298440" cy="608040"/>
          </a:xfrm>
          <a:custGeom>
            <a:avLst/>
            <a:gdLst>
              <a:gd name="textAreaLeft" fmla="*/ 0 w 298440"/>
              <a:gd name="textAreaRight" fmla="*/ 298800 w 29844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616800" y="4224240"/>
            <a:ext cx="469800" cy="608040"/>
          </a:xfrm>
          <a:custGeom>
            <a:avLst/>
            <a:gdLst>
              <a:gd name="textAreaLeft" fmla="*/ 0 w 469800"/>
              <a:gd name="textAreaRight" fmla="*/ 470160 w 46980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55560" y="2784600"/>
          <a:ext cx="11490120" cy="4536720"/>
        </p:xfrm>
        <a:graphic>
          <a:graphicData uri="http://schemas.openxmlformats.org/drawingml/2006/table">
            <a:tbl>
              <a:tblPr/>
              <a:tblGrid>
                <a:gridCol w="1106640"/>
                <a:gridCol w="4211280"/>
                <a:gridCol w="3936600"/>
                <a:gridCol w="2235600"/>
              </a:tblGrid>
              <a:tr h="7646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30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759,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232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991,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625,2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008,2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633,4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512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536,2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535,8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072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606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596,1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948,8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545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24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984,1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237,3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.221,4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15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.039,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.914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.953,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460520" y="1171440"/>
            <a:ext cx="1058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957240" y="2482920"/>
          <a:ext cx="10472400" cy="6489360"/>
        </p:xfrm>
        <a:graphic>
          <a:graphicData uri="http://schemas.openxmlformats.org/drawingml/2006/table">
            <a:tbl>
              <a:tblPr/>
              <a:tblGrid>
                <a:gridCol w="1141920"/>
                <a:gridCol w="3705120"/>
                <a:gridCol w="3589560"/>
                <a:gridCol w="2035800"/>
              </a:tblGrid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94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62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6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3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.2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7.16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7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36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6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65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1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.7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1.8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9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09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6.3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2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6.4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4.7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796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8.1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5.79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3.97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.6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7.94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.6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8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2.5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2.9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5.4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65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1.2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0.49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1.7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662120" y="1171440"/>
            <a:ext cx="103838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800" y="26496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6840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867280" y="4438800"/>
          <a:ext cx="1066680" cy="723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23240">
                <a:tc>
                  <a:txBody>
                    <a:bodyPr lIns="128160" rIns="128160" tIns="64080" bIns="64080" anchor="b">
                      <a:noAutofit/>
                    </a:bodyPr>
                    <a:p>
                      <a:pPr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957240" y="2482920"/>
          <a:ext cx="10472400" cy="3455640"/>
        </p:xfrm>
        <a:graphic>
          <a:graphicData uri="http://schemas.openxmlformats.org/drawingml/2006/table">
            <a:tbl>
              <a:tblPr/>
              <a:tblGrid>
                <a:gridCol w="1141920"/>
                <a:gridCol w="3705120"/>
                <a:gridCol w="3589560"/>
                <a:gridCol w="2035800"/>
              </a:tblGrid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Ñ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MPORTACIONE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940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8.6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5.9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4.5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7.9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4.03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12.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6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66.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7.73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23.98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788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4.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9.88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93.88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89320"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1.0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55.1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8160" rIns="128160" tIns="64080" bIns="640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126.3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8160" marR="12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662120" y="1171440"/>
            <a:ext cx="103838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500" spc="-1" strike="noStrike" u="sng">
                <a:solidFill>
                  <a:srgbClr val="0033cc"/>
                </a:solidFill>
                <a:uFillTx/>
                <a:latin typeface="Comic Sans MS"/>
              </a:rPr>
              <a:t>ESTADISTICAS TOTAL COMERCIO EXTERIOR CH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800" y="26496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1676520"/>
            <a:ext cx="10685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720" y="1373040"/>
            <a:ext cx="1088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500" spc="-1" strike="noStrike">
                <a:solidFill>
                  <a:srgbClr val="0033cc"/>
                </a:solidFill>
                <a:latin typeface="Comic Sans MS"/>
              </a:rPr>
              <a:t>8.   </a:t>
            </a:r>
            <a:r>
              <a:rPr b="0" lang="es-CL" sz="2200" spc="-1" strike="noStrike" u="sng">
                <a:solidFill>
                  <a:srgbClr val="0033cc"/>
                </a:solidFill>
                <a:uFillTx/>
                <a:latin typeface="Comic Sans MS"/>
              </a:rPr>
              <a:t>LA IMPORTANCIA DEL COBRE EN LAS EXPORTACIONES CHIL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884320"/>
          <a:ext cx="8065800" cy="6127560"/>
        </p:xfrm>
        <a:graphic>
          <a:graphicData uri="http://schemas.openxmlformats.org/drawingml/2006/table">
            <a:tbl>
              <a:tblPr/>
              <a:tblGrid>
                <a:gridCol w="2217960"/>
                <a:gridCol w="2922840"/>
                <a:gridCol w="2925000"/>
              </a:tblGrid>
              <a:tr h="6465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Ñ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OB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7.87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64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.1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9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7.16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02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9.2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.28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2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53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1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.32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1.6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.81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5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4.7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1.2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18.9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821800" y="2884320"/>
          <a:ext cx="2923920" cy="6127560"/>
        </p:xfrm>
        <a:graphic>
          <a:graphicData uri="http://schemas.openxmlformats.org/drawingml/2006/table">
            <a:tbl>
              <a:tblPr/>
              <a:tblGrid>
                <a:gridCol w="2923920"/>
              </a:tblGrid>
              <a:tr h="6922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%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,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44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1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5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0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5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44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4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7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6,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40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5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336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6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279440"/>
            <a:ext cx="9707400" cy="0"/>
          </a:xfrm>
          <a:prstGeom prst="line">
            <a:avLst/>
          </a:prstGeom>
          <a:ln w="31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676520"/>
            <a:ext cx="106855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5720" y="1373040"/>
            <a:ext cx="108885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s-CL" sz="2500" spc="-1" strike="noStrike">
                <a:solidFill>
                  <a:srgbClr val="0033cc"/>
                </a:solidFill>
                <a:latin typeface="Comic Sans MS"/>
              </a:rPr>
              <a:t>8.   </a:t>
            </a:r>
            <a:r>
              <a:rPr b="0" lang="es-CL" sz="2200" spc="-1" strike="noStrike" u="sng">
                <a:solidFill>
                  <a:srgbClr val="0033cc"/>
                </a:solidFill>
                <a:uFillTx/>
                <a:latin typeface="Comic Sans MS"/>
              </a:rPr>
              <a:t>LA IMPORTANCIA DEL COBRE EN LAS EXPORTACIONES CHIL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2884320"/>
          <a:ext cx="8065800" cy="3692160"/>
        </p:xfrm>
        <a:graphic>
          <a:graphicData uri="http://schemas.openxmlformats.org/drawingml/2006/table">
            <a:tbl>
              <a:tblPr/>
              <a:tblGrid>
                <a:gridCol w="2217960"/>
                <a:gridCol w="2922840"/>
                <a:gridCol w="2925000"/>
              </a:tblGrid>
              <a:tr h="6465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AÑ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COB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8.6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7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48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7.9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7.37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66.25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32.84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876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0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4.00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7.70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9120"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20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71.02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  <a:tc>
                  <a:txBody>
                    <a:bodyPr lIns="126000" rIns="126000" tIns="65520" bIns="655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0.25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0" marR="12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821800" y="2884320"/>
          <a:ext cx="2923920" cy="3692160"/>
        </p:xfrm>
        <a:graphic>
          <a:graphicData uri="http://schemas.openxmlformats.org/drawingml/2006/table">
            <a:tbl>
              <a:tblPr/>
              <a:tblGrid>
                <a:gridCol w="2923920"/>
              </a:tblGrid>
              <a:tr h="6922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7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%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001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5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048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5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60012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49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976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1,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  <a:tr h="599400">
                <a:tc>
                  <a:txBody>
                    <a:bodyPr lIns="128160" rIns="128160" tIns="64080" bIns="640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777777"/>
                          </a:solidFill>
                          <a:latin typeface="Comic Sans MS"/>
                        </a:rPr>
                        <a:t>56,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8160" marR="128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d9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79280" y="527040"/>
            <a:ext cx="9301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marL="639720" indent="-63972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s-ES" sz="2500" spc="-1" strike="noStrike">
                <a:solidFill>
                  <a:srgbClr val="0033cc"/>
                </a:solidFill>
                <a:latin typeface="Comic Sans MS"/>
              </a:rPr>
              <a:t>GLOBALIZACIÓN Y NEGOCIOS INTERNACION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08:09Z</dcterms:created>
  <dc:creator>LOPEZ REITZE</dc:creator>
  <dc:description/>
  <dc:language>en-US</dc:language>
  <cp:lastModifiedBy>jllb</cp:lastModifiedBy>
  <dcterms:modified xsi:type="dcterms:W3CDTF">2011-05-27T16:08:10Z</dcterms:modified>
  <cp:revision>84</cp:revision>
  <dc:subject/>
  <dc:title>Diapositiva 1</dc:title>
</cp:coreProperties>
</file>