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2801600" cy="96012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7C3-0D2C-4CD5-B0BA-BD6FA674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541-EF81-48D6-AD75-FC34C080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DF3-432B-4BF9-BEE0-9F1909D7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36A-759C-4A0C-A17A-A0E92CEE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67C-2292-4E42-B131-7A7A5FF2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BB78-D420-4144-99A5-89094F1C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A72-34E8-45B9-9F33-8B1AD5F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0A0-24E9-4A0C-84D5-F5DB1155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D78-E47F-43B1-A3E6-00D3DA8B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2AD-EDB5-4C06-88E8-E708B93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FBBF-1B86-4170-9CF1-51BEE6D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CE7-2474-419A-870B-C94667B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1C7DB7F1-6CB2-4521-A6F9-9B5D845C2F83}" type="slidenum">
              <a:rPr b="0" lang="es-E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1.png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10720" y="349200"/>
            <a:ext cx="64382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ofesor Sr. José Luis López 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6080" y="1920960"/>
            <a:ext cx="1051380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2440" y="7321680"/>
            <a:ext cx="1188072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FERENCIA   COMPRAVENTA INTERNACIONAL DE MERCAD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GISTRO DE PROPIEDAD INTELECTUAL 204553 DE 2011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MAYO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8440" y="407880"/>
            <a:ext cx="95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8080" y="1631880"/>
            <a:ext cx="12233160" cy="2881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COMPRAVENTA INTERNACIONAL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DE MERCADERIA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DIA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9720" y="5592600"/>
            <a:ext cx="11522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REGISTRO PROPIEDAD INTELECTUAL Nº 204553 DE 2011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JOSE LUIS LOPEZ BLANCO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www.rclabogados.cl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   AV. 11 DE SEPTIEMBRE 2353, P. 14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       F:  2336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410000" y="6721560"/>
          <a:ext cx="24177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0000" y="6721560"/>
                    <a:ext cx="24177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410000" y="6640560"/>
            <a:ext cx="2844720" cy="143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405400" y="5521320"/>
            <a:ext cx="127944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540320" y="4079880"/>
          <a:ext cx="1071360" cy="9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0320" y="4079880"/>
                    <a:ext cx="10713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26960" y="463248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90800" y="712116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008800" y="3029400"/>
            <a:ext cx="80013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0800" y="5200560"/>
            <a:ext cx="270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90800" y="520056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040400">
            <a:off x="3807000" y="4479480"/>
            <a:ext cx="744480" cy="311400"/>
          </a:xfrm>
          <a:custGeom>
            <a:avLst/>
            <a:gdLst>
              <a:gd name="textAreaLeft" fmla="*/ 130320 w 744480"/>
              <a:gd name="textAreaRight" fmla="*/ 540000 w 744480"/>
              <a:gd name="textAreaTop" fmla="*/ 41760 h 311400"/>
              <a:gd name="textAreaBottom" fmla="*/ 269640 h 3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321000">
            <a:off x="5176440" y="4223880"/>
            <a:ext cx="862200" cy="244440"/>
          </a:xfrm>
          <a:custGeom>
            <a:avLst/>
            <a:gdLst>
              <a:gd name="textAreaLeft" fmla="*/ 150840 w 862200"/>
              <a:gd name="textAreaRight" fmla="*/ 625320 w 862200"/>
              <a:gd name="textAreaTop" fmla="*/ 32760 h 244440"/>
              <a:gd name="textAreaBottom" fmla="*/ 211680 h 24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51480" y="4960800"/>
            <a:ext cx="184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21360" y="360036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3868200" y="2622960"/>
            <a:ext cx="2322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983040" y="465120"/>
            <a:ext cx="227484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72080" y="0"/>
            <a:ext cx="11905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73840" y="520056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73840" y="616068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77400">
            <a:off x="4402080" y="6721200"/>
            <a:ext cx="860400" cy="236520"/>
          </a:xfrm>
          <a:custGeom>
            <a:avLst/>
            <a:gdLst>
              <a:gd name="textAreaLeft" fmla="*/ 150480 w 860400"/>
              <a:gd name="textAreaRight" fmla="*/ 623880 w 860400"/>
              <a:gd name="textAreaTop" fmla="*/ 31680 h 236520"/>
              <a:gd name="textAreaBottom" fmla="*/ 204840 h 23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541200">
            <a:off x="4406760" y="7440120"/>
            <a:ext cx="855720" cy="320760"/>
          </a:xfrm>
          <a:custGeom>
            <a:avLst/>
            <a:gdLst>
              <a:gd name="textAreaLeft" fmla="*/ 149760 w 855720"/>
              <a:gd name="textAreaRight" fmla="*/ 620640 w 855720"/>
              <a:gd name="textAreaTop" fmla="*/ 42840 h 320760"/>
              <a:gd name="textAreaBottom" fmla="*/ 2779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4960" y="7761240"/>
            <a:ext cx="1227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75440" y="8240760"/>
            <a:ext cx="1746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24160" y="5951520"/>
            <a:ext cx="1565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200" y="9280440"/>
            <a:ext cx="1727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1160" y="9215280"/>
            <a:ext cx="1499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80240" y="7921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54720" y="79218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856152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7760" y="672156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57000" y="6591240"/>
            <a:ext cx="12718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45520" y="672156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9672120" y="6880320"/>
            <a:ext cx="4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21320" y="6751800"/>
            <a:ext cx="2192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543360" y="688032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57880" y="712152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88440" y="71215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2200" y="7018200"/>
            <a:ext cx="2160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40920" y="7018200"/>
            <a:ext cx="25606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0240920" y="4960440"/>
            <a:ext cx="0" cy="10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9099360" y="4065840"/>
            <a:ext cx="2102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937880" y="5160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9337320" y="3793680"/>
            <a:ext cx="304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1945880" y="5160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10373760" y="3825360"/>
            <a:ext cx="2966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088800" y="2424240"/>
            <a:ext cx="0" cy="56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0240920" y="2239560"/>
            <a:ext cx="0" cy="12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1080800" y="220788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069920" y="552600"/>
            <a:ext cx="24058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121360" y="17604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973480" y="416088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66760" y="2000160"/>
            <a:ext cx="1320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43720" y="4160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969240" y="2160720"/>
            <a:ext cx="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69240" y="21607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961480" y="2160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218560" y="2751840"/>
            <a:ext cx="2751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689080" y="392112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89440" y="392076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69240" y="1920960"/>
            <a:ext cx="270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84840" y="1920960"/>
            <a:ext cx="28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546880" y="1839600"/>
            <a:ext cx="0" cy="23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6880" y="183996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543720" y="152100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3720" y="15210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1800" y="1039680"/>
            <a:ext cx="2142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y paga crédit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02600" y="1521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2920" y="3360600"/>
          <a:ext cx="1847880" cy="15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2920" y="3360600"/>
                    <a:ext cx="18478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3982680" y="416088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53560" y="3921120"/>
            <a:ext cx="14504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133360" y="41608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6800" y="494496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582480" y="5971680"/>
            <a:ext cx="1950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960" y="680076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1120680"/>
            <a:ext cx="2133720" cy="151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67080" y="3921120"/>
            <a:ext cx="2845080" cy="14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267080" y="2079720"/>
            <a:ext cx="0" cy="17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82680" y="207972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20880" y="1920960"/>
            <a:ext cx="1689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276280" y="2079720"/>
            <a:ext cx="42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71480" y="7601040"/>
          <a:ext cx="139068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1480" y="7601040"/>
                    <a:ext cx="139068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0780560" y="7601040"/>
          <a:ext cx="1392480" cy="1731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780560" y="7601040"/>
                    <a:ext cx="139248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0702800" y="5921280"/>
          <a:ext cx="1511280" cy="1190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702800" y="5921280"/>
                    <a:ext cx="15112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561680" y="1039680"/>
          <a:ext cx="1511280" cy="1192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561680" y="1039680"/>
                    <a:ext cx="15112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rot="10472400">
            <a:off x="5546880" y="6560640"/>
            <a:ext cx="855360" cy="319320"/>
          </a:xfrm>
          <a:custGeom>
            <a:avLst/>
            <a:gdLst>
              <a:gd name="textAreaLeft" fmla="*/ 149400 w 855360"/>
              <a:gd name="textAreaRight" fmla="*/ 620280 w 855360"/>
              <a:gd name="textAreaTop" fmla="*/ 42480 h 319320"/>
              <a:gd name="textAreaBottom" fmla="*/ 27684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7591400">
            <a:off x="6551280" y="7361280"/>
            <a:ext cx="642960" cy="480960"/>
          </a:xfrm>
          <a:custGeom>
            <a:avLst/>
            <a:gdLst>
              <a:gd name="textAreaLeft" fmla="*/ 112320 w 642960"/>
              <a:gd name="textAreaRight" fmla="*/ 466200 w 64296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tretch/>
        </p:blipFill>
        <p:spPr>
          <a:xfrm>
            <a:off x="4267080" y="8640720"/>
            <a:ext cx="2133720" cy="565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01800" y="912168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9121680"/>
            <a:ext cx="355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14600" y="9158400"/>
            <a:ext cx="20372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031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FUENTES LEGAL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36440" y="1487160"/>
            <a:ext cx="9937800" cy="7489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onvención de Viena de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Principios UNIDR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UCP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7152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LA FUNCION DEL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9720" y="2855520"/>
            <a:ext cx="11522160" cy="5721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 1545 del Código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 6º Convención de Vi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s 1.1 y 1.3 de Principios UNIDR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Las reglas INCOTERMS no proporcionan un contrato de compraventa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LA FUNCION DEL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39720" y="2063520"/>
            <a:ext cx="11522160" cy="7273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Principio de la autonomía de la volun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Reconocimiento 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s partes deben reflejar en el contrato claramente su intención respecto de todos l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s controversias entre las partes se resolverán de acuerdo con lo expresado en 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Se incluye anexo con pauta de puntos básicos a nego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 negociación y la redacción del contrato requieren asesoría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PAUTA DE NEGO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9720" y="1920960"/>
            <a:ext cx="11522160" cy="76802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9000"/>
          </a:bodyPr>
          <a:p>
            <a:pPr marL="848520" indent="-848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Se recomienda que las partes negocien y definan sus acuerdos con claridad sobre los siguientes pu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Vendedor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0.    Destin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omprador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1.    Transpor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Producto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2.    Segu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alidad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3.    Certificados y docu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antidad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4.    Legislación aplica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Embalaje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5.    Arbitra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Pre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Forma de pa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Embarque   (Entreg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96960"/>
            <a:ext cx="12450600" cy="10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4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REGLAS I.C.C.</a:t>
            </a: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ENTREG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DISTRIBUCIÓN DE COS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TRANSPORTE DE MERCAD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8381880"/>
            <a:ext cx="449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3000" spc="-1" strike="noStrike">
                <a:solidFill>
                  <a:srgbClr val="0033cc"/>
                </a:solidFill>
                <a:latin typeface="Verdana"/>
              </a:rPr>
              <a:t>LA CÁMARA DE COMERCIO INTERNACIONAL 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0033cc"/>
                </a:solidFill>
                <a:latin typeface="Verdana"/>
              </a:rPr>
              <a:t>I.C.C.      www.iccwbo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7440" y="2424240"/>
            <a:ext cx="12314160" cy="6953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Fue creada en 1919 por un grupo de empresarios, industriales, financistas y comerci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Se autodenominaron “los comerciantes de la paz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En 1923 la ICC creó la Corte Internacional de Arbitra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En 1945 fue designada miembro consultor de Naciones Uni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La ICC ha creado diversas reglas para facilitar el comercio internacio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FUNCIONES PRINCIP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3720" y="2239920"/>
            <a:ext cx="11377800" cy="66643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3000"/>
          </a:bodyPr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Proposición de reglas uniformes en materias comerciales y bancari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Tribunal Arbitral Internacional en materias comercia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Asesoría a Naciones Unid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Coordinación global de Cámaras de Comerc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Prohibición del comercio ileg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Ediciones y publicaciones en materia comerc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2096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Verdana"/>
              </a:rPr>
              <a:t>I.C.C PUBLICACIONES</a:t>
            </a:r>
            <a:br>
              <a:rPr sz="3400"/>
            </a:b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Verdana"/>
              </a:rPr>
              <a:t>www.iccbooks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9360" y="2239560"/>
            <a:ext cx="11882520" cy="69534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ncoterms® 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Uniform Customs and Practice for Documentary Credits. UCP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Model International Transfer of Technology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Business Law in China. Trade, Investment, Operations and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Model International Trademark Li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Uniform Rules for Bank-to-Bank Reimbursements under documentary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9720" y="0"/>
            <a:ext cx="11522160" cy="19843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ANTECEDENTES: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GLOBAL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76440" y="2279520"/>
            <a:ext cx="525636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2440" y="7680240"/>
            <a:ext cx="1216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Es una radio de marca americana, fabricada en China, con componentes japoneses, que un amigo alemán, a su llegada de Australia, me regaló en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© 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( El Mercurio 23.09.0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640800" y="2855880"/>
            <a:ext cx="316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Calma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 ver..., todo de nuev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080" y="28558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ADU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552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92096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2800" y="1920960"/>
            <a:ext cx="11530080" cy="67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Conjunto de términos que establecen las definiciones de los términos comerciales más comúnmente utilizados en el comercio internacional. Las partes de un contrato de compraventa internacional pueden recurrir a este conjunto de términos para establecer con claridad y precisión las obligaciones de cada una de ellas en ese contrato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os INCOTERMS fueron establecidos por primera vez en el año 1936.  Posteriormente, fueron modificados en diversas oportunidades, siendo la última versión INCOTERMS 2010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a actual versión INCOTERMS 2010 empezó a regir el 1º de enero del año 20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a modificación 2010 reduce las cláusulas de 13 a 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Se eliminan  las cláusulas DAF, DES, DEQ, DDU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Se crean las cláusulas DAT, DA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6800" y="263520"/>
            <a:ext cx="88520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PROPÓSITO Y CAMPO DE APLICACIÓN</a:t>
            </a:r>
            <a:r>
              <a:rPr b="0" lang="es-CL" sz="2800" spc="-1" strike="noStrike">
                <a:solidFill>
                  <a:srgbClr val="00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Verdana"/>
              </a:rPr>
              <a:t>DIAGRAMA LOGISTICA COMPRAVENT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3720" y="3216240"/>
            <a:ext cx="7201080" cy="1660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90880" y="7047000"/>
            <a:ext cx="145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RO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AÍ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6120" y="705312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ADU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59120" y="704700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TRANS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LOCAL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46440" y="705312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UERTO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25400" y="7059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UERTO P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6800" y="4079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20800" y="4295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4"/>
            <a:endCxn id="220" idx="0"/>
          </p:cNvCxnSpPr>
          <p:nvPr/>
        </p:nvCxnSpPr>
        <p:spPr>
          <a:xfrm flipH="1" rot="16200000">
            <a:off x="2775600" y="3742920"/>
            <a:ext cx="2470680" cy="4150440"/>
          </a:xfrm>
          <a:prstGeom prst="bentConnector3">
            <a:avLst>
              <a:gd name="adj1" fmla="val 49927"/>
            </a:avLst>
          </a:prstGeom>
          <a:ln w="3492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144440" y="429732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84440" y="429732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22424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/>
          <p:nvPr/>
        </p:nvCxnSpPr>
        <p:spPr>
          <a:xfrm flipH="1" rot="16200000">
            <a:off x="5282280" y="4478040"/>
            <a:ext cx="2527920" cy="2451960"/>
          </a:xfrm>
          <a:prstGeom prst="bentConnector3">
            <a:avLst>
              <a:gd name="adj1" fmla="val 72610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8963280" y="707400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TRANS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LOCAL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5320" y="4081320"/>
            <a:ext cx="432000" cy="28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2" idx="4"/>
            <a:endCxn id="231" idx="0"/>
          </p:cNvCxnSpPr>
          <p:nvPr/>
        </p:nvCxnSpPr>
        <p:spPr>
          <a:xfrm flipH="1" rot="16200000">
            <a:off x="6862680" y="4196520"/>
            <a:ext cx="2705760" cy="3050280"/>
          </a:xfrm>
          <a:prstGeom prst="bentConnector3">
            <a:avLst>
              <a:gd name="adj1" fmla="val 4992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39720" y="4513320"/>
            <a:ext cx="0" cy="237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4"/>
            <a:endCxn id="221" idx="0"/>
          </p:cNvCxnSpPr>
          <p:nvPr/>
        </p:nvCxnSpPr>
        <p:spPr>
          <a:xfrm flipH="1" rot="16200000">
            <a:off x="816480" y="5127480"/>
            <a:ext cx="2463120" cy="1377000"/>
          </a:xfrm>
          <a:prstGeom prst="bentConnector3">
            <a:avLst>
              <a:gd name="adj1" fmla="val 49963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10800720" y="705312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COMPR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AÍ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64440" y="407988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6"/>
            <a:endCxn id="236" idx="0"/>
          </p:cNvCxnSpPr>
          <p:nvPr/>
        </p:nvCxnSpPr>
        <p:spPr>
          <a:xfrm>
            <a:off x="7696080" y="4224240"/>
            <a:ext cx="3859920" cy="282960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 flipV="1">
            <a:off x="6113520" y="4368600"/>
            <a:ext cx="0" cy="1439640"/>
          </a:xfrm>
          <a:prstGeom prst="line">
            <a:avLst/>
          </a:prstGeom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3160" y="4008600"/>
            <a:ext cx="5778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40" idx="4"/>
            <a:endCxn id="222" idx="0"/>
          </p:cNvCxnSpPr>
          <p:nvPr/>
        </p:nvCxnSpPr>
        <p:spPr>
          <a:xfrm flipH="1" rot="16200000">
            <a:off x="2305800" y="4935240"/>
            <a:ext cx="2613600" cy="1623240"/>
          </a:xfrm>
          <a:prstGeom prst="bentConnector3">
            <a:avLst>
              <a:gd name="adj1" fmla="val 49993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928800" y="8904240"/>
            <a:ext cx="1087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REGISTRO DE PROPIEDAD INTELECTUAL Nº 204553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704960"/>
            <a:ext cx="118652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Las cláusulas INCOTERMS se incorporan en cada contrato en la cláusula del precio.  Se indican a continuación algunos ejempl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100 la unidad Ex Works Fábrica San Bernardo, Santiag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50 la caja FCA Colina, Santiag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15 la caja FAS Valparaís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0.95 la libra FOB Antofagasta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750 la tonelada métrica CFR Nueva Y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500 la tonelada métrica CIF Ámsterd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6800" y="479520"/>
            <a:ext cx="88520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EJEMPLOS DE CLAUSULAS INCO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8440" y="263520"/>
            <a:ext cx="110170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Verdana"/>
              </a:rPr>
              <a:t>ESTRUCTURA INCOTERMS    </a:t>
            </a:r>
            <a:r>
              <a:rPr b="1" lang="es-CL" sz="2400" spc="-1" strike="noStrike">
                <a:solidFill>
                  <a:srgbClr val="0033cc"/>
                </a:solidFill>
                <a:latin typeface="Verdana"/>
              </a:rPr>
              <a:t>(TRADI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133720" y="2387520"/>
          <a:ext cx="8534160" cy="71262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ÉRMI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  <a:ea typeface="Times New Roman"/>
                        </a:rPr>
                        <a:t>EXW</a:t>
                      </a: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F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800" spc="-1" strike="noStrike">
                <a:solidFill>
                  <a:srgbClr val="0033cc"/>
                </a:solidFill>
                <a:latin typeface="Verdana"/>
              </a:rPr>
              <a:t>ESTRUCTURA INCOTERMS 20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55720" y="2239920"/>
            <a:ext cx="11306160" cy="7361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 u="sng">
                <a:solidFill>
                  <a:srgbClr val="0033cc"/>
                </a:solidFill>
                <a:uFillTx/>
                <a:latin typeface="Verdana"/>
              </a:rPr>
              <a:t>Reglas para cualquier modo de transpor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X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F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C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800" spc="-1" strike="noStrike">
                <a:solidFill>
                  <a:srgbClr val="0033cc"/>
                </a:solidFill>
                <a:latin typeface="Verdana"/>
              </a:rPr>
              <a:t>ESTRUCTURA INCOTERMS 20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55720" y="2239920"/>
            <a:ext cx="11306160" cy="7361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 u="sng">
                <a:solidFill>
                  <a:srgbClr val="0033cc"/>
                </a:solidFill>
                <a:uFillTx/>
                <a:latin typeface="Verdana"/>
              </a:rPr>
              <a:t>Reglas para transporte marítimo y vías navega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F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6800" y="479520"/>
            <a:ext cx="88520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Verdana"/>
              </a:rPr>
              <a:t>OBLIGACIONES DE LAS P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52440" y="1487520"/>
          <a:ext cx="11953800" cy="7808760"/>
        </p:xfrm>
        <a:graphic>
          <a:graphicData uri="http://schemas.openxmlformats.org/drawingml/2006/table">
            <a:tbl>
              <a:tblPr/>
              <a:tblGrid>
                <a:gridCol w="863640"/>
                <a:gridCol w="5040360"/>
                <a:gridCol w="792000"/>
                <a:gridCol w="525780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 u="sng">
                          <a:solidFill>
                            <a:srgbClr val="0033cc"/>
                          </a:solidFill>
                          <a:uFillTx/>
                          <a:latin typeface="Verdana"/>
                        </a:rPr>
                        <a:t>El Vendedor debe...</a:t>
                      </a: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 u="sng">
                          <a:solidFill>
                            <a:srgbClr val="0033cc"/>
                          </a:solidFill>
                          <a:uFillTx/>
                          <a:latin typeface="Verdana"/>
                        </a:rPr>
                        <a:t>El Comprador debe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Obligaciones general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Obligaciones generales del compra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Licencias, autorizaciones, acreditaciones de seguridad y otras formal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Licencias, autorizaciones, acreditaciones de seguridad y otras formal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ntratos de transporte y segu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ntratos de transporte y segu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cep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ransmisión de riesg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ransmisión de riesg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part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part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Notificaciones al compra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Notificaciones al vende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ocumento de 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Prueba de la 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mprobación – embalaje – mar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Inspección de la mercader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yuda con la información y costos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yuda con la información y costos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Verdana"/>
              </a:rPr>
              <a:t>EXPLICACIONES Y GRA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6440" y="1847880"/>
            <a:ext cx="11671560" cy="7208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 explicaciones y gráficos que siguen, constituyen una creación exclusiva del profesor José Luis López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e utilizan, solamente para efectos ilustrativos y pedag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No constituyen una redacción formal de las normas INCO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 reglas INCOTERMS 2010 contienen en cada caso normas y precisiones más completas que las menciones explicativas de cada grá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Estas explicaciones no deben utilizarse en ningún contrato, ni documentación leg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2855880"/>
            <a:ext cx="128016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EL TERMINO</a:t>
            </a:r>
            <a:r>
              <a:rPr b="1" lang="es-CL" sz="23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1" lang="es-CL" sz="4000" spc="-1" strike="noStrike">
                <a:solidFill>
                  <a:srgbClr val="ff5050"/>
                </a:solidFill>
                <a:latin typeface="Verdana"/>
              </a:rPr>
              <a:t>EXW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VENDEDOR MINIMIZA SU RIESGO AL HAC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DISPONIBLES LAS MERCADERIAS EN SU PROPIO ESTABLECI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E</a:t>
            </a:r>
            <a:r>
              <a:rPr b="1" lang="es-CL" sz="57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9720" y="465624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EX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X</a:t>
            </a:r>
            <a:r>
              <a:rPr b="1" lang="es-MX" sz="3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36680" y="192240"/>
            <a:ext cx="6180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EXW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EX Wo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37520" y="552132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LOS  COSTOS SE TRANSFIEREN DEL VENDEDOR AL     COMPRADOR  CUANDO LAS  MERCADERIAS     SE   PONEN     A DISPOSICIÓN DEL COMPRADOR EN EL ESTABLECIMIENTO DEL VENDE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37520" y="6999120"/>
            <a:ext cx="5464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LOS RIESGOS SE TRANSFIEREN DEL VENDEDOR AL  COMPRADOR  CUANDO LAS MERCADERIAS  SE  PONEN  A  DISPOSICIÓN DEL COMPRADOR EN EL ESTABL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DEL VENDE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37520" y="8413920"/>
            <a:ext cx="524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EL COMPRADOR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23720" y="1920960"/>
            <a:ext cx="7201080" cy="1660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018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>
              <a:alpha val="72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>
              <a:alpha val="72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37520" y="407988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ÓA PONIÉNDOLA A DISPOSICIÓN DEL COMPRADOR EN EL PUNTO ACODADO DE SU ESTABL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EFEC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1000"/>
          </a:bodyPr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exportaciones y de impor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invers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contrat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International joint ven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Convenios de colaboración empresar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Financiamiento interna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Seguros internacion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Sometimiento a legislación y jurisdicción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Efectos globales de situacion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3287880"/>
            <a:ext cx="135237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BAJO LOS  TERMINOS</a:t>
            </a:r>
            <a:r>
              <a:rPr b="1" lang="es-CL" sz="20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5050"/>
                </a:solidFill>
                <a:latin typeface="Verdana"/>
              </a:rPr>
              <a:t>F</a:t>
            </a:r>
            <a:r>
              <a:rPr b="1" lang="es-CL" sz="20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EL VENDEDOR CONTRATA LOS TRANSPORTES IN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HASTA LUGAR DE EMBARQUE EN EL PAIS DE EXPOR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F</a:t>
            </a: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6800" y="5664240"/>
            <a:ext cx="504036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CArr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22960" y="5675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Alongside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On B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EL TRANSPORTE PRINCIPAL NO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36680" y="192240"/>
            <a:ext cx="64213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CA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Carr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553160" y="5376960"/>
            <a:ext cx="5248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 CUANDO  LAS  MERCADERIAS HAN SIDO ENTREGADAS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AL TRANSPORTISTA EN EL LUGAR DE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53160" y="6816600"/>
            <a:ext cx="5631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 RIESGOS  SE  TRANSFIEREN    DEL VENDEDOR   AL     COMPRADOR   CUANDO  LAS MERCADERIAS HAN SIDO ENTREGADA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AL  TRANSPORTISTA   EN  EL  LUGAR  DE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3160" y="836604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EL  COMPRADOR,  O  POR CUENTA DEL </a:t>
            </a:r>
            <a:r>
              <a:rPr b="1" lang="es-MX" sz="1200" spc="-1" strike="noStrike">
                <a:solidFill>
                  <a:srgbClr val="000099"/>
                </a:solidFill>
                <a:latin typeface="Verdana"/>
              </a:rPr>
              <a:t>COMPR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7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53160" y="407988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ERIA AL PORTEADOR EN EL PUNTO ACORDADO, EN EL PAÍS DE OR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952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190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62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048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4464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8772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272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7028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0976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6888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5284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419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8464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277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6720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028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4976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737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164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59560" y="6888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61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020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00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1276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558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532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840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782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20960" y="400860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608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5600" y="4008600"/>
            <a:ext cx="298440" cy="607680"/>
          </a:xfrm>
          <a:custGeom>
            <a:avLst/>
            <a:gdLst>
              <a:gd name="textAreaLeft" fmla="*/ 0 w 298440"/>
              <a:gd name="textAreaRight" fmla="*/ 298800 w 29844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3520" y="400860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926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3532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784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182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6096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08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2444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6752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10240" y="4008600"/>
            <a:ext cx="465120" cy="607680"/>
          </a:xfrm>
          <a:custGeom>
            <a:avLst/>
            <a:gdLst>
              <a:gd name="textAreaLeft" fmla="*/ 0 w 465120"/>
              <a:gd name="textAreaRight" fmla="*/ 465480 w 4651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68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020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00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1276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558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532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3840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782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20960" y="537696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608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5600" y="537696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3520" y="537696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926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3532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784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182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6096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008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2444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6752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10240" y="537696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468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AS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Alongside S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480440" y="559260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  COSTOS    SE  TRANSFIEREN   DEL   VENDEDOR  AL     COMPRADOR  CUANDO LAS MERCADERIAS HAN SIDO PUESTAS AL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COSTADO DEL BUQUE EN EL PUERTO DE 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80440" y="6854760"/>
            <a:ext cx="5321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 SE TRANSFIEREN DEL VENDEDOR AL COMPRADOR  CUANDO LAS  MERCADERIAS HAN SIDO PUESTAS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COSTADO  DEL BUQUE   EN EL PUERTO DE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80440" y="826596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POR    EL  COMPRA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655720" y="2057400"/>
            <a:ext cx="0" cy="68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80440" y="407988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SERÍA A UN COSTADO DEL BUQUE DESIGNADO POR EL COMPRADOR EN EL PUNTO DE CARGA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644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784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8732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3040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7312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129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55680" y="6888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955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3860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780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2116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529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355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7860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18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42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848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27880" y="6888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6888240"/>
            <a:ext cx="298800" cy="608040"/>
          </a:xfrm>
          <a:custGeom>
            <a:avLst/>
            <a:gdLst>
              <a:gd name="textAreaLeft" fmla="*/ 0 w 298800"/>
              <a:gd name="textAreaRight" fmla="*/ 299160 w 298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184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148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13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440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271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6696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20968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495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92600" y="566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32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75160" y="566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63880" y="566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696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49680" y="566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895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3224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72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96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3880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1880" y="5664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6880" y="5664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184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148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13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844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271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669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495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92600" y="422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3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75160" y="422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63880" y="422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069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49680" y="422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895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3224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7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96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2388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81880" y="4224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6880" y="4224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OB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On Bo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7337520" y="563076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    COSTOS      SE      TRANSFIEREN   DEL   VENDEDOR      AL     COMPRADOR CUANDO  LAS      MERCADERIAS HAN SIDO PUESTAS A BORDO DEL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BUQUE    EN    EL    PUERTO   DE  EMBARQUE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37520" y="6999120"/>
            <a:ext cx="5464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  RIESGOS    SE     TRANSFIEREN      DEL VENDEDOR     AL    COMPRADOR      CUANDO  LAS    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EN  EL    PUERTO   DE  EMBARQUE  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37520" y="8265960"/>
            <a:ext cx="525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 EL  COMPRA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066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37520" y="400860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DESIGNADO POR EL COMPRADOR EN EL PUERTO DE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2784600"/>
            <a:ext cx="135237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LOS  TERMINOS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4000" spc="-1" strike="noStrike">
                <a:solidFill>
                  <a:srgbClr val="ff5050"/>
                </a:solidFill>
                <a:latin typeface="Arial"/>
              </a:rPr>
              <a:t>C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VENDEDOR CONTRATA Y PAGA 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PRINCIPAL PERO SIN ASUMIR EL RIESGO D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C</a:t>
            </a:r>
            <a:r>
              <a:rPr b="1" lang="es-CL" sz="5700" spc="-1" strike="noStrike">
                <a:solidFill>
                  <a:srgbClr val="777777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ost and F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69160" y="5675400"/>
            <a:ext cx="62658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ost Insurance and F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arriage P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Verdana"/>
              </a:rPr>
              <a:t>EL TRANSPORTE PRINCIPAL 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969160" y="7680240"/>
            <a:ext cx="62658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arriage, Insurance P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FR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ost and F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408800" y="5415120"/>
            <a:ext cx="5113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408800" y="692640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RIESGOS SE TRANSFIEREN  DEL VENDEDOR AL    COMPRADOR CUANDO  LAS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 EN  EL  PUERTO   DE  EMBARQUE  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408800" y="829476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45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408800" y="400860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ERI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IF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ost Insurance and F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7553160" y="537696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669080" y="6854760"/>
            <a:ext cx="4853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SE  TRANSFIEREN  DEL VENDEDOR     AL    COMPRADOR  CUANDO  LAS 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   EN    EL    PUERTO  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96080" y="8265960"/>
            <a:ext cx="5105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EL    TRANSPORTE  Y  SEGURO   DEBE</a:t>
            </a:r>
            <a:r>
              <a:rPr b="1" lang="es-MX" sz="1200" spc="-1" strike="noStrike">
                <a:solidFill>
                  <a:srgbClr val="000099"/>
                </a:solidFill>
                <a:latin typeface="Verdana"/>
              </a:rPr>
              <a:t>N</a:t>
            </a: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   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97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553160" y="4152960"/>
            <a:ext cx="524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PT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arriage P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7480440" y="5376960"/>
            <a:ext cx="5321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480440" y="692640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SE  TRANSFIEREN  DEL VENDEDOR  AL   COMPRADOR     CUANDO LAS    MERCADERIAS  SE ENTREGRAN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RIMER TRANSPORTISTA PARA QUE LAS TRASLADE A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80440" y="8194680"/>
            <a:ext cx="532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480440" y="4152960"/>
            <a:ext cx="5321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717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43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IP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arriage, Insurance P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7342200" y="5376960"/>
            <a:ext cx="54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40480" y="6816600"/>
            <a:ext cx="536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RIESGOS  SE  TRANSFIEREN DEL VENDEDOR AL COMPRADOR  CUANDO  LAS     MERCADERIAS  SE ENTREGRAN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RIMER TRANSPORTISTA PARA QUE 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TRASLADE A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480440" y="8194680"/>
            <a:ext cx="532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37644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1280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0080" y="4368960"/>
            <a:ext cx="612720" cy="607680"/>
          </a:xfrm>
          <a:custGeom>
            <a:avLst/>
            <a:gdLst>
              <a:gd name="textAreaLeft" fmla="*/ 0 w 612720"/>
              <a:gd name="textAreaRight" fmla="*/ 613080 w 6127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432080" y="4368960"/>
            <a:ext cx="541080" cy="607680"/>
          </a:xfrm>
          <a:custGeom>
            <a:avLst/>
            <a:gdLst>
              <a:gd name="textAreaLeft" fmla="*/ 0 w 541080"/>
              <a:gd name="textAreaRight" fmla="*/ 541440 w 54108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86372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22264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58300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94336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30372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66408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800" y="4368960"/>
            <a:ext cx="298440" cy="607680"/>
          </a:xfrm>
          <a:custGeom>
            <a:avLst/>
            <a:gdLst>
              <a:gd name="textAreaLeft" fmla="*/ 0 w 298440"/>
              <a:gd name="textAreaRight" fmla="*/ 298800 w 29844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022640" y="436896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74336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38300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0372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46408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824440" y="4368960"/>
            <a:ext cx="577800" cy="607680"/>
          </a:xfrm>
          <a:custGeom>
            <a:avLst/>
            <a:gdLst>
              <a:gd name="textAreaLeft" fmla="*/ 0 w 577800"/>
              <a:gd name="textAreaRight" fmla="*/ 578160 w 577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18480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54516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337520" y="429588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1992240"/>
            <a:ext cx="131698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 LOS   TERMINOS</a:t>
            </a:r>
            <a:r>
              <a:rPr b="1" lang="es-CL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4000" spc="-1" strike="noStrike">
                <a:solidFill>
                  <a:srgbClr val="ff5050"/>
                </a:solidFill>
                <a:latin typeface="Verdana"/>
              </a:rPr>
              <a:t>D 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 COSTO Y  RIESGO DEL VENDEDOR SE MAXIMIZA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TIENE QUE HACER DISPONIBLES LAS MERCANCIAS AL COMPRAD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A SU LLEGADA EN EL LUGAR DE DESTI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D</a:t>
            </a: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400800" y="4800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 Pl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448080" y="660096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8440" y="4800600"/>
            <a:ext cx="511308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 Termi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55560" y="1978200"/>
          <a:ext cx="11289960" cy="6955920"/>
        </p:xfrm>
        <a:graphic>
          <a:graphicData uri="http://schemas.openxmlformats.org/drawingml/2006/table">
            <a:tbl>
              <a:tblPr/>
              <a:tblGrid>
                <a:gridCol w="1231200"/>
                <a:gridCol w="3993480"/>
                <a:gridCol w="3869280"/>
                <a:gridCol w="2196000"/>
              </a:tblGrid>
              <a:tr h="7020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,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,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,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,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,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9,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7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5,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4,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9,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9,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5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394,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26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233,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15,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49,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89,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40,3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629,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118,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93,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12,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70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7,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,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6,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0,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4,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34,5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80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77,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757,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55640" y="1171440"/>
            <a:ext cx="1048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omic Sans MS"/>
              </a:rPr>
              <a:t>7.    </a:t>
            </a: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T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Termi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TERMINAL DESIGNADO EN EL LUGAR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408800" y="6672240"/>
            <a:ext cx="5392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</a:t>
            </a:r>
            <a:r>
              <a:rPr b="1" lang="es-MX" sz="1200" spc="-1" strike="noStrike">
                <a:solidFill>
                  <a:srgbClr val="ff5050"/>
                </a:solidFill>
                <a:latin typeface="Verdana"/>
              </a:rPr>
              <a:t>EN EL TERMINAL DESIGNADO EN EL LUGAR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P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Pl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EDIO DE TRANSPORTE  EN EL LUGAR DESIGN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408800" y="6672240"/>
            <a:ext cx="5392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EN EL MEDIO DE TRANSPORTE EN LUGAR DE DESTINO CONVENIDO ANTES DE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329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 EN EL LUGAR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DP</a:t>
            </a:r>
            <a:r>
              <a:rPr b="1" lang="es-MX" sz="5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37520" y="5016600"/>
            <a:ext cx="5464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 EN  EL MEDIO DE TRANSPORTE EN EL LUGAR DE DESTINO CONVENIDO  DESPUES   DE    PAGADOS  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337520" y="6745320"/>
            <a:ext cx="5464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COMPRADOR  CUANDO  LAS 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 EN  EL MEDIO DE TRANSPORTE EN EL LUGAR DE DESTINO CONVENIDO DESPUES DE 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408800" y="825660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905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337520" y="400860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UN MEDIO DE TRANSPORTE EN EL LUGAR DE DESTINO CONVENIDO, DESPUES DE PAGADOS LOS DERECHOS DE ADU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88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0" y="2352600"/>
            <a:ext cx="13169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Verdana"/>
              </a:rPr>
              <a:t>Se indican las cláusulas eliminadas de INCOTERMS 2010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39720" y="336600"/>
            <a:ext cx="11379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GRUPO  D</a:t>
            </a: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3400"/>
            </a:br>
            <a:br>
              <a:rPr sz="3400"/>
            </a:b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CLAUSULAS ELIMINA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688080" y="4800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Ex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68440" y="6816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Ex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Q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23720" y="4800600"/>
            <a:ext cx="51134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</a:t>
            </a:r>
            <a:r>
              <a:rPr b="1" lang="es-MX" sz="3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688080" y="6816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Duty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U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F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F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7840800" y="5592600"/>
            <a:ext cx="496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LOS     COSTOS  SE  TRANSFIEREN  DEL VENDEDOR  AL  COMPRADOR CUANDO LAS MERCADERIAS HAN SIDO ENTREGADAS EN EL LUGAR CONVENIDO EN LA FRONT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840800" y="6888240"/>
            <a:ext cx="496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LOS RIESGOS SE TRANSFIEREN DEL VENDEDOR AL    COMPRADOR   CUANDO LAS MERCADERIAS HAN SIDO ENTREGADAS EN EL LUGAR CONVENIDO EN LA FRONT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913520" y="8185320"/>
            <a:ext cx="488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016080" y="285588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087720" y="2784600"/>
            <a:ext cx="2521080" cy="936360"/>
          </a:xfrm>
          <a:prstGeom prst="rect">
            <a:avLst/>
          </a:prstGeom>
          <a:solidFill>
            <a:srgbClr val="ffffd9"/>
          </a:solidFill>
          <a:ln w="3492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3738600" y="2496960"/>
            <a:ext cx="1365120" cy="91152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4672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769160" y="4224240"/>
            <a:ext cx="5032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UN PUNTO DETERMINADO DE LA FRONTERA DE UN PA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ES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Ex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7337520" y="537696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A BORDO DEL BUQU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375680" y="6672240"/>
            <a:ext cx="542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S SE TRANSFIEREN DEL VENDEDOR AL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A BORDO DEL BUQU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408800" y="804060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28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464080" y="8224920"/>
            <a:ext cx="598680" cy="608040"/>
          </a:xfrm>
          <a:custGeom>
            <a:avLst/>
            <a:gdLst>
              <a:gd name="textAreaLeft" fmla="*/ 0 w 598680"/>
              <a:gd name="textAreaRight" fmla="*/ 599040 w 5986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23720" y="52322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Verdana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30920" y="65293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Verdana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337520" y="4152960"/>
            <a:ext cx="50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A BORDO DEL BUQUE EN EL PUERTO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EQ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Ex Q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7388280" y="5305320"/>
            <a:ext cx="541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UELL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408800" y="6529320"/>
            <a:ext cx="5392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 COMPRADOR   EN   EL   MUELLE   EN   E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480440" y="796932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EL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337520" y="4079880"/>
            <a:ext cx="49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UELLE EN EL PUERTO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DU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Duty U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EDIO DE TRANSPORTE  ANTES DE PAGAR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408800" y="6672240"/>
            <a:ext cx="5392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EN EL MEDIOI DE TRANSPORTE EN LUGAR DE DESTINO CONVENIDO CONVENIDO ANTES DE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25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6168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55560" y="2784600"/>
          <a:ext cx="11490120" cy="4536720"/>
        </p:xfrm>
        <a:graphic>
          <a:graphicData uri="http://schemas.openxmlformats.org/drawingml/2006/table">
            <a:tbl>
              <a:tblPr/>
              <a:tblGrid>
                <a:gridCol w="1106640"/>
                <a:gridCol w="4211280"/>
                <a:gridCol w="3936600"/>
                <a:gridCol w="2235600"/>
              </a:tblGrid>
              <a:tr h="7646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30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759,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232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991,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25,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08,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633,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512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536,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535,8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072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606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596,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48,8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545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2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984,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237,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.221,4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.039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914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.953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460520" y="1171440"/>
            <a:ext cx="1058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957240" y="2482920"/>
          <a:ext cx="10472400" cy="6489360"/>
        </p:xfrm>
        <a:graphic>
          <a:graphicData uri="http://schemas.openxmlformats.org/drawingml/2006/table">
            <a:tbl>
              <a:tblPr/>
              <a:tblGrid>
                <a:gridCol w="1141920"/>
                <a:gridCol w="3705120"/>
                <a:gridCol w="3589560"/>
                <a:gridCol w="2035800"/>
              </a:tblGrid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94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6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6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3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.2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7.16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7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3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6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65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1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7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1.8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.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09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6.3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2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4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7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7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1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.79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3.97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.6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94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.6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2.5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2.9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5.4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65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1.2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0.49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1.7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662120" y="1171440"/>
            <a:ext cx="103838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800" y="26496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57240" y="2482920"/>
          <a:ext cx="10472400" cy="3455640"/>
        </p:xfrm>
        <a:graphic>
          <a:graphicData uri="http://schemas.openxmlformats.org/drawingml/2006/table">
            <a:tbl>
              <a:tblPr/>
              <a:tblGrid>
                <a:gridCol w="1141920"/>
                <a:gridCol w="3705120"/>
                <a:gridCol w="3589560"/>
                <a:gridCol w="2035800"/>
              </a:tblGrid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94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8.6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5.9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.5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7.9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4.03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12.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6.2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7.73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23.9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78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4.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.88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3.8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1.0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5.1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26.3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662120" y="1171440"/>
            <a:ext cx="103838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800" y="26496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1676520"/>
            <a:ext cx="10685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720" y="1373040"/>
            <a:ext cx="1088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500" spc="-1" strike="noStrike">
                <a:solidFill>
                  <a:srgbClr val="0033cc"/>
                </a:solidFill>
                <a:latin typeface="Comic Sans MS"/>
              </a:rPr>
              <a:t>8.   </a:t>
            </a:r>
            <a:r>
              <a:rPr b="0" lang="es-CL" sz="2200" spc="-1" strike="noStrike" u="sng">
                <a:solidFill>
                  <a:srgbClr val="0033cc"/>
                </a:solidFill>
                <a:uFillTx/>
                <a:latin typeface="Comic Sans MS"/>
              </a:rPr>
              <a:t>LA IMPORTANCIA DEL COBRE EN LAS EXPORTACIONES CHILE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884320"/>
          <a:ext cx="8065800" cy="6127560"/>
        </p:xfrm>
        <a:graphic>
          <a:graphicData uri="http://schemas.openxmlformats.org/drawingml/2006/table">
            <a:tbl>
              <a:tblPr/>
              <a:tblGrid>
                <a:gridCol w="2217960"/>
                <a:gridCol w="2922840"/>
                <a:gridCol w="2925000"/>
              </a:tblGrid>
              <a:tr h="6465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AÑ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COB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7.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64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.1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7.1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0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.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.2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2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5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1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1.6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.8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5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4.7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1.2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9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821800" y="2884320"/>
          <a:ext cx="2923920" cy="6127560"/>
        </p:xfrm>
        <a:graphic>
          <a:graphicData uri="http://schemas.openxmlformats.org/drawingml/2006/table">
            <a:tbl>
              <a:tblPr/>
              <a:tblGrid>
                <a:gridCol w="2923920"/>
              </a:tblGrid>
              <a:tr h="6922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%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,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44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1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5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0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5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44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4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6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0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5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36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6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676520"/>
            <a:ext cx="10685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5720" y="1373040"/>
            <a:ext cx="1088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500" spc="-1" strike="noStrike">
                <a:solidFill>
                  <a:srgbClr val="0033cc"/>
                </a:solidFill>
                <a:latin typeface="Comic Sans MS"/>
              </a:rPr>
              <a:t>8.   </a:t>
            </a:r>
            <a:r>
              <a:rPr b="0" lang="es-CL" sz="2200" spc="-1" strike="noStrike" u="sng">
                <a:solidFill>
                  <a:srgbClr val="0033cc"/>
                </a:solidFill>
                <a:uFillTx/>
                <a:latin typeface="Comic Sans MS"/>
              </a:rPr>
              <a:t>LA IMPORTANCIA DEL COBRE EN LAS EXPORTACIONES CHILE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2884320"/>
          <a:ext cx="8065800" cy="3692160"/>
        </p:xfrm>
        <a:graphic>
          <a:graphicData uri="http://schemas.openxmlformats.org/drawingml/2006/table">
            <a:tbl>
              <a:tblPr/>
              <a:tblGrid>
                <a:gridCol w="2217960"/>
                <a:gridCol w="2922840"/>
                <a:gridCol w="2925000"/>
              </a:tblGrid>
              <a:tr h="6465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AÑ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COB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8.6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7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7.9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.3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6.2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84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4.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7.7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1.0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0.2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821800" y="2884320"/>
          <a:ext cx="2923920" cy="3692160"/>
        </p:xfrm>
        <a:graphic>
          <a:graphicData uri="http://schemas.openxmlformats.org/drawingml/2006/table">
            <a:tbl>
              <a:tblPr/>
              <a:tblGrid>
                <a:gridCol w="2923920"/>
              </a:tblGrid>
              <a:tr h="6922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%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01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5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04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5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01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9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976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1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940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6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08:09Z</dcterms:created>
  <dc:creator>LOPEZ REITZE</dc:creator>
  <dc:description/>
  <dc:language>en-US</dc:language>
  <cp:lastModifiedBy>jllb</cp:lastModifiedBy>
  <dcterms:modified xsi:type="dcterms:W3CDTF">2011-05-27T16:08:10Z</dcterms:modified>
  <cp:revision>84</cp:revision>
  <dc:subject/>
  <dc:title>Diapositiva 1</dc:title>
</cp:coreProperties>
</file>