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4.jpeg" ContentType="image/jpeg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12801600" cy="96012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2E8E-10BA-40A4-96BF-272B3A1A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DA10-637D-4209-A5A4-06B1C803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2C8B-E896-4E7D-8154-17C22AC8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8DC0-E6BC-47E7-8E08-7C9AD7AD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9549-DDCE-45EC-8857-454CF5AC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8BE8-7E6D-490E-A28B-969C163E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FCA7-49DC-411A-AFD6-5498329A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8CA4-3F6B-416F-8064-B159C739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3424-2239-4BC1-B5C0-9D4FB8B9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606-6D47-4961-A51F-F98231F3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09FE-C0EC-4F9D-AA3E-CCF41737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2A98-1F1C-4112-956F-AD63371F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s-E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s-E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s-E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EB197A6A-697C-4786-A062-67AD673D952B}" type="slidenum">
              <a:rPr b="0" lang="es-E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0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1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1.png"/><Relationship Id="rId18" Type="http://schemas.openxmlformats.org/officeDocument/2006/relationships/image" Target="../media/image12.wmf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10720" y="349200"/>
            <a:ext cx="643824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versidad de Ch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Facultad de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Profesor Sr. José Luis López 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6080" y="1920960"/>
            <a:ext cx="10513800" cy="5040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2440" y="7321680"/>
            <a:ext cx="1188072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FERENCIA   COMPRAVENTA INTERNACIONAL DE MERCADE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INCOTERMS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EGISTRO DE PROPIEDAD INTELECTUAL 204553 DE 2011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      MAYO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68440" y="407880"/>
            <a:ext cx="955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8080" y="1631880"/>
            <a:ext cx="12233160" cy="2881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Verdana"/>
              </a:rPr>
              <a:t>COMPRAVENTA INTERNACIONAL 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Verdana"/>
              </a:rPr>
              <a:t>DE MERCADERIAS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Verdana"/>
              </a:rPr>
              <a:t>DIAGR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9720" y="5592600"/>
            <a:ext cx="115221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Verdana"/>
              </a:rPr>
              <a:t>REGISTRO PROPIEDAD INTELECTUAL Nº 204553 DE 2011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33cc"/>
                </a:solidFill>
                <a:latin typeface="Verdana"/>
              </a:rPr>
              <a:t>JOSE LUIS LOPEZ BLANCO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www.rclabogados.cl</a:t>
            </a: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   AV. 11 DE SEPTIEMBRE 2353, P. 14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       F:  23364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410000" y="6721560"/>
          <a:ext cx="24177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0000" y="6721560"/>
                    <a:ext cx="24177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410000" y="6640560"/>
            <a:ext cx="2844720" cy="143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405400" y="5521320"/>
            <a:ext cx="1279440" cy="87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4540320" y="4079880"/>
          <a:ext cx="1071360" cy="97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40320" y="4079880"/>
                    <a:ext cx="107136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426960" y="4632480"/>
            <a:ext cx="1280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990800" y="712116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-2008800" y="3029400"/>
            <a:ext cx="800136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Documentos de embar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90800" y="5200560"/>
            <a:ext cx="270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990800" y="5200560"/>
            <a:ext cx="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040400">
            <a:off x="3807000" y="4479480"/>
            <a:ext cx="744480" cy="311400"/>
          </a:xfrm>
          <a:custGeom>
            <a:avLst/>
            <a:gdLst>
              <a:gd name="textAreaLeft" fmla="*/ 130320 w 744480"/>
              <a:gd name="textAreaRight" fmla="*/ 540000 w 744480"/>
              <a:gd name="textAreaTop" fmla="*/ 41760 h 311400"/>
              <a:gd name="textAreaBottom" fmla="*/ 269640 h 3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21321000">
            <a:off x="5176440" y="4223880"/>
            <a:ext cx="862200" cy="244440"/>
          </a:xfrm>
          <a:custGeom>
            <a:avLst/>
            <a:gdLst>
              <a:gd name="textAreaLeft" fmla="*/ 150840 w 862200"/>
              <a:gd name="textAreaRight" fmla="*/ 625320 w 862200"/>
              <a:gd name="textAreaTop" fmla="*/ 32760 h 244440"/>
              <a:gd name="textAreaBottom" fmla="*/ 211680 h 244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51480" y="4960800"/>
            <a:ext cx="18493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Times New Roman"/>
              </a:rPr>
              <a:t>Exportad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121360" y="3600360"/>
            <a:ext cx="0" cy="4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3868200" y="2622960"/>
            <a:ext cx="23220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Registro de export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3983040" y="465120"/>
            <a:ext cx="2274840" cy="1295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72080" y="0"/>
            <a:ext cx="11905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ADUA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73840" y="520056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973840" y="6160680"/>
            <a:ext cx="0" cy="56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77400">
            <a:off x="4402080" y="6721200"/>
            <a:ext cx="860400" cy="236520"/>
          </a:xfrm>
          <a:custGeom>
            <a:avLst/>
            <a:gdLst>
              <a:gd name="textAreaLeft" fmla="*/ 150480 w 860400"/>
              <a:gd name="textAreaRight" fmla="*/ 623880 w 860400"/>
              <a:gd name="textAreaTop" fmla="*/ 31680 h 236520"/>
              <a:gd name="textAreaBottom" fmla="*/ 204840 h 23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1541200">
            <a:off x="4406760" y="7440120"/>
            <a:ext cx="855720" cy="320760"/>
          </a:xfrm>
          <a:custGeom>
            <a:avLst/>
            <a:gdLst>
              <a:gd name="textAreaLeft" fmla="*/ 149760 w 855720"/>
              <a:gd name="textAreaRight" fmla="*/ 620640 w 855720"/>
              <a:gd name="textAreaTop" fmla="*/ 42840 h 320760"/>
              <a:gd name="textAreaBottom" fmla="*/ 277920 h 3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34960" y="7761240"/>
            <a:ext cx="12279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Importad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75440" y="8240760"/>
            <a:ext cx="17460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Descarga y reti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De puer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24160" y="5951520"/>
            <a:ext cx="15652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Contra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200" y="9280440"/>
            <a:ext cx="17276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uerto embar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001160" y="9215280"/>
            <a:ext cx="14990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uerto desti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80240" y="79218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54720" y="792180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534520" y="8561520"/>
            <a:ext cx="142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7760" y="672156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57000" y="6591240"/>
            <a:ext cx="12718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Solicita C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45520" y="6721560"/>
            <a:ext cx="56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9672120" y="6880320"/>
            <a:ext cx="42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21320" y="6751800"/>
            <a:ext cx="21924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Entrega documen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543360" y="6880320"/>
            <a:ext cx="56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57880" y="712152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388440" y="712152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92200" y="7018200"/>
            <a:ext cx="2160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aga documen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240920" y="7018200"/>
            <a:ext cx="25606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Banco comercial extranje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0240920" y="4960440"/>
            <a:ext cx="0" cy="104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9099360" y="4065840"/>
            <a:ext cx="21027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Confirma y avisa C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937880" y="51609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9337320" y="3793680"/>
            <a:ext cx="30488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Remite doumentos de embar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1945880" y="5160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10373760" y="3825360"/>
            <a:ext cx="29667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aga documentos de embae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2088800" y="2424240"/>
            <a:ext cx="0" cy="56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0240920" y="2239560"/>
            <a:ext cx="0" cy="12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1080800" y="220788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069920" y="552600"/>
            <a:ext cx="24058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Banco comercial chile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121360" y="176040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973480" y="416088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66760" y="2000160"/>
            <a:ext cx="13208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Notifica C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43720" y="416088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969240" y="2160720"/>
            <a:ext cx="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69240" y="216072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961480" y="2160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5218560" y="2751840"/>
            <a:ext cx="27518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Solicita credito preembar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689080" y="392112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689440" y="392076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69240" y="1920960"/>
            <a:ext cx="270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84840" y="1920960"/>
            <a:ext cx="28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546880" y="1839600"/>
            <a:ext cx="0" cy="23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46880" y="1839960"/>
            <a:ext cx="99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543720" y="1521000"/>
            <a:ext cx="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43720" y="152100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1800" y="1039680"/>
            <a:ext cx="21423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resenta documento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Embarque. Cobra C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y paga crédito 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reembar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02600" y="152100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42920" y="3360600"/>
          <a:ext cx="1847880" cy="15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2920" y="3360600"/>
                    <a:ext cx="184788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 flipH="1">
            <a:off x="3982680" y="4160880"/>
            <a:ext cx="56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53560" y="3921120"/>
            <a:ext cx="14504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ago faen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Frio embalaj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133360" y="4160880"/>
            <a:ext cx="28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6800" y="4944960"/>
            <a:ext cx="0" cy="5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-582480" y="5971680"/>
            <a:ext cx="19501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Transporte a puer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6960" y="680076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9">
            <a:lum contrast="18000"/>
          </a:blip>
          <a:stretch/>
        </p:blipFill>
        <p:spPr>
          <a:xfrm>
            <a:off x="0" y="1120680"/>
            <a:ext cx="2133720" cy="1519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267080" y="3921120"/>
            <a:ext cx="2845080" cy="144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267080" y="2079720"/>
            <a:ext cx="0" cy="176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982680" y="2079720"/>
            <a:ext cx="28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20880" y="1920960"/>
            <a:ext cx="1689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ago 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roductor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276280" y="2079720"/>
            <a:ext cx="425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71480" y="7601040"/>
          <a:ext cx="1390680" cy="1731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71480" y="7601040"/>
                    <a:ext cx="139068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0780560" y="7601040"/>
          <a:ext cx="1392480" cy="1731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780560" y="7601040"/>
                    <a:ext cx="139248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0702800" y="5921280"/>
          <a:ext cx="1511280" cy="1190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702800" y="5921280"/>
                    <a:ext cx="151128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0561680" y="1039680"/>
          <a:ext cx="1511280" cy="1192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561680" y="1039680"/>
                    <a:ext cx="151128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 rot="10472400">
            <a:off x="5546880" y="6560640"/>
            <a:ext cx="855360" cy="319320"/>
          </a:xfrm>
          <a:custGeom>
            <a:avLst/>
            <a:gdLst>
              <a:gd name="textAreaLeft" fmla="*/ 149400 w 855360"/>
              <a:gd name="textAreaRight" fmla="*/ 620280 w 855360"/>
              <a:gd name="textAreaTop" fmla="*/ 42480 h 319320"/>
              <a:gd name="textAreaBottom" fmla="*/ 27684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7591400">
            <a:off x="6551280" y="7361280"/>
            <a:ext cx="642960" cy="480960"/>
          </a:xfrm>
          <a:custGeom>
            <a:avLst/>
            <a:gdLst>
              <a:gd name="textAreaLeft" fmla="*/ 112320 w 642960"/>
              <a:gd name="textAreaRight" fmla="*/ 466200 w 642960"/>
              <a:gd name="textAreaTop" fmla="*/ 64440 h 480960"/>
              <a:gd name="textAreaBottom" fmla="*/ 41652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8"/>
          <a:stretch/>
        </p:blipFill>
        <p:spPr>
          <a:xfrm>
            <a:off x="4267080" y="8640720"/>
            <a:ext cx="2133720" cy="565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701800" y="9121680"/>
            <a:ext cx="142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00800" y="9121680"/>
            <a:ext cx="355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14600" y="9158400"/>
            <a:ext cx="20372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Transporte marítim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9720" y="384120"/>
            <a:ext cx="11522160" cy="1031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FUENTES LEGALES INTERN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36440" y="1487160"/>
            <a:ext cx="9937800" cy="74898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Convención de Viena de 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Principios UNIDRO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INCOTERMS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UCP 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27152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LA FUNCION DEL CON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39720" y="2855520"/>
            <a:ext cx="11522160" cy="57214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Artículo 1545 del Código Ci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Artículo 6º Convención de Vi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Artículos 1.1 y 1.3 de Principios UNIDRO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Las reglas INCOTERMS no proporcionan un contrato de compraventa comp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77624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LA FUNCION DEL CON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39720" y="2063520"/>
            <a:ext cx="11522160" cy="72738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Principio de la autonomía de la volunt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Reconocimiento unive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Las partes deben reflejar en el contrato claramente su intención respecto de todos los acuer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Las controversias entre las partes se resolverán de acuerdo con lo expresado en el con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Se incluye anexo con pauta de puntos básicos a negoc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La negociación y la redacción del contrato requieren asesoría profe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77624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PAUTA DE NEGO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9720" y="1920960"/>
            <a:ext cx="11522160" cy="76802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 fontScale="99000"/>
          </a:bodyPr>
          <a:p>
            <a:pPr marL="848520" indent="-8485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Se recomienda que las partes negocien y definan sus acuerdos con claridad sobre los siguientes pu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-735480">
              <a:lnSpc>
                <a:spcPct val="100000"/>
              </a:lnSpc>
              <a:spcBef>
                <a:spcPts val="476"/>
              </a:spcBef>
              <a:buClr>
                <a:srgbClr val="0033cc"/>
              </a:buClr>
              <a:buFont typeface="Verdana"/>
              <a:buAutoNum type="arabicPeriod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Vendedor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10.    Destino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-735480">
              <a:lnSpc>
                <a:spcPct val="100000"/>
              </a:lnSpc>
              <a:spcBef>
                <a:spcPts val="476"/>
              </a:spcBef>
              <a:buClr>
                <a:srgbClr val="0033cc"/>
              </a:buClr>
              <a:buFont typeface="Verdana"/>
              <a:buAutoNum type="arabicPeriod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Comprador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11.    Transpor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-735480">
              <a:lnSpc>
                <a:spcPct val="100000"/>
              </a:lnSpc>
              <a:spcBef>
                <a:spcPts val="476"/>
              </a:spcBef>
              <a:buClr>
                <a:srgbClr val="0033cc"/>
              </a:buClr>
              <a:buFont typeface="Verdana"/>
              <a:buAutoNum type="arabicPeriod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Producto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12.    Segur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-735480">
              <a:lnSpc>
                <a:spcPct val="100000"/>
              </a:lnSpc>
              <a:spcBef>
                <a:spcPts val="476"/>
              </a:spcBef>
              <a:buClr>
                <a:srgbClr val="0033cc"/>
              </a:buClr>
              <a:buFont typeface="Verdana"/>
              <a:buAutoNum type="arabicPeriod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Calidad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13.    Certificados y documen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-735480">
              <a:lnSpc>
                <a:spcPct val="100000"/>
              </a:lnSpc>
              <a:spcBef>
                <a:spcPts val="476"/>
              </a:spcBef>
              <a:buClr>
                <a:srgbClr val="0033cc"/>
              </a:buClr>
              <a:buFont typeface="Verdana"/>
              <a:buAutoNum type="arabicPeriod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Cantidad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14.    Legislación aplicab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-735480">
              <a:lnSpc>
                <a:spcPct val="100000"/>
              </a:lnSpc>
              <a:spcBef>
                <a:spcPts val="476"/>
              </a:spcBef>
              <a:buClr>
                <a:srgbClr val="0033cc"/>
              </a:buClr>
              <a:buFont typeface="Verdana"/>
              <a:buAutoNum type="arabicPeriod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Embalaje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15.    Arbitraj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-735480">
              <a:lnSpc>
                <a:spcPct val="100000"/>
              </a:lnSpc>
              <a:spcBef>
                <a:spcPts val="476"/>
              </a:spcBef>
              <a:buClr>
                <a:srgbClr val="0033cc"/>
              </a:buClr>
              <a:buFont typeface="Verdana"/>
              <a:buAutoNum type="arabicPeriod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Prec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-735480">
              <a:lnSpc>
                <a:spcPct val="100000"/>
              </a:lnSpc>
              <a:spcBef>
                <a:spcPts val="476"/>
              </a:spcBef>
              <a:buClr>
                <a:srgbClr val="0033cc"/>
              </a:buClr>
              <a:buFont typeface="Verdana"/>
              <a:buAutoNum type="arabicPeriod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Forma de pag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-735480">
              <a:lnSpc>
                <a:spcPct val="100000"/>
              </a:lnSpc>
              <a:spcBef>
                <a:spcPts val="476"/>
              </a:spcBef>
              <a:buClr>
                <a:srgbClr val="0033cc"/>
              </a:buClr>
              <a:buFont typeface="Verdana"/>
              <a:buAutoNum type="arabicPeriod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Embarque   (Entrega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7624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696960"/>
            <a:ext cx="12450600" cy="10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4800" spc="-1" strike="noStrike">
                <a:solidFill>
                  <a:srgbClr val="0033cc"/>
                </a:solidFill>
                <a:latin typeface="Verdana"/>
              </a:rPr>
              <a:t>INCOTERMS 20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Verdana"/>
              </a:rPr>
              <a:t>REGLAS I.C.C.</a:t>
            </a: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Verdana"/>
              </a:rPr>
              <a:t>ENTREG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Verdana"/>
              </a:rPr>
              <a:t>DISTRIBUCIÓN DE COST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s-CL" sz="2800" spc="-1" strike="noStrike">
                <a:solidFill>
                  <a:srgbClr val="0033cc"/>
                </a:solidFill>
                <a:latin typeface="Verdana"/>
              </a:rPr>
              <a:t>RIESG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Verdana"/>
              </a:rPr>
              <a:t>TRANSPORTE DE MERCADE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8381880"/>
            <a:ext cx="4496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7624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3000" spc="-1" strike="noStrike">
                <a:solidFill>
                  <a:srgbClr val="0033cc"/>
                </a:solidFill>
                <a:latin typeface="Verdana"/>
              </a:rPr>
              <a:t>LA CÁMARA DE COMERCIO INTERNACIONAL 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0033cc"/>
                </a:solidFill>
                <a:latin typeface="Verdana"/>
              </a:rPr>
              <a:t>I.C.C.      www.iccwbo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87440" y="2424240"/>
            <a:ext cx="12314160" cy="6953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Fue creada en 1919 por un grupo de empresarios, industriales, financistas y comercian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Se autodenominaron “los comerciantes de la paz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En 1923 la ICC creó la Corte Internacional de Arbitra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En 1945 fue designada miembro consultor de Naciones Unid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La ICC ha creado diversas reglas para facilitar el comercio internacion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FUNCIONES PRINCIPA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83720" y="2239920"/>
            <a:ext cx="11377800" cy="66643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 fontScale="93000"/>
          </a:bodyPr>
          <a:p>
            <a:pPr marL="445680" indent="-445680">
              <a:lnSpc>
                <a:spcPct val="100000"/>
              </a:lnSpc>
              <a:spcBef>
                <a:spcPts val="774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100" spc="-1" strike="noStrike">
                <a:solidFill>
                  <a:srgbClr val="0033cc"/>
                </a:solidFill>
                <a:latin typeface="Verdana"/>
              </a:rPr>
              <a:t>Proposición de reglas uniformes en materias comerciales y bancaria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-445680">
              <a:lnSpc>
                <a:spcPct val="100000"/>
              </a:lnSpc>
              <a:spcBef>
                <a:spcPts val="774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100" spc="-1" strike="noStrike">
                <a:solidFill>
                  <a:srgbClr val="0033cc"/>
                </a:solidFill>
                <a:latin typeface="Verdana"/>
              </a:rPr>
              <a:t>Tribunal Arbitral Internacional en materias comercia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-445680">
              <a:lnSpc>
                <a:spcPct val="100000"/>
              </a:lnSpc>
              <a:spcBef>
                <a:spcPts val="774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100" spc="-1" strike="noStrike">
                <a:solidFill>
                  <a:srgbClr val="0033cc"/>
                </a:solidFill>
                <a:latin typeface="Verdana"/>
              </a:rPr>
              <a:t>Asesoría a Naciones Unid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-445680">
              <a:lnSpc>
                <a:spcPct val="100000"/>
              </a:lnSpc>
              <a:spcBef>
                <a:spcPts val="774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100" spc="-1" strike="noStrike">
                <a:solidFill>
                  <a:srgbClr val="0033cc"/>
                </a:solidFill>
                <a:latin typeface="Verdana"/>
              </a:rPr>
              <a:t>Coordinación global de Cámaras de Comerci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-445680">
              <a:lnSpc>
                <a:spcPct val="100000"/>
              </a:lnSpc>
              <a:spcBef>
                <a:spcPts val="774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100" spc="-1" strike="noStrike">
                <a:solidFill>
                  <a:srgbClr val="0033cc"/>
                </a:solidFill>
                <a:latin typeface="Verdana"/>
              </a:rPr>
              <a:t>Prohibición del comercio ileg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-445680">
              <a:lnSpc>
                <a:spcPct val="100000"/>
              </a:lnSpc>
              <a:spcBef>
                <a:spcPts val="774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100" spc="-1" strike="noStrike">
                <a:solidFill>
                  <a:srgbClr val="0033cc"/>
                </a:solidFill>
                <a:latin typeface="Verdana"/>
              </a:rPr>
              <a:t>Ediciones y publicaciones en materia comerci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92096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3400" spc="-1" strike="noStrike">
                <a:solidFill>
                  <a:srgbClr val="0033cc"/>
                </a:solidFill>
                <a:latin typeface="Verdana"/>
              </a:rPr>
              <a:t>I.C.C PUBLICACIONES</a:t>
            </a:r>
            <a:br>
              <a:rPr sz="3400"/>
            </a:b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Verdana"/>
              </a:rPr>
              <a:t>www.iccbooks.c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9360" y="2239560"/>
            <a:ext cx="11882520" cy="69534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" sz="2800" spc="-1" strike="noStrike">
                <a:solidFill>
                  <a:srgbClr val="0033cc"/>
                </a:solidFill>
                <a:latin typeface="Verdana"/>
              </a:rPr>
              <a:t>Incoterms® 20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" sz="2800" spc="-1" strike="noStrike">
                <a:solidFill>
                  <a:srgbClr val="0033cc"/>
                </a:solidFill>
                <a:latin typeface="Verdana"/>
              </a:rPr>
              <a:t>Icc Uniform Customs and Practice for Documentary Credits. UCP 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" sz="2800" spc="-1" strike="noStrike">
                <a:solidFill>
                  <a:srgbClr val="0033cc"/>
                </a:solidFill>
                <a:latin typeface="Verdana"/>
              </a:rPr>
              <a:t>ICC Model International Transfer of Technology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" sz="2800" spc="-1" strike="noStrike">
                <a:solidFill>
                  <a:srgbClr val="0033cc"/>
                </a:solidFill>
                <a:latin typeface="Verdana"/>
              </a:rPr>
              <a:t>Business Law in China. Trade, Investment, Operations and 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" sz="2800" spc="-1" strike="noStrike">
                <a:solidFill>
                  <a:srgbClr val="0033cc"/>
                </a:solidFill>
                <a:latin typeface="Verdana"/>
              </a:rPr>
              <a:t>ICC Model International Trademark Li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" sz="2800" spc="-1" strike="noStrike">
                <a:solidFill>
                  <a:srgbClr val="0033cc"/>
                </a:solidFill>
                <a:latin typeface="Verdana"/>
              </a:rPr>
              <a:t>ICC Uniform Rules for Bank-to-Bank Reimbursements under documentary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9720" y="0"/>
            <a:ext cx="11522160" cy="19843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ANTECEDENTES: 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GLOBALIZ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76440" y="2279520"/>
            <a:ext cx="525636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2440" y="7680240"/>
            <a:ext cx="1216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Verdana"/>
              </a:rPr>
              <a:t>Es una radio de marca americana, fabricada en China, con componentes japoneses, que un amigo alemán, a su llegada de Australia, me regaló en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© </a:t>
            </a: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( El Mercurio 23.09.06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640800" y="2855880"/>
            <a:ext cx="3160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Calma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A ver..., todo de nuev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84080" y="28558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ADU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5552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192096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2800" y="1920960"/>
            <a:ext cx="11530080" cy="67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300" spc="-1" strike="noStrike">
                <a:solidFill>
                  <a:srgbClr val="0033cc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300" spc="-1" strike="noStrike">
                <a:solidFill>
                  <a:srgbClr val="0033cc"/>
                </a:solidFill>
                <a:latin typeface="Verdana"/>
              </a:rPr>
              <a:t>Conjunto de términos que establecen las definiciones de los términos comerciales más comúnmente utilizados en el comercio internacional. Las partes de un contrato de compraventa internacional pueden recurrir a este conjunto de términos para establecer con claridad y precisión las obligaciones de cada una de ellas en ese contrato.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300" spc="-1" strike="noStrike">
                <a:solidFill>
                  <a:srgbClr val="0033cc"/>
                </a:solidFill>
                <a:latin typeface="Verdana"/>
              </a:rPr>
              <a:t>Los INCOTERMS fueron establecidos por primera vez en el año 1936.  Posteriormente, fueron modificados en diversas oportunidades, siendo la última versión INCOTERMS 2010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300" spc="-1" strike="noStrike">
                <a:solidFill>
                  <a:srgbClr val="0033cc"/>
                </a:solidFill>
                <a:latin typeface="Verdana"/>
              </a:rPr>
              <a:t>La actual versión INCOTERMS 2010 empezó a regir el 1º de enero del año 201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300" spc="-1" strike="noStrike">
                <a:solidFill>
                  <a:srgbClr val="0033cc"/>
                </a:solidFill>
                <a:latin typeface="Verdana"/>
              </a:rPr>
              <a:t>La modificación 2010 reduce las cláusulas de 13 a 1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300" spc="-1" strike="noStrike">
                <a:solidFill>
                  <a:srgbClr val="0033cc"/>
                </a:solidFill>
                <a:latin typeface="Verdana"/>
              </a:rPr>
              <a:t>Se eliminan  las cláusulas DAF, DES, DEQ, DDU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300" spc="-1" strike="noStrike">
                <a:solidFill>
                  <a:srgbClr val="0033cc"/>
                </a:solidFill>
                <a:latin typeface="Verdana"/>
              </a:rPr>
              <a:t>Se crean las cláusulas DAT, DAP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6800" y="263520"/>
            <a:ext cx="885204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Verdana"/>
              </a:rPr>
              <a:t>INCOTERMS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Verdana"/>
              </a:rPr>
              <a:t>PROPÓSITO Y CAMPO DE APLICACIÓN</a:t>
            </a:r>
            <a:r>
              <a:rPr b="0" lang="es-CL" sz="2800" spc="-1" strike="noStrike">
                <a:solidFill>
                  <a:srgbClr val="0033c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95360" y="696960"/>
            <a:ext cx="1152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Verdana"/>
              </a:rPr>
              <a:t>DIAGRAMA LOGISTICA COMPRAVENTA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23720" y="3216240"/>
            <a:ext cx="7201080" cy="1660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90880" y="7047000"/>
            <a:ext cx="145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PROD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PAÍ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ORI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96120" y="7053120"/>
            <a:ext cx="118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ADU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59120" y="7047000"/>
            <a:ext cx="155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TRANSPOR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LOCAL P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ORI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46440" y="7053120"/>
            <a:ext cx="155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PUERTO P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ORI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025400" y="705960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PUERTO P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6800" y="4079880"/>
            <a:ext cx="43200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20800" y="4295880"/>
            <a:ext cx="43200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"/>
          <p:cNvCxnSpPr>
            <a:stCxn id="225" idx="4"/>
            <a:endCxn id="220" idx="0"/>
          </p:cNvCxnSpPr>
          <p:nvPr/>
        </p:nvCxnSpPr>
        <p:spPr>
          <a:xfrm flipH="1" rot="16200000">
            <a:off x="2775600" y="3742920"/>
            <a:ext cx="2470680" cy="4150440"/>
          </a:xfrm>
          <a:prstGeom prst="bentConnector3">
            <a:avLst>
              <a:gd name="adj1" fmla="val 49927"/>
            </a:avLst>
          </a:prstGeom>
          <a:ln w="3492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1144440" y="4297320"/>
            <a:ext cx="43200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84440" y="4297320"/>
            <a:ext cx="4316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05520" y="4224240"/>
            <a:ext cx="4316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/>
          <p:nvPr/>
        </p:nvCxnSpPr>
        <p:spPr>
          <a:xfrm flipH="1" rot="16200000">
            <a:off x="5282280" y="4478040"/>
            <a:ext cx="2527920" cy="2451960"/>
          </a:xfrm>
          <a:prstGeom prst="bentConnector3">
            <a:avLst>
              <a:gd name="adj1" fmla="val 72610"/>
            </a:avLst>
          </a:prstGeom>
          <a:ln w="3492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8963280" y="7074000"/>
            <a:ext cx="155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TRANSPOR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LOCAL P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5320" y="4081320"/>
            <a:ext cx="432000" cy="28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"/>
          <p:cNvCxnSpPr>
            <a:stCxn id="232" idx="4"/>
            <a:endCxn id="231" idx="0"/>
          </p:cNvCxnSpPr>
          <p:nvPr/>
        </p:nvCxnSpPr>
        <p:spPr>
          <a:xfrm flipH="1" rot="16200000">
            <a:off x="6862680" y="4196520"/>
            <a:ext cx="2705760" cy="3050280"/>
          </a:xfrm>
          <a:prstGeom prst="bentConnector3">
            <a:avLst>
              <a:gd name="adj1" fmla="val 49926"/>
            </a:avLst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639720" y="4513320"/>
            <a:ext cx="0" cy="23749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27" idx="4"/>
            <a:endCxn id="221" idx="0"/>
          </p:cNvCxnSpPr>
          <p:nvPr/>
        </p:nvCxnSpPr>
        <p:spPr>
          <a:xfrm flipH="1" rot="16200000">
            <a:off x="816480" y="5127480"/>
            <a:ext cx="2463120" cy="1377000"/>
          </a:xfrm>
          <a:prstGeom prst="bentConnector3">
            <a:avLst>
              <a:gd name="adj1" fmla="val 49963"/>
            </a:avLst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10800720" y="7053120"/>
            <a:ext cx="150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COMPR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PAÍ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264440" y="4079880"/>
            <a:ext cx="4316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6"/>
            <a:endCxn id="236" idx="0"/>
          </p:cNvCxnSpPr>
          <p:nvPr/>
        </p:nvCxnSpPr>
        <p:spPr>
          <a:xfrm>
            <a:off x="7696080" y="4224240"/>
            <a:ext cx="3859920" cy="2829600"/>
          </a:xfrm>
          <a:prstGeom prst="bentConnector2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 flipV="1">
            <a:off x="6113520" y="4368600"/>
            <a:ext cx="0" cy="1439640"/>
          </a:xfrm>
          <a:prstGeom prst="line">
            <a:avLst/>
          </a:prstGeom>
          <a:ln w="34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13160" y="4008600"/>
            <a:ext cx="57780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"/>
          <p:cNvCxnSpPr>
            <a:stCxn id="240" idx="4"/>
            <a:endCxn id="222" idx="0"/>
          </p:cNvCxnSpPr>
          <p:nvPr/>
        </p:nvCxnSpPr>
        <p:spPr>
          <a:xfrm flipH="1" rot="16200000">
            <a:off x="2305800" y="4935240"/>
            <a:ext cx="2613600" cy="1623240"/>
          </a:xfrm>
          <a:prstGeom prst="bentConnector3">
            <a:avLst>
              <a:gd name="adj1" fmla="val 49993"/>
            </a:avLst>
          </a:prstGeom>
          <a:ln w="3492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928800" y="8904240"/>
            <a:ext cx="1087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REGISTRO DE PROPIEDAD INTELECTUAL Nº 204553 D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127944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3880" y="1704960"/>
            <a:ext cx="1186524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600" spc="-1" strike="noStrike">
                <a:solidFill>
                  <a:srgbClr val="0033cc"/>
                </a:solidFill>
                <a:latin typeface="Verdana"/>
              </a:rPr>
              <a:t>Las cláusulas INCOTERMS se incorporan en cada contrato en la cláusula del precio.  Se indican a continuación algunos ejempl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600" spc="-1" strike="noStrike">
                <a:solidFill>
                  <a:srgbClr val="0033cc"/>
                </a:solidFill>
                <a:latin typeface="Verdana"/>
              </a:rPr>
              <a:t>US$ 100 la unidad Ex Works Fábrica San Bernardo, Santiago, Ch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600" spc="-1" strike="noStrike">
                <a:solidFill>
                  <a:srgbClr val="0033cc"/>
                </a:solidFill>
                <a:latin typeface="Verdana"/>
              </a:rPr>
              <a:t>US$ 50 la caja FCA Colina, Santiago, Ch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600" spc="-1" strike="noStrike">
                <a:solidFill>
                  <a:srgbClr val="0033cc"/>
                </a:solidFill>
                <a:latin typeface="Verdana"/>
              </a:rPr>
              <a:t>US$ 15 la caja FAS Valparaíso, Ch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600" spc="-1" strike="noStrike">
                <a:solidFill>
                  <a:srgbClr val="0033cc"/>
                </a:solidFill>
                <a:latin typeface="Verdana"/>
              </a:rPr>
              <a:t>US$ 0.95 la libra FOB Antofagasta, Ch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600" spc="-1" strike="noStrike">
                <a:solidFill>
                  <a:srgbClr val="0033cc"/>
                </a:solidFill>
                <a:latin typeface="Verdana"/>
              </a:rPr>
              <a:t>US$ 750 la tonelada métrica CFR Nueva Y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600" spc="-1" strike="noStrike">
                <a:solidFill>
                  <a:srgbClr val="0033cc"/>
                </a:solidFill>
                <a:latin typeface="Verdana"/>
              </a:rPr>
              <a:t>US$ 500 la tonelada métrica CIF Ámsterda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6800" y="479520"/>
            <a:ext cx="885204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Verdana"/>
              </a:rPr>
              <a:t>EJEMPLOS DE CLAUSULAS INCO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127944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68440" y="263520"/>
            <a:ext cx="110170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Verdana"/>
              </a:rPr>
              <a:t>ESTRUCTURA INCOTERMS    </a:t>
            </a:r>
            <a:r>
              <a:rPr b="1" lang="es-CL" sz="2400" spc="-1" strike="noStrike">
                <a:solidFill>
                  <a:srgbClr val="0033cc"/>
                </a:solidFill>
                <a:latin typeface="Verdana"/>
              </a:rPr>
              <a:t>(TRADI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133720" y="2387520"/>
          <a:ext cx="8534160" cy="712620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s-CL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GRU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s-CL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TÉRMI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CL" sz="2800" spc="-1" strike="noStrike">
                          <a:solidFill>
                            <a:srgbClr val="0033cc"/>
                          </a:solidFill>
                          <a:latin typeface="Verdana"/>
                          <a:ea typeface="Times New Roman"/>
                        </a:rPr>
                        <a:t>EXW</a:t>
                      </a: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CL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F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CL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F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F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CF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C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C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C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DA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DE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D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DD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3800" spc="-1" strike="noStrike">
                <a:solidFill>
                  <a:srgbClr val="0033cc"/>
                </a:solidFill>
                <a:latin typeface="Verdana"/>
              </a:rPr>
              <a:t>ESTRUCTURA INCOTERMS 20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55720" y="2239920"/>
            <a:ext cx="11306160" cy="73612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400" spc="-1" strike="noStrike" u="sng">
                <a:solidFill>
                  <a:srgbClr val="0033cc"/>
                </a:solidFill>
                <a:uFillTx/>
                <a:latin typeface="Verdana"/>
              </a:rPr>
              <a:t>Reglas para cualquier modo de transpor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EX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F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C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D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D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3800" spc="-1" strike="noStrike">
                <a:solidFill>
                  <a:srgbClr val="0033cc"/>
                </a:solidFill>
                <a:latin typeface="Verdana"/>
              </a:rPr>
              <a:t>ESTRUCTURA INCOTERMS 20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55720" y="2239920"/>
            <a:ext cx="11306160" cy="73612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400" spc="-1" strike="noStrike" u="sng">
                <a:solidFill>
                  <a:srgbClr val="0033cc"/>
                </a:solidFill>
                <a:uFillTx/>
                <a:latin typeface="Verdana"/>
              </a:rPr>
              <a:t>Reglas para transporte marítimo y vías navegab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F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F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C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C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127944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96800" y="479520"/>
            <a:ext cx="88520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Verdana"/>
              </a:rPr>
              <a:t>OBLIGACIONES DE LAS PAR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52440" y="1487520"/>
          <a:ext cx="11953800" cy="7808760"/>
        </p:xfrm>
        <a:graphic>
          <a:graphicData uri="http://schemas.openxmlformats.org/drawingml/2006/table">
            <a:tbl>
              <a:tblPr/>
              <a:tblGrid>
                <a:gridCol w="863640"/>
                <a:gridCol w="5040360"/>
                <a:gridCol w="792000"/>
                <a:gridCol w="5257800"/>
              </a:tblGrid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s-ES_tradnl" sz="2000" spc="-1" strike="noStrike" u="sng">
                          <a:solidFill>
                            <a:srgbClr val="0033cc"/>
                          </a:solidFill>
                          <a:uFillTx/>
                          <a:latin typeface="Verdana"/>
                        </a:rPr>
                        <a:t>El Vendedor debe...</a:t>
                      </a:r>
                      <a:r>
                        <a:rPr b="1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s-ES_tradnl" sz="2000" spc="-1" strike="noStrike" u="sng">
                          <a:solidFill>
                            <a:srgbClr val="0033cc"/>
                          </a:solidFill>
                          <a:uFillTx/>
                          <a:latin typeface="Verdana"/>
                        </a:rPr>
                        <a:t>El Comprador debe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Obligaciones generales del 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Obligaciones generales del comprado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Licencias, autorizaciones, acreditaciones de seguridad y otras formalidad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Licencias, autorizaciones, acreditaciones de seguridad y otras formalidad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Contratos de transporte y segur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Contratos de transporte y segur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Entreg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Recep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Transmisión de riesg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Transmisión de riesg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Reparto de cos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Reparto de cos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Notificaciones al comprado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Notificaciones al vendedo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Documento de entreg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Prueba de la entreg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Comprobación – embalaje – marc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Inspección de la mercader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yuda con la información y costos relaciona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yuda con la información y costos relaciona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Verdana"/>
              </a:rPr>
              <a:t>EXPLICACIONES Y GRAF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96440" y="1847880"/>
            <a:ext cx="11671560" cy="7208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Las explicaciones y gráficos que siguen, constituyen una creación exclusiva del profesor José Luis López Blan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Se utilizan, solamente para efectos ilustrativos y pedagóg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No constituyen una redacción formal de las normas INCOTE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Las reglas INCOTERMS 2010 contienen en cada caso normas y precisiones más completas que las menciones explicativas de cada grá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Estas explicaciones no deben utilizarse en ningún contrato, ni documentación leg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2855880"/>
            <a:ext cx="128016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BAJO EL TERMINO</a:t>
            </a:r>
            <a:r>
              <a:rPr b="1" lang="es-CL" sz="2300" spc="-1" strike="noStrike">
                <a:solidFill>
                  <a:srgbClr val="33cccc"/>
                </a:solidFill>
                <a:latin typeface="Verdana"/>
              </a:rPr>
              <a:t> </a:t>
            </a:r>
            <a:r>
              <a:rPr b="1" lang="es-CL" sz="4000" spc="-1" strike="noStrike">
                <a:solidFill>
                  <a:srgbClr val="ff5050"/>
                </a:solidFill>
                <a:latin typeface="Verdana"/>
              </a:rPr>
              <a:t>EXW</a:t>
            </a:r>
            <a:r>
              <a:rPr b="1" lang="es-CL" sz="23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EL VENDEDOR MINIMIZA SU RIESGO AL HAC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DISPONIBLES LAS MERCADERIAS EN SU PROPIO ESTABLECIMIENT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95360" y="696960"/>
            <a:ext cx="1152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5700" spc="-1" strike="noStrike">
                <a:solidFill>
                  <a:srgbClr val="0033cc"/>
                </a:solidFill>
                <a:latin typeface="Verdana"/>
              </a:rPr>
              <a:t>GRUPO  E</a:t>
            </a:r>
            <a:r>
              <a:rPr b="1" lang="es-CL" sz="57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5700"/>
            </a:b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9720" y="4656240"/>
            <a:ext cx="511164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EX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EX</a:t>
            </a:r>
            <a:r>
              <a:rPr b="1" lang="es-MX" sz="34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W</a:t>
            </a: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or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36680" y="192240"/>
            <a:ext cx="61801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EXW 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(... INDICANDO LUGAR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0033cc"/>
                </a:solidFill>
                <a:latin typeface="Verdana"/>
              </a:rPr>
              <a:t>EX Wor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337520" y="5521320"/>
            <a:ext cx="5464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Verdana"/>
              </a:rPr>
              <a:t>LOS  COSTOS SE TRANSFIEREN DEL VENDEDOR AL     COMPRADOR  CUANDO LAS  MERCADERIAS     SE   PONEN     A DISPOSICIÓN DEL COMPRADOR EN EL ESTABLECIMIENTO DEL VENDED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37520" y="6999120"/>
            <a:ext cx="5464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LOS RIESGOS SE TRANSFIEREN DEL VENDEDOR AL  COMPRADOR  CUANDO LAS MERCADERIAS  SE  PONEN  A  DISPOSICIÓN DEL COMPRADOR EN EL ESTABL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DEL VENDED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37520" y="8413920"/>
            <a:ext cx="5248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  TRANSPORTE   DEBE  SER  CONTRATADO POR   EL COMPRADOR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23720" y="1920960"/>
            <a:ext cx="7201080" cy="16603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0018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>
              <a:alpha val="72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>
              <a:alpha val="72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337520" y="4079880"/>
            <a:ext cx="5464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ÓA PONIÉNDOLA A DISPOSICIÓN DEL COMPRADOR EN EL PUNTO ACODADO DE SU ESTABL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EFECTOS DE LA GLOB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 fontScale="91000"/>
          </a:bodyPr>
          <a:p>
            <a:pPr marL="436320" indent="-4363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Verdana"/>
              </a:rPr>
              <a:t>Aumento de exportaciones y de impor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320" indent="-4363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Verdana"/>
              </a:rPr>
              <a:t>Aumento de inversión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320" indent="-4363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Verdana"/>
              </a:rPr>
              <a:t>Aumento de contratos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46080" indent="-363960">
              <a:lnSpc>
                <a:spcPct val="90000"/>
              </a:lnSpc>
              <a:spcBef>
                <a:spcPts val="476"/>
              </a:spcBef>
              <a:buClr>
                <a:srgbClr val="0033cc"/>
              </a:buClr>
              <a:buFont typeface="Verdana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1900" spc="-1" strike="noStrike">
                <a:solidFill>
                  <a:srgbClr val="0033cc"/>
                </a:solidFill>
                <a:latin typeface="Verdana"/>
              </a:rPr>
              <a:t>International joint vent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46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46080" indent="-363960">
              <a:lnSpc>
                <a:spcPct val="90000"/>
              </a:lnSpc>
              <a:spcBef>
                <a:spcPts val="476"/>
              </a:spcBef>
              <a:buClr>
                <a:srgbClr val="0033cc"/>
              </a:buClr>
              <a:buFont typeface="Verdana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1900" spc="-1" strike="noStrike">
                <a:solidFill>
                  <a:srgbClr val="0033cc"/>
                </a:solidFill>
                <a:latin typeface="Verdana"/>
              </a:rPr>
              <a:t>Convenios de colaboración empresari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46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46080" indent="-363960">
              <a:lnSpc>
                <a:spcPct val="90000"/>
              </a:lnSpc>
              <a:spcBef>
                <a:spcPts val="476"/>
              </a:spcBef>
              <a:buClr>
                <a:srgbClr val="0033cc"/>
              </a:buClr>
              <a:buFont typeface="Verdana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1900" spc="-1" strike="noStrike">
                <a:solidFill>
                  <a:srgbClr val="0033cc"/>
                </a:solidFill>
                <a:latin typeface="Verdana"/>
              </a:rPr>
              <a:t>Financiamiento internacio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46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46080" indent="-363960">
              <a:lnSpc>
                <a:spcPct val="90000"/>
              </a:lnSpc>
              <a:spcBef>
                <a:spcPts val="476"/>
              </a:spcBef>
              <a:buClr>
                <a:srgbClr val="0033cc"/>
              </a:buClr>
              <a:buFont typeface="Verdana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1900" spc="-1" strike="noStrike">
                <a:solidFill>
                  <a:srgbClr val="0033cc"/>
                </a:solidFill>
                <a:latin typeface="Verdana"/>
              </a:rPr>
              <a:t>Seguros internaciona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3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320" indent="-4363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Verdana"/>
              </a:rPr>
              <a:t>Sometimiento a legislación y jurisdicción extranj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320" indent="-4363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Verdana"/>
              </a:rPr>
              <a:t>Efectos globales de situacione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3287880"/>
            <a:ext cx="135237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000" spc="-1" strike="noStrike">
                <a:solidFill>
                  <a:srgbClr val="0033cc"/>
                </a:solidFill>
                <a:latin typeface="Verdana"/>
              </a:rPr>
              <a:t>BAJO LOS  TERMINOS</a:t>
            </a:r>
            <a:r>
              <a:rPr b="1" lang="es-CL" sz="2000" spc="-1" strike="noStrike">
                <a:solidFill>
                  <a:srgbClr val="777777"/>
                </a:solidFill>
                <a:latin typeface="Verdana"/>
              </a:rPr>
              <a:t> </a:t>
            </a:r>
            <a:r>
              <a:rPr b="1" lang="es-CL" sz="20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ff5050"/>
                </a:solidFill>
                <a:latin typeface="Verdana"/>
              </a:rPr>
              <a:t>F</a:t>
            </a:r>
            <a:r>
              <a:rPr b="1" lang="es-CL" sz="2000" spc="-1" strike="noStrike">
                <a:solidFill>
                  <a:srgbClr val="777777"/>
                </a:solidFill>
                <a:latin typeface="Verdana"/>
              </a:rPr>
              <a:t> </a:t>
            </a:r>
            <a:r>
              <a:rPr b="1" lang="es-CL" sz="2000" spc="-1" strike="noStrike">
                <a:solidFill>
                  <a:srgbClr val="0033cc"/>
                </a:solidFill>
                <a:latin typeface="Verdana"/>
              </a:rPr>
              <a:t>EL VENDEDOR CONTRATA LOS TRANSPORTES INTER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000" spc="-1" strike="noStrike">
                <a:solidFill>
                  <a:srgbClr val="0033cc"/>
                </a:solidFill>
                <a:latin typeface="Verdana"/>
              </a:rPr>
              <a:t>HASTA LUGAR DE EMBARQUE EN EL PAIS DE EXPOR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95360" y="696960"/>
            <a:ext cx="1152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5700" spc="-1" strike="noStrike">
                <a:solidFill>
                  <a:srgbClr val="0033cc"/>
                </a:solidFill>
                <a:latin typeface="Verdana"/>
              </a:rPr>
              <a:t>GRUPO  F</a:t>
            </a:r>
            <a:r>
              <a:rPr b="1" lang="es-CL" sz="5700" spc="-1" strike="noStrike">
                <a:solidFill>
                  <a:srgbClr val="0033cc"/>
                </a:solidFill>
                <a:latin typeface="Verdana"/>
              </a:rPr>
              <a:t>	</a:t>
            </a:r>
            <a:br>
              <a:rPr sz="5700"/>
            </a:b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6800" y="5664240"/>
            <a:ext cx="504036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F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Free  CArri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122960" y="5675400"/>
            <a:ext cx="511200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F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Free  Alongside Sh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23720" y="7691400"/>
            <a:ext cx="511200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FO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Free  On Boar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08240"/>
            <a:ext cx="128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EL TRANSPORTE PRINCIPAL NO ES DE CARGO DEL VENDE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36680" y="192240"/>
            <a:ext cx="64213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FCA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 (... INDICANDO LUGAR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0033cc"/>
                </a:solidFill>
                <a:latin typeface="Verdana"/>
              </a:rPr>
              <a:t>Free Carri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7553160" y="5376960"/>
            <a:ext cx="5248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    COMPRADOR  CUANDO  LAS  MERCADERIAS HAN SIDO ENTREGADAS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AL TRANSPORTISTA EN EL LUGAR DE  EMBARQUE CONVEN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553160" y="6816600"/>
            <a:ext cx="5631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  RIESGOS  SE  TRANSFIEREN    DEL VENDEDOR   AL     COMPRADOR   CUANDO  LAS MERCADERIAS HAN SIDO ENTREGADAS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AL  TRANSPORTISTA   EN  EL  LUGAR  DE EMBARQUE CONVEN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53160" y="8366040"/>
            <a:ext cx="5248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Verdana"/>
              </a:rPr>
              <a:t>EL   TRANSPORTE   DEBE  SER  CONTRATADO POR   EL  COMPRADOR,  O  POR CUENTA DEL </a:t>
            </a:r>
            <a:r>
              <a:rPr b="1" lang="es-MX" sz="1200" spc="-1" strike="noStrike">
                <a:solidFill>
                  <a:srgbClr val="000099"/>
                </a:solidFill>
                <a:latin typeface="Verdana"/>
              </a:rPr>
              <a:t>COMPRAD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57644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553160" y="4079880"/>
            <a:ext cx="5248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L VENDEDOR ENTREGA LA MERCADERIA AL PORTEADOR EN EL PUNTO ACORDADO, EN EL PAÍS DE OR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79520" y="6888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1900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6208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50480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4464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187720" y="6888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2720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870280" y="6888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20976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4920" y="68882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552840" y="6888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84192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18464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52772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6720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10280" y="6888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54976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87376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1648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559560" y="688824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616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0200" y="4008600"/>
            <a:ext cx="466560" cy="607680"/>
          </a:xfrm>
          <a:custGeom>
            <a:avLst/>
            <a:gdLst>
              <a:gd name="textAreaLeft" fmla="*/ 0 w 466560"/>
              <a:gd name="textAreaRight" fmla="*/ 466920 w 4665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7004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1276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45584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795320" y="4008600"/>
            <a:ext cx="470160" cy="607680"/>
          </a:xfrm>
          <a:custGeom>
            <a:avLst/>
            <a:gdLst>
              <a:gd name="textAreaLeft" fmla="*/ 0 w 470160"/>
              <a:gd name="textAreaRight" fmla="*/ 470520 w 470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38400" y="4008600"/>
            <a:ext cx="466560" cy="607680"/>
          </a:xfrm>
          <a:custGeom>
            <a:avLst/>
            <a:gdLst>
              <a:gd name="textAreaLeft" fmla="*/ 0 w 466560"/>
              <a:gd name="textAreaRight" fmla="*/ 466920 w 4665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47824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20960" y="4008600"/>
            <a:ext cx="466920" cy="607680"/>
          </a:xfrm>
          <a:custGeom>
            <a:avLst/>
            <a:gdLst>
              <a:gd name="textAreaLeft" fmla="*/ 0 w 466920"/>
              <a:gd name="textAreaRight" fmla="*/ 467280 w 46692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16080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5600" y="4008600"/>
            <a:ext cx="298440" cy="607680"/>
          </a:xfrm>
          <a:custGeom>
            <a:avLst/>
            <a:gdLst>
              <a:gd name="textAreaLeft" fmla="*/ 0 w 298440"/>
              <a:gd name="textAreaRight" fmla="*/ 298800 w 29844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503520" y="4008600"/>
            <a:ext cx="466920" cy="607680"/>
          </a:xfrm>
          <a:custGeom>
            <a:avLst/>
            <a:gdLst>
              <a:gd name="textAreaLeft" fmla="*/ 0 w 466920"/>
              <a:gd name="textAreaRight" fmla="*/ 467280 w 46692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79260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135320" y="4008600"/>
            <a:ext cx="470160" cy="607680"/>
          </a:xfrm>
          <a:custGeom>
            <a:avLst/>
            <a:gdLst>
              <a:gd name="textAreaLeft" fmla="*/ 0 w 470160"/>
              <a:gd name="textAreaRight" fmla="*/ 470520 w 470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47840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81824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160960" y="4008600"/>
            <a:ext cx="466560" cy="607680"/>
          </a:xfrm>
          <a:custGeom>
            <a:avLst/>
            <a:gdLst>
              <a:gd name="textAreaLeft" fmla="*/ 0 w 466560"/>
              <a:gd name="textAreaRight" fmla="*/ 466920 w 4665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50080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824440" y="4008600"/>
            <a:ext cx="470160" cy="607680"/>
          </a:xfrm>
          <a:custGeom>
            <a:avLst/>
            <a:gdLst>
              <a:gd name="textAreaLeft" fmla="*/ 0 w 470160"/>
              <a:gd name="textAreaRight" fmla="*/ 470520 w 470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6752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510240" y="4008600"/>
            <a:ext cx="465120" cy="607680"/>
          </a:xfrm>
          <a:custGeom>
            <a:avLst/>
            <a:gdLst>
              <a:gd name="textAreaLeft" fmla="*/ 0 w 465120"/>
              <a:gd name="textAreaRight" fmla="*/ 465480 w 46512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84684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30200" y="53769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7004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11276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45584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795320" y="53769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38400" y="53769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47824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820960" y="537696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16080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55600" y="537696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03520" y="537696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79260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135320" y="53769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47840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81824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160960" y="53769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0080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24440" y="53769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6752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510240" y="537696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84684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4366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FAS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 (... INDICANDO PUERTO DE EMBARQUE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0033cc"/>
                </a:solidFill>
                <a:latin typeface="Verdana"/>
              </a:rPr>
              <a:t>Free Alongside Shi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7480440" y="5592600"/>
            <a:ext cx="532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  COSTOS    SE  TRANSFIEREN   DEL   VENDEDOR  AL     COMPRADOR  CUANDO LAS MERCADERIAS HAN SIDO PUESTAS AL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COSTADO DEL BUQUE EN EL PUERTO DE   EMBARQUE CONVEN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480440" y="6854760"/>
            <a:ext cx="5321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RIESGOS  SE TRANSFIEREN DEL VENDEDOR AL COMPRADOR  CUANDO LAS  MERCADERIAS HAN SIDO PUESTAS AL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COSTADO  DEL BUQUE   EN EL PUERTO DE  EMBARQUE CONVEN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480440" y="8265960"/>
            <a:ext cx="532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  TRANSPORTE   DEBE  SER  CONTRA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POR    EL  COMPRA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655720" y="2057400"/>
            <a:ext cx="0" cy="6840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480440" y="4079880"/>
            <a:ext cx="532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L VENDEDOR ENTREGA LA MERCADSERÍA A UN COSTADO DEL BUQUE DESIGNADO POR EL COMPRADOR EN EL PUNTO DE CARGA CONVEN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86448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47840" y="6888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8732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13040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47312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81296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155680" y="68882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9552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838600" y="6888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17808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521160" y="6888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80988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15296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49568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83552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178600" y="6888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51808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84208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18480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527880" y="688824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72880" y="6888240"/>
            <a:ext cx="298800" cy="608040"/>
          </a:xfrm>
          <a:custGeom>
            <a:avLst/>
            <a:gdLst>
              <a:gd name="textAreaLeft" fmla="*/ 0 w 298800"/>
              <a:gd name="textAreaRight" fmla="*/ 299160 w 298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1848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01480" y="56642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132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8440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52712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86696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209680" y="56642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54952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92600" y="5664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3208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575160" y="5664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863880" y="5664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696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549680" y="5664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8952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232240" y="56642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57208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89608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23880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581880" y="566424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26880" y="56642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91848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01480" y="42242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4132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18440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52712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86696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209680" y="42242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4952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892600" y="4224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3208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575160" y="4224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863880" y="4224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20696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49680" y="4224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8952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232240" y="42242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7208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89608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23880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581880" y="422424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6880" y="42242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4366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FOB 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(... INDICANDO PUERTO DE EMBARQUE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0033cc"/>
                </a:solidFill>
                <a:latin typeface="Verdana"/>
              </a:rPr>
              <a:t>Free On Boar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7337520" y="5630760"/>
            <a:ext cx="5464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    COSTOS      SE      TRANSFIEREN   DEL   VENDEDOR      AL     COMPRADOR CUANDO  LAS      MERCADERIAS HAN SIDO PUESTAS A BORDO DEL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BUQUE    EN    EL    PUERTO   DE  EMBARQUE CONVEN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337520" y="6999120"/>
            <a:ext cx="5464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   RIESGOS    SE     TRANSFIEREN      DEL VENDEDOR     AL    COMPRADOR      CUANDO  LAS     MERCADERIAS HAN SIDO PUESTAS A BORDO DEL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BUQUE EN  EL    PUERTO   DE  EMBARQUE   CONVEN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337520" y="8265960"/>
            <a:ext cx="525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  TRANSPORTE   DEBE  SER  CONTRATADO POR    EL  COMPRA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30660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6116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337520" y="4008600"/>
            <a:ext cx="5464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PONIENDOLA A BORDO DEL BUQUE DESIGNADO POR EL COMPRADOR EN EL PUERTO DE EMBARQUE CONVEN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2784600"/>
            <a:ext cx="1352376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BAJO LOS  TERMINOS</a:t>
            </a: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4000" spc="-1" strike="noStrike">
                <a:solidFill>
                  <a:srgbClr val="ff5050"/>
                </a:solidFill>
                <a:latin typeface="Arial"/>
              </a:rPr>
              <a:t>C</a:t>
            </a: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EL VENDEDOR CONTRATA Y PAGA EL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PRINCIPAL PERO SIN ASUMIR EL RIESGO DEL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95360" y="696960"/>
            <a:ext cx="1152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5700" spc="-1" strike="noStrike">
                <a:solidFill>
                  <a:srgbClr val="0033cc"/>
                </a:solidFill>
                <a:latin typeface="Verdana"/>
              </a:rPr>
              <a:t>GRUPO  C</a:t>
            </a:r>
            <a:r>
              <a:rPr b="1" lang="es-CL" sz="5700" spc="-1" strike="noStrike">
                <a:solidFill>
                  <a:srgbClr val="777777"/>
                </a:solidFill>
                <a:latin typeface="Verdana"/>
              </a:rPr>
              <a:t>	</a:t>
            </a:r>
            <a:br>
              <a:rPr sz="5700"/>
            </a:b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23720" y="5664240"/>
            <a:ext cx="511344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CF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Cost and Fre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969160" y="5675400"/>
            <a:ext cx="626580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CI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Cost Insurance and Fre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23720" y="7691400"/>
            <a:ext cx="511200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CP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Carriage Paid 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2208240"/>
            <a:ext cx="128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Verdana"/>
              </a:rPr>
              <a:t>EL TRANSPORTE PRINCIPAL  ES DE CARGO DEL VENDE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969160" y="7680240"/>
            <a:ext cx="626580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C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Carriage, Insurance Paid 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4366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CFR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 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0033cc"/>
                </a:solidFill>
                <a:latin typeface="Verdana"/>
              </a:rPr>
              <a:t>Cost and Fre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7408800" y="5415120"/>
            <a:ext cx="5113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    COMPRADOR CUANDO  LAS MERCADERIAS LLEGAN A PUERTO DE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STINO, ASUMIENDO EL COMPRADOR LOS COSTOS CORRESPONDIENTES SEGÚN EL CONTRATO DE COMPRAV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408800" y="6926400"/>
            <a:ext cx="5392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 RIESGOS SE TRANSFIEREN  DEL VENDEDOR AL    COMPRADOR CUANDO  LAS MERCADERIAS HAN SIDO PUESTAS A BORDO DEL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BUQUE  EN  EL  PUERTO   DE  EMBARQUE   CONVEN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408800" y="8294760"/>
            <a:ext cx="5392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  TRANSPORTE   DEBE  SER  CONTRA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68152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16080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45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408800" y="4008600"/>
            <a:ext cx="5392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L VENDEDOR ENTREGA LA MERCADERIA PONIENDOLA A BORDO DEL BUQUE EN EL PUERTO DE EMBAR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4366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CIF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 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0033cc"/>
                </a:solidFill>
                <a:latin typeface="Verdana"/>
              </a:rPr>
              <a:t>Cost Insurance and Fre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7553160" y="5376960"/>
            <a:ext cx="5248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    COMPRADOR CUANDO LAS MERCADERIAS LLEGAN A PUERTO DE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STINO, ASUMIENDO EL COMPRADOR LOS COSTOS CORRESPONDIENTES SEGÚN EL CONTRATO DE COMPRAV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669080" y="6854760"/>
            <a:ext cx="4853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RIESGOS SE  TRANSFIEREN  DEL VENDEDOR     AL    COMPRADOR  CUANDO  LAS  MERCADERIAS HAN SIDO PUESTAS A BORDO DEL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BUQUE    EN    EL    PUERTO   DE EMBAR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696080" y="8265960"/>
            <a:ext cx="5105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Verdana"/>
              </a:rPr>
              <a:t>EL    TRANSPORTE  Y  SEGURO   DEBE</a:t>
            </a:r>
            <a:r>
              <a:rPr b="1" lang="es-MX" sz="1200" spc="-1" strike="noStrike">
                <a:solidFill>
                  <a:srgbClr val="000099"/>
                </a:solidFill>
                <a:latin typeface="Verdana"/>
              </a:rPr>
              <a:t>N</a:t>
            </a:r>
            <a:r>
              <a:rPr b="1" lang="es-ES" sz="1200" spc="-1" strike="noStrike">
                <a:solidFill>
                  <a:srgbClr val="000099"/>
                </a:solidFill>
                <a:latin typeface="Verdana"/>
              </a:rPr>
              <a:t>   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Verdana"/>
              </a:rPr>
              <a:t>CONTRATADO 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8152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16080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97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76116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553160" y="4152960"/>
            <a:ext cx="524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PONIENDOLA A BORDO DEL BUQUE EN EL PUERTO DE EMBAR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4366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CPT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 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0033cc"/>
                </a:solidFill>
                <a:latin typeface="Verdana"/>
              </a:rPr>
              <a:t>Carriage Paid 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7480440" y="5376960"/>
            <a:ext cx="5321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    COMPRADOR CUANDO LAS MERCADERIAS LLEGAN A PUERTO DE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STINO, ASUMIENDO EL COMPRADOR L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COSTOS CORRESPONDIENTES SEGÚN EL CONTRATO DE COMPRAV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480440" y="6926400"/>
            <a:ext cx="532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RIESGOS SE  TRANSFIEREN  DEL VENDEDOR  AL   COMPRADOR     CUANDO LAS    MERCADERIAS  SE ENTREGRAN AL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PRIMER TRANSPORTISTA PARA QUE LAS TRASLADE A DESTI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480440" y="8194680"/>
            <a:ext cx="532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TRANSPORTE DEBE SER CONTRATADO 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68152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6080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76116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480440" y="4152960"/>
            <a:ext cx="5321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PONIENDOLA A BORDO DEL BUQUE EN EL PUERTO DE EMBAR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07172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43208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4366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CIP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 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0033cc"/>
                </a:solidFill>
                <a:latin typeface="Verdana"/>
              </a:rPr>
              <a:t>Carriage, Insurance Paid 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7342200" y="5376960"/>
            <a:ext cx="5459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    COMPRADOR CUANDO LAS MERCADERIAS LLEGAN A PUERTO DE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STINO, ASUMIENDO EL COMPRADOR LOS COSTOS CORRESPONDIENTES SEGÚN EL CONTRATO DE COMPRAV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440480" y="6816600"/>
            <a:ext cx="5361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 RIESGOS  SE  TRANSFIEREN DEL VENDEDOR AL COMPRADOR  CUANDO  LAS     MERCADERIAS  SE ENTREGRAN AL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PRIMER TRANSPORTISTA PARA QUE L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TRASLADE A DESTI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480440" y="8194680"/>
            <a:ext cx="532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TRANSPORTE DEBE SER CONTRATADO 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68152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37644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12800" y="4368960"/>
            <a:ext cx="466560" cy="607680"/>
          </a:xfrm>
          <a:custGeom>
            <a:avLst/>
            <a:gdLst>
              <a:gd name="textAreaLeft" fmla="*/ 0 w 466560"/>
              <a:gd name="textAreaRight" fmla="*/ 466920 w 4665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00080" y="4368960"/>
            <a:ext cx="612720" cy="607680"/>
          </a:xfrm>
          <a:custGeom>
            <a:avLst/>
            <a:gdLst>
              <a:gd name="textAreaLeft" fmla="*/ 0 w 612720"/>
              <a:gd name="textAreaRight" fmla="*/ 613080 w 61272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432080" y="4368960"/>
            <a:ext cx="541080" cy="607680"/>
          </a:xfrm>
          <a:custGeom>
            <a:avLst/>
            <a:gdLst>
              <a:gd name="textAreaLeft" fmla="*/ 0 w 541080"/>
              <a:gd name="textAreaRight" fmla="*/ 541440 w 54108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863720" y="436896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222640" y="436896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583000" y="4368960"/>
            <a:ext cx="466560" cy="607680"/>
          </a:xfrm>
          <a:custGeom>
            <a:avLst/>
            <a:gdLst>
              <a:gd name="textAreaLeft" fmla="*/ 0 w 466560"/>
              <a:gd name="textAreaRight" fmla="*/ 466920 w 4665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943360" y="436896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303720" y="4368960"/>
            <a:ext cx="466560" cy="607680"/>
          </a:xfrm>
          <a:custGeom>
            <a:avLst/>
            <a:gdLst>
              <a:gd name="textAreaLeft" fmla="*/ 0 w 466560"/>
              <a:gd name="textAreaRight" fmla="*/ 466920 w 4665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664080" y="436896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6800" y="4368960"/>
            <a:ext cx="298440" cy="607680"/>
          </a:xfrm>
          <a:custGeom>
            <a:avLst/>
            <a:gdLst>
              <a:gd name="textAreaLeft" fmla="*/ 0 w 298440"/>
              <a:gd name="textAreaRight" fmla="*/ 298800 w 29844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022640" y="4368960"/>
            <a:ext cx="466920" cy="607680"/>
          </a:xfrm>
          <a:custGeom>
            <a:avLst/>
            <a:gdLst>
              <a:gd name="textAreaLeft" fmla="*/ 0 w 466920"/>
              <a:gd name="textAreaRight" fmla="*/ 467280 w 46692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743360" y="4368960"/>
            <a:ext cx="470160" cy="607680"/>
          </a:xfrm>
          <a:custGeom>
            <a:avLst/>
            <a:gdLst>
              <a:gd name="textAreaLeft" fmla="*/ 0 w 470160"/>
              <a:gd name="textAreaRight" fmla="*/ 470520 w 470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383000" y="4368960"/>
            <a:ext cx="470160" cy="607680"/>
          </a:xfrm>
          <a:custGeom>
            <a:avLst/>
            <a:gdLst>
              <a:gd name="textAreaLeft" fmla="*/ 0 w 470160"/>
              <a:gd name="textAreaRight" fmla="*/ 470520 w 470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103720" y="4368960"/>
            <a:ext cx="470160" cy="607680"/>
          </a:xfrm>
          <a:custGeom>
            <a:avLst/>
            <a:gdLst>
              <a:gd name="textAreaLeft" fmla="*/ 0 w 470160"/>
              <a:gd name="textAreaRight" fmla="*/ 470520 w 470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464080" y="4368960"/>
            <a:ext cx="470160" cy="607680"/>
          </a:xfrm>
          <a:custGeom>
            <a:avLst/>
            <a:gdLst>
              <a:gd name="textAreaLeft" fmla="*/ 0 w 470160"/>
              <a:gd name="textAreaRight" fmla="*/ 470520 w 470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824440" y="4368960"/>
            <a:ext cx="577800" cy="607680"/>
          </a:xfrm>
          <a:custGeom>
            <a:avLst/>
            <a:gdLst>
              <a:gd name="textAreaLeft" fmla="*/ 0 w 577800"/>
              <a:gd name="textAreaRight" fmla="*/ 578160 w 577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184800" y="4368960"/>
            <a:ext cx="470160" cy="607680"/>
          </a:xfrm>
          <a:custGeom>
            <a:avLst/>
            <a:gdLst>
              <a:gd name="textAreaLeft" fmla="*/ 0 w 470160"/>
              <a:gd name="textAreaRight" fmla="*/ 470520 w 470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545160" y="4368960"/>
            <a:ext cx="470160" cy="607680"/>
          </a:xfrm>
          <a:custGeom>
            <a:avLst/>
            <a:gdLst>
              <a:gd name="textAreaLeft" fmla="*/ 0 w 470160"/>
              <a:gd name="textAreaRight" fmla="*/ 470520 w 470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7337520" y="4295880"/>
            <a:ext cx="5464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PONIENDOLA A BORDO DEL BUQUE EN EL PUERTO DE EMBAR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0" y="1992240"/>
            <a:ext cx="13169880" cy="16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BAJO  LOS   TERMINOS</a:t>
            </a:r>
            <a:r>
              <a:rPr b="1" lang="es-CL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CL" sz="23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1" lang="es-CL" sz="4000" spc="-1" strike="noStrike">
                <a:solidFill>
                  <a:srgbClr val="ff5050"/>
                </a:solidFill>
                <a:latin typeface="Verdana"/>
              </a:rPr>
              <a:t>D </a:t>
            </a:r>
            <a:r>
              <a:rPr b="1" lang="es-CL" sz="23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EL  COSTO Y  RIESGO DEL VENDEDOR SE MAXIMIZA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TIENE QUE HACER DISPONIBLES LAS MERCANCIAS AL COMPRAD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A SU LLEGADA EN EL LUGAR DE DESTIN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95360" y="696960"/>
            <a:ext cx="1152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5700" spc="-1" strike="noStrike">
                <a:solidFill>
                  <a:srgbClr val="0033cc"/>
                </a:solidFill>
                <a:latin typeface="Verdana"/>
              </a:rPr>
              <a:t>GRUPO  D</a:t>
            </a:r>
            <a:r>
              <a:rPr b="1" lang="es-CL" sz="5700" spc="-1" strike="noStrike">
                <a:solidFill>
                  <a:srgbClr val="0033cc"/>
                </a:solidFill>
                <a:latin typeface="Verdana"/>
              </a:rPr>
              <a:t>	</a:t>
            </a:r>
            <a:br>
              <a:rPr sz="5700"/>
            </a:b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400800" y="4800600"/>
            <a:ext cx="511164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A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elivered At Pla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448080" y="6600960"/>
            <a:ext cx="511164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D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elivered Duty P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68440" y="4800600"/>
            <a:ext cx="511308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elivered At Termin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68400"/>
            <a:ext cx="9707400" cy="0"/>
          </a:xfrm>
          <a:prstGeom prst="line">
            <a:avLst/>
          </a:prstGeom>
          <a:ln w="316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55560" y="1978200"/>
          <a:ext cx="11289960" cy="6955920"/>
        </p:xfrm>
        <a:graphic>
          <a:graphicData uri="http://schemas.openxmlformats.org/drawingml/2006/table">
            <a:tbl>
              <a:tblPr/>
              <a:tblGrid>
                <a:gridCol w="1231200"/>
                <a:gridCol w="3993480"/>
                <a:gridCol w="3869280"/>
                <a:gridCol w="2196000"/>
              </a:tblGrid>
              <a:tr h="70200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RTACION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ACION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644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,8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,0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,9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,8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,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,0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7,3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9,7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7,0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7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5,1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4,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9,2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9,2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5,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394,2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264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233,3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115,7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349,1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2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589,2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040,3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629,6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2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118,4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493,9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612,3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7096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3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7,6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9,1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6,8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3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60,2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4,2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434,5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5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080,0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677,5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757,6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755640" y="1171440"/>
            <a:ext cx="10483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omic Sans MS"/>
              </a:rPr>
              <a:t>7.    </a:t>
            </a:r>
            <a:r>
              <a:rPr b="0" lang="en-US" sz="2500" spc="-1" strike="noStrike" u="sng">
                <a:solidFill>
                  <a:srgbClr val="0033cc"/>
                </a:solidFill>
                <a:uFillTx/>
                <a:latin typeface="Comic Sans MS"/>
              </a:rPr>
              <a:t>ESTADISTICAS TOTAL COMERCIO EXTERIOR CHI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527040"/>
            <a:ext cx="9301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marL="639720" indent="-6397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500" spc="-1" strike="noStrike">
                <a:solidFill>
                  <a:srgbClr val="0033cc"/>
                </a:solidFill>
                <a:latin typeface="Comic Sans MS"/>
              </a:rPr>
              <a:t>GLOBALIZACIÓN Y NEGOCIOS INTERNACION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4366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DAT  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0033cc"/>
                </a:solidFill>
                <a:latin typeface="Verdana"/>
              </a:rPr>
              <a:t>Delivered At Termin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992" name=""/>
          <p:cNvSpPr/>
          <p:nvPr/>
        </p:nvSpPr>
        <p:spPr>
          <a:xfrm>
            <a:off x="7408800" y="5232240"/>
            <a:ext cx="5392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      COMPRADOR  CUANDO LAS MERCADERIAS SE PONEN A DISPOSICIÓN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L COMPRADOR EN EL TERMINAL DESIGNADO EN EL LUGAR DE DEST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408800" y="6672240"/>
            <a:ext cx="53928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RIESGOS</a:t>
            </a: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 SE TRANSFIEREN DEL VENDEDOR AL       COMPRADOR CUANDO LAS MERCADERIAS SE PONEN A DISPOSICIÓN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DEL COMPRADOR </a:t>
            </a:r>
            <a:r>
              <a:rPr b="1" lang="es-MX" sz="1200" spc="-1" strike="noStrike">
                <a:solidFill>
                  <a:srgbClr val="ff5050"/>
                </a:solidFill>
                <a:latin typeface="Verdana"/>
              </a:rPr>
              <a:t>EN EL TERMINAL DESIGNADO EN EL LUGAR DE DEST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08800" y="8194680"/>
            <a:ext cx="539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TRANSPORTE DEBE SER CONTRATADO 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68152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7408800" y="4079880"/>
            <a:ext cx="5392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EN EL MEDIO DE TRANSPORTE DESIGNADO EN DESTINO ANTES DE PAGAR DERECHOS DE ADU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4366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DAP  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0033cc"/>
                </a:solidFill>
                <a:latin typeface="Verdana"/>
              </a:rPr>
              <a:t>Delivered At Pla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>
            <a:off x="7408800" y="5232240"/>
            <a:ext cx="5392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      COMPRADOR  CUANDO LAS MERCADERIAS SE PONEN A DISPOSICIÓN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L COMPRADOR EN EL MEDIO DE TRANSPORTE  EN EL LUGAR DESIGN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7408800" y="6672240"/>
            <a:ext cx="53928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RIESGOS</a:t>
            </a: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 SE TRANSFIEREN DEL VENDEDOR AL       COMPRADOR CUANDO LAS MERCADERIAS SE PONEN A DISPOSICIÓN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DEL COMPRADOR EN EL MEDIO DE TRANSPORTE EN LUGAR DE DESTINO CONVENIDO ANTES DE PAGADOS LOS DERECHOS DE ADU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7408800" y="8194680"/>
            <a:ext cx="539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TRANSPORTE DEBE SER CONTRATADO 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632952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7408800" y="4079880"/>
            <a:ext cx="5392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EN EL MEDIO DE TRANSPORTE  EN EL LUGAR DESIGNADO EN DESTINO ANTES DE PAGAR DERECHOS DE ADU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4366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DDP</a:t>
            </a:r>
            <a:r>
              <a:rPr b="1" lang="es-MX" sz="5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0033cc"/>
                </a:solidFill>
                <a:latin typeface="Verdana"/>
              </a:rPr>
              <a:t>Delivered Duty P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1162" name=""/>
          <p:cNvSpPr/>
          <p:nvPr/>
        </p:nvSpPr>
        <p:spPr>
          <a:xfrm>
            <a:off x="7337520" y="5016600"/>
            <a:ext cx="5464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      COMPRADOR CUANDO LAS MERCADERIAS SE PONEN A DISPOSICIÓN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L COMPRADOR  EN  EL MEDIO DE TRANSPORTE EN EL LUGAR DE DESTINO CONVENIDO  DESPUES   DE    PAGADOS   LOS DERECHOS DE ADU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7337520" y="6745320"/>
            <a:ext cx="54640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RIESGOS</a:t>
            </a: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 SE TRANSFIEREN DEL VENDEDOR AL COMPRADOR  CUANDO  LAS  MERCADERIAS SE PONEN A DISPOSICIÓN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DEL COMPRADOR  EN  EL MEDIO DE TRANSPORTE EN EL LUGAR DE DESTINO CONVENIDO DESPUES DE  PAGADOS LOS DERECHOS DE ADU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7408800" y="8256600"/>
            <a:ext cx="539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TRANSPORTE DEBE SER CONTRATADO 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90552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7337520" y="4008600"/>
            <a:ext cx="5464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EN UN MEDIO DE TRANSPORTE EN EL LUGAR DE DESTINO CONVENIDO, DESPUES DE PAGADOS LOS DERECHOS DE ADU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68808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0" y="2352600"/>
            <a:ext cx="131698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0000"/>
                </a:solidFill>
                <a:latin typeface="Verdana"/>
              </a:rPr>
              <a:t>Se indican las cláusulas eliminadas de INCOTERMS 2010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639720" y="336600"/>
            <a:ext cx="11379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Verdana"/>
              </a:rPr>
              <a:t>GRUPO  D</a:t>
            </a:r>
            <a:r>
              <a:rPr b="1" lang="es-CL" sz="3400" spc="-1" strike="noStrike">
                <a:solidFill>
                  <a:srgbClr val="0033cc"/>
                </a:solidFill>
                <a:latin typeface="Verdana"/>
              </a:rPr>
              <a:t>	</a:t>
            </a:r>
            <a:br>
              <a:rPr sz="3400"/>
            </a:br>
            <a:br>
              <a:rPr sz="3400"/>
            </a:br>
            <a:r>
              <a:rPr b="1" lang="es-CL" sz="3400" spc="-1" strike="noStrike">
                <a:solidFill>
                  <a:srgbClr val="0033cc"/>
                </a:solidFill>
                <a:latin typeface="Verdana"/>
              </a:rPr>
              <a:t>CLAUSULAS ELIMINAD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688080" y="4800600"/>
            <a:ext cx="511164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elivered Ex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 Sh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68440" y="6816600"/>
            <a:ext cx="511164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EQ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elivered Ex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 Qu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23720" y="4800600"/>
            <a:ext cx="511344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A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elivered At</a:t>
            </a:r>
            <a:r>
              <a:rPr b="1" lang="es-MX" sz="34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ronti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688080" y="6816600"/>
            <a:ext cx="511164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D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elivered Duty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 Unp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4366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DAF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 (... INDICANDO LUGAR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0033cc"/>
                </a:solidFill>
                <a:latin typeface="Verdana"/>
              </a:rPr>
              <a:t>Delivered At Fronti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4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1255" name=""/>
          <p:cNvSpPr/>
          <p:nvPr/>
        </p:nvSpPr>
        <p:spPr>
          <a:xfrm>
            <a:off x="7840800" y="5592600"/>
            <a:ext cx="4960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Verdana"/>
              </a:rPr>
              <a:t>LOS     COSTOS  SE  TRANSFIEREN  DEL VENDEDOR  AL  COMPRADOR CUANDO LAS MERCADERIAS HAN SIDO ENTREGADAS EN EL LUGAR CONVENIDO EN LA FRONT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7840800" y="6888240"/>
            <a:ext cx="4960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LOS RIESGOS SE TRANSFIEREN DEL VENDEDOR AL    COMPRADOR   CUANDO LAS MERCADERIAS HAN SIDO ENTREGADAS EN EL LUGAR CONVENIDO EN LA FRONTE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7913520" y="8185320"/>
            <a:ext cx="4888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TRANSPORTE DEBE SER CONTRATADO 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016080" y="2855880"/>
            <a:ext cx="252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087720" y="2784600"/>
            <a:ext cx="2521080" cy="936360"/>
          </a:xfrm>
          <a:prstGeom prst="rect">
            <a:avLst/>
          </a:prstGeom>
          <a:solidFill>
            <a:srgbClr val="ffffd9"/>
          </a:solidFill>
          <a:ln w="3492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1" name="" descr=""/>
          <p:cNvPicPr/>
          <p:nvPr/>
        </p:nvPicPr>
        <p:blipFill>
          <a:blip r:embed="rId2"/>
          <a:stretch/>
        </p:blipFill>
        <p:spPr>
          <a:xfrm>
            <a:off x="3738600" y="2496960"/>
            <a:ext cx="1365120" cy="911520"/>
          </a:xfrm>
          <a:prstGeom prst="rect">
            <a:avLst/>
          </a:prstGeom>
          <a:ln w="0">
            <a:noFill/>
          </a:ln>
        </p:spPr>
      </p:pic>
      <p:sp>
        <p:nvSpPr>
          <p:cNvPr id="1262" name=""/>
          <p:cNvSpPr/>
          <p:nvPr/>
        </p:nvSpPr>
        <p:spPr>
          <a:xfrm>
            <a:off x="4672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7769160" y="4224240"/>
            <a:ext cx="5032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EN UN PUNTO DETERMINADO DE LA FRONTERA DE UN PAÍ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/>
          <p:nvPr/>
        </p:nvSpPr>
        <p:spPr>
          <a:xfrm>
            <a:off x="4366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DES 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0033cc"/>
                </a:solidFill>
                <a:latin typeface="Verdana"/>
              </a:rPr>
              <a:t>Delivered Ex Sh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2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1343" name=""/>
          <p:cNvSpPr/>
          <p:nvPr/>
        </p:nvSpPr>
        <p:spPr>
          <a:xfrm>
            <a:off x="7337520" y="5376960"/>
            <a:ext cx="5464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COMPRADOR CUANDO LAS MERCADERIAS SE PONEN A DISPOSICIÓN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L COMPRADOR A BORDO DEL BUQUE EN EL PUERTO DE DESTI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375680" y="6672240"/>
            <a:ext cx="542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RIESGO</a:t>
            </a: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S SE TRANSFIEREN DEL VENDEDOR AL      COMPRADOR CUANDO LAS MERCADERIAS SE PONEN A DISPOSICIÓN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DEL COMPRADOR A BORDO DEL BUQUE EN EL PUERTO DE DESTI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7408800" y="8040600"/>
            <a:ext cx="539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TRANSPORTE DEBE SER CONTRATADO 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39280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5464080" y="8224920"/>
            <a:ext cx="598680" cy="608040"/>
          </a:xfrm>
          <a:custGeom>
            <a:avLst/>
            <a:gdLst>
              <a:gd name="textAreaLeft" fmla="*/ 0 w 598680"/>
              <a:gd name="textAreaRight" fmla="*/ 599040 w 5986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23720" y="523224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Verdana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30920" y="65293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Verdana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337520" y="4152960"/>
            <a:ext cx="504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A BORDO DEL BUQUE EN EL PUERTO DE DEST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4366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DEQ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 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0033cc"/>
                </a:solidFill>
                <a:latin typeface="Verdana"/>
              </a:rPr>
              <a:t>Delivered Ex Qu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9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1430" name=""/>
          <p:cNvSpPr/>
          <p:nvPr/>
        </p:nvSpPr>
        <p:spPr>
          <a:xfrm>
            <a:off x="7388280" y="5305320"/>
            <a:ext cx="541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COMPRADOR CUANDO LAS MERCADERIAS SE PONEN A DISPOSICIÓN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L COMPRADOR EN EL MUELLE EN EL PUERTO DE DESTI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7408800" y="6529320"/>
            <a:ext cx="5392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RIESGOS</a:t>
            </a: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 SE TRANSFIEREN DEL VENDEDOR AL      COMPRADOR CUANDO LAS MERCADERIAS SE PONEN A DISPOSICIÓN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DEL  COMPRADOR   EN   EL   MUELLE   EN   E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PUERTO DE DESTI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7480440" y="7969320"/>
            <a:ext cx="532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TRANSPORTE DEBE SER CONTRATADO POR EL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68152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7337520" y="4079880"/>
            <a:ext cx="49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EN EL MUELLE EN EL PUERTO DE DEST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/>
          <p:nvPr/>
        </p:nvSpPr>
        <p:spPr>
          <a:xfrm>
            <a:off x="4366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DDU  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0033cc"/>
                </a:solidFill>
                <a:latin typeface="Verdana"/>
              </a:rPr>
              <a:t>Delivered Duty Unp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4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1515" name=""/>
          <p:cNvSpPr/>
          <p:nvPr/>
        </p:nvSpPr>
        <p:spPr>
          <a:xfrm>
            <a:off x="7408800" y="5232240"/>
            <a:ext cx="5392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      COMPRADOR  CUANDO LAS MERCADERIAS SE PONEN A DISPOSICIÓN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L COMPRADOR EN EL MEDIO DE TRANSPORTE  ANTES DE PAGAR LOS DERECHOS DE ADU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7408800" y="6672240"/>
            <a:ext cx="5392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RIESGOS</a:t>
            </a: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 SE TRANSFIEREN DEL VENDEDOR AL       COMPRADOR CUANDO LAS MERCADERIAS SE PONEN A DISPOSICIÓN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DEL COMPRADOR EN EL MEDIOI DE TRANSPORTE EN LUGAR DE DESTINO CONVENIDO CONVENIDO ANTES DE PAGADOS LOS DERECHOS DE ADU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7408800" y="8194680"/>
            <a:ext cx="539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TRANSPORTE DEBE SER CONTRATADO 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625644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7408800" y="4079880"/>
            <a:ext cx="5392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EN EL MEDIO DE TRANSPORTE DESIGNADO EN DESTINO ANTES DE PAGAR DERECHOS DE ADU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661680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68400"/>
            <a:ext cx="9707400" cy="0"/>
          </a:xfrm>
          <a:prstGeom prst="line">
            <a:avLst/>
          </a:prstGeom>
          <a:ln w="316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55560" y="2784600"/>
          <a:ext cx="11490120" cy="4536720"/>
        </p:xfrm>
        <a:graphic>
          <a:graphicData uri="http://schemas.openxmlformats.org/drawingml/2006/table">
            <a:tbl>
              <a:tblPr/>
              <a:tblGrid>
                <a:gridCol w="1106640"/>
                <a:gridCol w="4211280"/>
                <a:gridCol w="3936600"/>
                <a:gridCol w="2235600"/>
              </a:tblGrid>
              <a:tr h="76464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RTACION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ACION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30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759,1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232,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991,2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1596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625,2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008,2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.633,4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5124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536,2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535,8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.072,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6060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596,1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948,8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545,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1524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984,1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237,3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.221,4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1596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.039,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.914,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.953,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460520" y="1171440"/>
            <a:ext cx="10584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500" spc="-1" strike="noStrike" u="sng">
                <a:solidFill>
                  <a:srgbClr val="0033cc"/>
                </a:solidFill>
                <a:uFillTx/>
                <a:latin typeface="Comic Sans MS"/>
              </a:rPr>
              <a:t>ESTADISTICAS TOTAL COMERCIO EXTERIOR CHI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527040"/>
            <a:ext cx="9301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marL="639720" indent="-6397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500" spc="-1" strike="noStrike">
                <a:solidFill>
                  <a:srgbClr val="0033cc"/>
                </a:solidFill>
                <a:latin typeface="Comic Sans MS"/>
              </a:rPr>
              <a:t>GLOBALIZACIÓN Y NEGOCIOS INTERNACION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68400"/>
            <a:ext cx="9707400" cy="0"/>
          </a:xfrm>
          <a:prstGeom prst="line">
            <a:avLst/>
          </a:prstGeom>
          <a:ln w="316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957240" y="2482920"/>
          <a:ext cx="10472400" cy="6489360"/>
        </p:xfrm>
        <a:graphic>
          <a:graphicData uri="http://schemas.openxmlformats.org/drawingml/2006/table">
            <a:tbl>
              <a:tblPr/>
              <a:tblGrid>
                <a:gridCol w="1141920"/>
                <a:gridCol w="3705120"/>
                <a:gridCol w="3589560"/>
                <a:gridCol w="2035800"/>
              </a:tblGrid>
              <a:tr h="59832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ÑO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XPORTACION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IMPORTACION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TAL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940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99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6.62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7.69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4.32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86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99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7.87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9.29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7.16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796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99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6.3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8.36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4.68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652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99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7.16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.73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1.89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832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9.2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7.09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6.30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86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0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8.27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6.42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4.7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796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0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8.18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5.79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3.97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86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0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.66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7.94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9.60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832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0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2.5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2.93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5.45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652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0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1.26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0.49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71.75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662120" y="1171440"/>
            <a:ext cx="103838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500" spc="-1" strike="noStrike" u="sng">
                <a:solidFill>
                  <a:srgbClr val="0033cc"/>
                </a:solidFill>
                <a:uFillTx/>
                <a:latin typeface="Comic Sans MS"/>
              </a:rPr>
              <a:t>ESTADISTICAS TOTAL COMERCIO EXTERIOR CHI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800" y="264960"/>
            <a:ext cx="9301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marL="639720" indent="-6397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500" spc="-1" strike="noStrike">
                <a:solidFill>
                  <a:srgbClr val="0033cc"/>
                </a:solidFill>
                <a:latin typeface="Comic Sans MS"/>
              </a:rPr>
              <a:t>GLOBALIZACIÓN Y NEGOCIOS INTERNACION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68400"/>
            <a:ext cx="9707400" cy="0"/>
          </a:xfrm>
          <a:prstGeom prst="line">
            <a:avLst/>
          </a:prstGeom>
          <a:ln w="316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957240" y="2482920"/>
          <a:ext cx="10472400" cy="3455640"/>
        </p:xfrm>
        <a:graphic>
          <a:graphicData uri="http://schemas.openxmlformats.org/drawingml/2006/table">
            <a:tbl>
              <a:tblPr/>
              <a:tblGrid>
                <a:gridCol w="1141920"/>
                <a:gridCol w="3705120"/>
                <a:gridCol w="3589560"/>
                <a:gridCol w="2035800"/>
              </a:tblGrid>
              <a:tr h="5896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ÑO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XPORTACION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IMPORTACION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TAL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940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0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8.68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5.9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94.58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896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67.97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4.03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12.00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896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0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66.25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7.73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23.98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878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0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4.00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9.88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93.88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8932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71.02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5.17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26.30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662120" y="1171440"/>
            <a:ext cx="103838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500" spc="-1" strike="noStrike" u="sng">
                <a:solidFill>
                  <a:srgbClr val="0033cc"/>
                </a:solidFill>
                <a:uFillTx/>
                <a:latin typeface="Comic Sans MS"/>
              </a:rPr>
              <a:t>ESTADISTICAS TOTAL COMERCIO EXTERIOR CHI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800" y="264960"/>
            <a:ext cx="9301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marL="639720" indent="-6397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500" spc="-1" strike="noStrike">
                <a:solidFill>
                  <a:srgbClr val="0033cc"/>
                </a:solidFill>
                <a:latin typeface="Comic Sans MS"/>
              </a:rPr>
              <a:t>GLOBALIZACIÓN Y NEGOCIOS INTERNACION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279440"/>
            <a:ext cx="9707400" cy="0"/>
          </a:xfrm>
          <a:prstGeom prst="line">
            <a:avLst/>
          </a:prstGeom>
          <a:ln w="316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1676520"/>
            <a:ext cx="10685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55720" y="1373040"/>
            <a:ext cx="10888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500" spc="-1" strike="noStrike">
                <a:solidFill>
                  <a:srgbClr val="0033cc"/>
                </a:solidFill>
                <a:latin typeface="Comic Sans MS"/>
              </a:rPr>
              <a:t>8.   </a:t>
            </a:r>
            <a:r>
              <a:rPr b="0" lang="es-CL" sz="2200" spc="-1" strike="noStrike" u="sng">
                <a:solidFill>
                  <a:srgbClr val="0033cc"/>
                </a:solidFill>
                <a:uFillTx/>
                <a:latin typeface="Comic Sans MS"/>
              </a:rPr>
              <a:t>LA IMPORTANCIA DEL COBRE EN LAS EXPORTACIONES CHILEN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755640" y="2884320"/>
          <a:ext cx="8065800" cy="6127560"/>
        </p:xfrm>
        <a:graphic>
          <a:graphicData uri="http://schemas.openxmlformats.org/drawingml/2006/table">
            <a:tbl>
              <a:tblPr/>
              <a:tblGrid>
                <a:gridCol w="2217960"/>
                <a:gridCol w="2922840"/>
                <a:gridCol w="2925000"/>
              </a:tblGrid>
              <a:tr h="64656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AÑ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TO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COB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0876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99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7.87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6.64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948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99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6.3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5.19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876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99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7.16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6.02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912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9.2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7.28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876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8.27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6.53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948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8.18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6.3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876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1.66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7.81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912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2.5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4.7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876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41.26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8.96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8821800" y="2884320"/>
          <a:ext cx="2923920" cy="6127560"/>
        </p:xfrm>
        <a:graphic>
          <a:graphicData uri="http://schemas.openxmlformats.org/drawingml/2006/table">
            <a:tbl>
              <a:tblPr/>
              <a:tblGrid>
                <a:gridCol w="2923920"/>
              </a:tblGrid>
              <a:tr h="69228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%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0372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7,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444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1,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372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5,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408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7,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372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5,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444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4,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372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6,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408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45,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336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46,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179280" y="527040"/>
            <a:ext cx="9301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marL="639720" indent="-6397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500" spc="-1" strike="noStrike">
                <a:solidFill>
                  <a:srgbClr val="0033cc"/>
                </a:solidFill>
                <a:latin typeface="Comic Sans MS"/>
              </a:rPr>
              <a:t>GLOBALIZACIÓN Y NEGOCIOS INTERNACION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279440"/>
            <a:ext cx="9707400" cy="0"/>
          </a:xfrm>
          <a:prstGeom prst="line">
            <a:avLst/>
          </a:prstGeom>
          <a:ln w="316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676520"/>
            <a:ext cx="10685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5720" y="1373040"/>
            <a:ext cx="10888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500" spc="-1" strike="noStrike">
                <a:solidFill>
                  <a:srgbClr val="0033cc"/>
                </a:solidFill>
                <a:latin typeface="Comic Sans MS"/>
              </a:rPr>
              <a:t>8.   </a:t>
            </a:r>
            <a:r>
              <a:rPr b="0" lang="es-CL" sz="2200" spc="-1" strike="noStrike" u="sng">
                <a:solidFill>
                  <a:srgbClr val="0033cc"/>
                </a:solidFill>
                <a:uFillTx/>
                <a:latin typeface="Comic Sans MS"/>
              </a:rPr>
              <a:t>LA IMPORTANCIA DEL COBRE EN LAS EXPORTACIONES CHILEN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55640" y="2884320"/>
          <a:ext cx="8065800" cy="3692160"/>
        </p:xfrm>
        <a:graphic>
          <a:graphicData uri="http://schemas.openxmlformats.org/drawingml/2006/table">
            <a:tbl>
              <a:tblPr/>
              <a:tblGrid>
                <a:gridCol w="2217960"/>
                <a:gridCol w="2922840"/>
                <a:gridCol w="2925000"/>
              </a:tblGrid>
              <a:tr h="64656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AÑ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TO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COB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0912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58.68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2.7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948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67.97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7.37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912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66.25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2.84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876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54.00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7.70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912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71.02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40.25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8821800" y="2884320"/>
          <a:ext cx="2923920" cy="3692160"/>
        </p:xfrm>
        <a:graphic>
          <a:graphicData uri="http://schemas.openxmlformats.org/drawingml/2006/table">
            <a:tbl>
              <a:tblPr/>
              <a:tblGrid>
                <a:gridCol w="2923920"/>
              </a:tblGrid>
              <a:tr h="69228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%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0012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55,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048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55,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012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49,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976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51,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940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56,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179280" y="527040"/>
            <a:ext cx="9301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marL="639720" indent="-6397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500" spc="-1" strike="noStrike">
                <a:solidFill>
                  <a:srgbClr val="0033cc"/>
                </a:solidFill>
                <a:latin typeface="Comic Sans MS"/>
              </a:rPr>
              <a:t>GLOBALIZACIÓN Y NEGOCIOS INTERNACION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23:08:09Z</dcterms:created>
  <dc:creator>LOPEZ REITZE</dc:creator>
  <dc:description/>
  <dc:language>en-US</dc:language>
  <cp:lastModifiedBy>jllb</cp:lastModifiedBy>
  <dcterms:modified xsi:type="dcterms:W3CDTF">2011-05-27T16:08:10Z</dcterms:modified>
  <cp:revision>84</cp:revision>
  <dc:subject/>
  <dc:title>Diapositiva 1</dc:title>
</cp:coreProperties>
</file>