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58D2-ED13-4AA2-A8AA-CBFD45DA58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3C84-F21C-4F61-AEC6-E34A11D468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8833-6A2F-46BB-80DA-99E4E1C12A1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0C3C-9299-4952-AB60-119B1BA08C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C7C2-9664-4287-93AD-262373C5232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A41D-0110-4B0C-945F-0F0FF9E874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BDD5-311E-4875-99C8-C384BFA20A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FB6B-860A-4C20-BAF8-BB0CC6834F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2125-98CA-4A4B-A4BD-98ECB174B2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9C3A-3CDD-4396-9F89-831033D550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EFD6-4095-457E-93F6-F98EF10247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6DBC-A922-4F7E-A53D-243E30559A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EFE5-4018-49D6-8036-A77D8329C2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EFD5C-C373-44B2-8F08-B7A242085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4A2E5-EFF0-4BA6-B05A-7732723C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807F4-5915-4C9C-A405-DCD0CB8F9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CA082-AB7A-46F8-B252-4792B14A3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172E4-E43E-4332-9C6D-C3850AB89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65DC6-4207-4251-938F-43D77CD33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67A90-8C4E-4E86-9A83-4E74D1DB8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DDF4E-D5AD-41E6-8FF6-B01AB009B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CD7FC-F3C2-4A81-A6DA-3E23399F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F285B-526A-4DB6-8A64-054C8341B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C2F31-24AE-4361-9998-AC44F656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AB7D-F336-481E-AADA-6CEA4DF4D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697F1-2786-4EA1-B981-81F64172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AB98-1BFC-4C81-B543-9EE59B36C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9B45A-A1A5-4234-8492-D80E75D46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E6177-923F-4ED7-AAFB-A39BDB7A8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DBBDB-39B0-4650-BCCB-D1768A498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C1054-6356-4901-8B8C-8E23D481D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18649-526F-489A-815E-BC3C283DC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CED1A-B16F-4B8E-A9C3-4836DD294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C5096-0202-4AC9-B063-7335CA76D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8B42C-C8BA-4E72-9AB0-9FC7FDDD3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4CFE0-BC10-4129-BC93-C22A6A2C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E222C-AB40-4F2D-94C6-397C6853A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0E418-3ADE-496B-AE7F-2688BA5E4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C68E0-1FF3-48E1-93EB-06A6BF7B0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B2BDD-4624-420D-874F-F761321D5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75FC8-FF3E-4675-829B-8AC20AEAC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CB37A-876D-485F-9826-F1BD1452C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A492DB-8AF1-41C1-98FE-5FD68597A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FF2FF-2170-4954-9F07-D8B3EFE15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99967-6839-4A12-8A66-664AD8F3E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23A79-30DC-4D0A-9B2A-07D746647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64EC-C2FE-4F48-908A-8269C5A1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4E2F4-E701-49BA-80E1-A4B5502D8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0CD13-C6FB-4225-ABF1-414F6B0A6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42B1E-CC3C-4B25-A292-FA39B5286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15FF2-121B-42DD-89AD-A7CCB6F21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82898-FD6E-4FA9-856B-DA689E5B9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914E3-D0BA-4F03-A2C8-8A665ADF9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2A672-3DDA-4C9A-9357-ED68E394C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A76D6-681D-4A45-A305-DF6BD363D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4875D1-6305-4F7A-BCC8-4361A87FC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C10BE-E4AE-49B6-B98C-7B5FD835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E39DE-AAD2-4B32-998F-F571D070D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8038-2320-47F9-9B99-5B55E6A3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2C76-145E-4FC7-A92C-0ED5B081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701D-9D89-4C3B-99F8-C1DC42999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47CB-2F5F-4A1B-8800-925919C403B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415B-A6FE-47E6-AA03-4F58C6D7189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1E58-D367-4F59-BB74-8BF8EE4A1EF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EF84-2CC9-4A13-97EF-B0505C0CF07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IBERTAD DE OPINION  Y DE         </a:t>
            </a:r>
            <a:r>
              <a:rPr b="0" lang="es-CL" sz="4600" spc="-1" strike="noStrike">
                <a:solidFill>
                  <a:srgbClr val="04617b"/>
                </a:solidFill>
                <a:latin typeface="Calibri"/>
              </a:rPr>
              <a:t>	</a:t>
            </a:r>
            <a:r>
              <a:rPr b="0" lang="es-CL" sz="4600" spc="-1" strike="noStrike">
                <a:solidFill>
                  <a:srgbClr val="04617b"/>
                </a:solidFill>
                <a:latin typeface="Calibri"/>
              </a:rPr>
              <a:t>          INFORMACION</a:t>
            </a:r>
            <a:endParaRPr b="0" lang="en-US" sz="46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6686d"/>
                </a:solidFill>
                <a:uFillTx/>
                <a:latin typeface="Constantia"/>
              </a:rPr>
              <a:t>19 Nº 12</a:t>
            </a:r>
            <a:br>
              <a:rPr sz="3600"/>
            </a:br>
            <a:r>
              <a:rPr b="0" lang="es-ES" sz="3600" spc="-1" strike="noStrike" u="sng">
                <a:solidFill>
                  <a:srgbClr val="06686d"/>
                </a:solidFill>
                <a:uFillTx/>
                <a:latin typeface="Constantia"/>
              </a:rPr>
              <a:t> </a:t>
            </a:r>
            <a:endParaRPr b="0" lang="en-US" sz="3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686d"/>
                </a:solidFill>
                <a:latin typeface="Constantia"/>
              </a:rPr>
              <a:t>	</a:t>
            </a:r>
            <a:r>
              <a:rPr b="0" lang="es-ES" sz="3600" spc="-1" strike="noStrike">
                <a:solidFill>
                  <a:srgbClr val="06686d"/>
                </a:solidFill>
                <a:latin typeface="Constantia"/>
              </a:rPr>
              <a:t>Libertad de opinión y de información</a:t>
            </a:r>
            <a:r>
              <a:rPr b="0" lang="es-ES" sz="3600" spc="-1" strike="noStrike">
                <a:solidFill>
                  <a:srgbClr val="000000"/>
                </a:solidFill>
                <a:latin typeface="Constantia"/>
              </a:rPr>
              <a:t>.</a:t>
            </a:r>
            <a:br>
              <a:rPr sz="2800"/>
            </a:br>
            <a:br>
              <a:rPr sz="2000"/>
            </a:br>
            <a:r>
              <a:rPr b="0" lang="es-ES" sz="2000" spc="-1" strike="noStrike">
                <a:solidFill>
                  <a:srgbClr val="06686d"/>
                </a:solidFill>
                <a:latin typeface="Calibri"/>
              </a:rPr>
              <a:t>Profesora: Ana María García B.</a:t>
            </a:r>
            <a:br>
              <a:rPr sz="2000"/>
            </a:br>
            <a:r>
              <a:rPr b="0" lang="es-ES" sz="2000" spc="-1" strike="noStrike">
                <a:solidFill>
                  <a:srgbClr val="06686d"/>
                </a:solidFill>
                <a:latin typeface="Calibri"/>
              </a:rPr>
              <a:t>Derecho Constitucional II</a:t>
            </a:r>
            <a:br>
              <a:rPr sz="2000"/>
            </a:br>
            <a:r>
              <a:rPr b="0" lang="es-ES" sz="2000" spc="-1" strike="noStrike">
                <a:solidFill>
                  <a:srgbClr val="06686d"/>
                </a:solidFill>
                <a:latin typeface="Calibri"/>
              </a:rPr>
              <a:t>Primer Semestre 2011</a:t>
            </a:r>
            <a:endParaRPr b="0" lang="en-US" sz="2000" spc="-1" strike="noStrike">
              <a:solidFill>
                <a:srgbClr val="000000"/>
              </a:solidFill>
              <a:latin typeface="Constantia"/>
            </a:endParaRPr>
          </a:p>
        </p:txBody>
      </p:sp>
      <p:pic>
        <p:nvPicPr>
          <p:cNvPr id="204" name="Picture 6" descr="logo_uchile"/>
          <p:cNvPicPr/>
          <p:nvPr/>
        </p:nvPicPr>
        <p:blipFill>
          <a:blip r:embed="rId2"/>
          <a:stretch/>
        </p:blipFill>
        <p:spPr>
          <a:xfrm>
            <a:off x="468360" y="1341360"/>
            <a:ext cx="104436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533520" y="533520"/>
            <a:ext cx="8305560" cy="545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sejo Nacional de Televisión: Ley 18.838, de 1989,</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rgano autónomo, con personalidad jurídica       propi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Tiene la tuición del “correcto funcionamiento”    de la TV, es decir, comprobar la adecuada y normal emisión de la programación y hacer efectivas las responsabilidades. No es un “cen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Text Box 2"/>
          <p:cNvSpPr/>
          <p:nvPr/>
        </p:nvSpPr>
        <p:spPr>
          <a:xfrm>
            <a:off x="457200" y="6094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5" name="Text Box 3"/>
          <p:cNvSpPr/>
          <p:nvPr/>
        </p:nvSpPr>
        <p:spPr>
          <a:xfrm>
            <a:off x="228600" y="1219320"/>
            <a:ext cx="8915400" cy="78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La Producción Cinematográfica</a:t>
            </a:r>
            <a:r>
              <a:rPr b="0" lang="es-CL" sz="2800" spc="-1" strike="noStrike">
                <a:solidFill>
                  <a:srgbClr val="000000"/>
                </a:solidFill>
                <a:latin typeface="Constantia"/>
              </a:rPr>
              <a:t>: (N° 12, inciso final)</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Hasta el año 2001 se autorizó un sistema de censura previa y existió el Consejo de Censura Cinematográfic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forma Constitucional de 2001 suprimió la censura previ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stema de calificación para la exhibición de la producción cinematográfica regulado por Ley N° 19.846 de 2003. Para ello  existe el “Consejo de Calificación Cinematográfica”, dependiente del Ministerio de Educació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685800"/>
            <a:ext cx="8077320" cy="73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Prohibición de monopolios estatales</a:t>
            </a:r>
            <a:r>
              <a:rPr b="0" lang="es-CL" sz="2800" spc="-1" strike="noStrike">
                <a:solidFill>
                  <a:srgbClr val="000000"/>
                </a:solidFill>
                <a:latin typeface="Constantia"/>
              </a:rPr>
              <a:t> (inc. 2)</a:t>
            </a:r>
            <a:endParaRPr b="0" lang="en-US" sz="2800" spc="-1" strike="noStrike">
              <a:solidFill>
                <a:srgbClr val="000000"/>
              </a:solidFill>
              <a:latin typeface="Arial"/>
            </a:endParaRPr>
          </a:p>
          <a:p>
            <a:pPr marL="343080" indent="-343080">
              <a:lnSpc>
                <a:spcPct val="10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Constitución asegura que los medios de comunicación social pertenezcan a diversos dueños, incluyendo entre ellos al Estado</a:t>
            </a:r>
            <a:r>
              <a:rPr b="0" lang="es-CL" sz="1800" spc="-1" strike="noStrike">
                <a:solidFill>
                  <a:srgbClr val="000000"/>
                </a:solidFill>
                <a:latin typeface="Constantia"/>
              </a:rPr>
              <a:t>.</a:t>
            </a:r>
            <a:endParaRPr b="0" lang="en-US" sz="1800" spc="-1" strike="noStrike">
              <a:solidFill>
                <a:srgbClr val="000000"/>
              </a:solidFill>
              <a:latin typeface="Arial"/>
            </a:endParaRPr>
          </a:p>
          <a:p>
            <a:pPr marL="343080" indent="-343080">
              <a:lnSpc>
                <a:spcPct val="100000"/>
              </a:lnSpc>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nstantia"/>
              </a:rPr>
              <a:t>JURISPRUDENCI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El libro negro de la justicia chilena”. Recurso de inaplicabilidad por inconstitucionalidad contra resolución que ordena requisamiento de los libros, por violación de la libertad de opinión sin censura previa. 2000.</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película “La última tentación de Cristo”. Recurso interpuesto ante la Comisión Interamericana de DD.HH. contra sentencia de la Corte Suprema que niega la exhibición de la película. 2001.</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LIBERTAD DE OPINION Y DE INFORMACION </a:t>
            </a:r>
            <a:br>
              <a:rPr sz="3600"/>
            </a:br>
            <a:r>
              <a:rPr b="0" lang="es-ES" sz="3600" spc="-1" strike="noStrike">
                <a:solidFill>
                  <a:srgbClr val="04617b"/>
                </a:solidFill>
                <a:latin typeface="Calibri"/>
              </a:rPr>
              <a:t>(Art.19 Nº 12)</a:t>
            </a:r>
            <a:endParaRPr b="0" lang="en-US" sz="36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  </a:t>
            </a:r>
            <a:r>
              <a:rPr b="1" lang="es-ES" sz="2400" spc="-1" strike="noStrike" u="sng">
                <a:solidFill>
                  <a:srgbClr val="000000"/>
                </a:solidFill>
                <a:uFillTx/>
                <a:latin typeface="Constantia"/>
              </a:rPr>
              <a:t>Evolución e importanci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olución históric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intrínseco a la dignidad de la person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propio de las sociedades libres y democrátic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información es un bien públic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libertad de información se concreta a través de los medios       </a:t>
            </a:r>
            <a:r>
              <a:rPr b="0" lang="es-ES" sz="2400" spc="-1" strike="noStrike">
                <a:solidFill>
                  <a:srgbClr val="000000"/>
                </a:solidFill>
                <a:latin typeface="Constantia"/>
              </a:rPr>
              <a:t>	</a:t>
            </a:r>
            <a:r>
              <a:rPr b="0" lang="es-ES" sz="2400" spc="-1" strike="noStrike">
                <a:solidFill>
                  <a:srgbClr val="000000"/>
                </a:solidFill>
                <a:latin typeface="Constantia"/>
              </a:rPr>
              <a:t>de comunicación de mas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entuales  colisiones de derech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I </a:t>
            </a:r>
            <a:r>
              <a:rPr b="1" lang="en-US" sz="2400" spc="-1" strike="noStrike" u="sng">
                <a:solidFill>
                  <a:srgbClr val="000000"/>
                </a:solidFill>
                <a:uFillTx/>
                <a:latin typeface="Constantia"/>
              </a:rPr>
              <a:t>Antecedentes:</a:t>
            </a:r>
            <a:endParaRPr b="0" lang="en-US" sz="2400" spc="-1" strike="noStrike">
              <a:solidFill>
                <a:srgbClr val="000000"/>
              </a:solidFill>
              <a:latin typeface="Constantia"/>
            </a:endParaRPr>
          </a:p>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lamento Constitucional de 1812</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tituciones posteriores: 1818, 1822, 1823, Ley Federal 1827, 1828, 1833 y 1925 con reforma constitucional 1971.</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ta Constitucional Nº 3 (1976): </a:t>
            </a:r>
            <a:r>
              <a:rPr b="0" i="1" lang="en-US" sz="2800" spc="-1" strike="noStrike">
                <a:solidFill>
                  <a:srgbClr val="000000"/>
                </a:solidFill>
                <a:latin typeface="Constantia"/>
              </a:rPr>
              <a:t>derecho a recibir</a:t>
            </a:r>
            <a:r>
              <a:rPr b="0" lang="en-US" sz="2800" spc="-1" strike="noStrike">
                <a:solidFill>
                  <a:srgbClr val="000000"/>
                </a:solidFill>
                <a:latin typeface="Constantia"/>
              </a:rPr>
              <a:t> información veraz , oportuna y objetiva.</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bertad de opinión y libertad de información.</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enes jurídicos comprometidos: personal y social</a:t>
            </a:r>
            <a:endParaRPr b="0" lang="en-US" sz="2800" spc="-1" strike="noStrike">
              <a:solidFill>
                <a:srgbClr val="000000"/>
              </a:solidFill>
              <a:latin typeface="Constantia"/>
            </a:endParaRPr>
          </a:p>
          <a:p>
            <a:pPr marL="245520" indent="-24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derecho a </a:t>
            </a:r>
            <a:r>
              <a:rPr b="0" i="1" lang="en-US" sz="2800" spc="-1" strike="noStrike">
                <a:solidFill>
                  <a:srgbClr val="000000"/>
                </a:solidFill>
                <a:latin typeface="Constantia"/>
              </a:rPr>
              <a:t>emitir</a:t>
            </a:r>
            <a:r>
              <a:rPr b="0" lang="en-US" sz="2800" spc="-1" strike="noStrike">
                <a:solidFill>
                  <a:srgbClr val="000000"/>
                </a:solidFill>
                <a:latin typeface="Constantia"/>
              </a:rPr>
              <a:t> opinión y a </a:t>
            </a:r>
            <a:r>
              <a:rPr b="0" i="1" lang="en-US" sz="2800" spc="-1" strike="noStrike">
                <a:solidFill>
                  <a:srgbClr val="000000"/>
                </a:solidFill>
                <a:latin typeface="Constantia"/>
              </a:rPr>
              <a:t>recibir </a:t>
            </a:r>
            <a:r>
              <a:rPr b="0" lang="en-US" sz="2800" spc="-1" strike="noStrike">
                <a:solidFill>
                  <a:srgbClr val="000000"/>
                </a:solidFill>
                <a:latin typeface="Constantia"/>
              </a:rPr>
              <a:t>inform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II </a:t>
            </a:r>
            <a:r>
              <a:rPr b="1" lang="en-US" sz="2800" spc="-1" strike="noStrike" u="sng">
                <a:solidFill>
                  <a:srgbClr val="000000"/>
                </a:solidFill>
                <a:uFillTx/>
                <a:latin typeface="Constantia"/>
              </a:rPr>
              <a:t>Leyes complementarias y pactos internacionales</a:t>
            </a:r>
            <a:r>
              <a:rPr b="1"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8.838 de 1989, crea Consejo Nacional de Televisió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733 de 2001, Ley de Prensa, regula la libertad de opinión e información y ejercicio del periodismo.</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846 de 2003, sobre calificación de la producción cinematográfic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ctos internacionales: DUDH, PDCP, CAD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LIBERTAD DE OPINION Y DE INFORMACION </a:t>
            </a:r>
            <a:br>
              <a:rPr sz="2800"/>
            </a:br>
            <a:r>
              <a:rPr b="0" lang="en-US" sz="2800" spc="-1" strike="noStrike">
                <a:solidFill>
                  <a:srgbClr val="04617b"/>
                </a:solidFill>
                <a:latin typeface="Calibri"/>
              </a:rPr>
              <a:t>(Art.19 Nº 12)</a:t>
            </a:r>
            <a:endParaRPr b="0" lang="en-US" sz="2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V  </a:t>
            </a:r>
            <a:r>
              <a:rPr b="1" lang="es-ES" sz="2800" spc="-1" strike="noStrike" u="sng">
                <a:solidFill>
                  <a:srgbClr val="000000"/>
                </a:solidFill>
                <a:uFillTx/>
                <a:latin typeface="Constantia"/>
              </a:rPr>
              <a:t>Contenido del precepto</a:t>
            </a:r>
            <a:r>
              <a:rPr b="0" lang="es-ES" sz="2800" spc="-1" strike="noStrike">
                <a:solidFill>
                  <a:srgbClr val="000000"/>
                </a:solidFill>
                <a:latin typeface="Constantia"/>
              </a:rPr>
              <a:t> (art. 19 Nº 12)</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Libertad de opinión e informac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sin censura previa, con responsabilidad)</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Derecho de rectificación o “derecho de répl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Derecho de fundar y mantener medios impresos.</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4.  La televis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5.  La producción cinematográf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6.  Prohibición de crear monopolios estatales.</a:t>
            </a:r>
            <a:endParaRPr b="0" lang="en-US" sz="2800" spc="-1" strike="noStrike">
              <a:solidFill>
                <a:srgbClr val="000000"/>
              </a:solidFill>
              <a:latin typeface="Constantia"/>
            </a:endParaRPr>
          </a:p>
          <a:p>
            <a:pPr marL="585000" indent="-58500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3200"/>
            </a:b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Libertad de opinión e información:</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nálisis de contenido y alcance del inc.1,Nº 12.</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ohibición de “censura previa”. Concepto.</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incipio de responsabilidad.</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Sistema “represivo” frente a ofensas injustas. </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opera </a:t>
            </a:r>
            <a:r>
              <a:rPr b="0" i="1" lang="es-ES" sz="2600" spc="-1" strike="noStrike">
                <a:solidFill>
                  <a:srgbClr val="000000"/>
                </a:solidFill>
                <a:latin typeface="Constantia"/>
              </a:rPr>
              <a:t>a posteriori</a:t>
            </a:r>
            <a:r>
              <a:rPr b="0" lang="es-ES" sz="2600" spc="-1" strike="noStrike">
                <a:solidFill>
                  <a:srgbClr val="000000"/>
                </a:solidFill>
                <a:latin typeface="Constantia"/>
              </a:rPr>
              <a:t>)</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Doctrina de las “</a:t>
            </a:r>
            <a:r>
              <a:rPr b="0" i="1" lang="es-ES" sz="2600" spc="-1" strike="noStrike">
                <a:solidFill>
                  <a:srgbClr val="000000"/>
                </a:solidFill>
                <a:latin typeface="Constantia"/>
              </a:rPr>
              <a:t>fighting word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2. Derecho de respuesta y rectificación o “derecho de réplica”</a:t>
            </a:r>
            <a:r>
              <a:rPr b="0" lang="en-US" sz="2600" spc="-1" strike="noStrike">
                <a:solidFill>
                  <a:srgbClr val="000000"/>
                </a:solidFill>
                <a:latin typeface="Constantia"/>
              </a:rPr>
              <a:t> (inc. 3)</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gulado por la Ley de Prensa Nº 19.733.</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cepto del derecho de réplica</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acterísticas: </a:t>
            </a:r>
            <a:endParaRPr b="0" lang="en-US" sz="26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Es consubstancial al derecho de libertad de opin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extrajudicial y no impide acciones judiciales posterior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de ejecución directa e inmediata en el medio de comunicac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o implica la retractación del medio.</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l medio no puede negarse a difundir la aclaración (multa, suspens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 Box 2"/>
          <p:cNvSpPr/>
          <p:nvPr/>
        </p:nvSpPr>
        <p:spPr>
          <a:xfrm>
            <a:off x="380880" y="7621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
          <p:cNvSpPr/>
          <p:nvPr/>
        </p:nvSpPr>
        <p:spPr>
          <a:xfrm>
            <a:off x="533520" y="6094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e6d"/>
                </a:solidFill>
                <a:latin typeface="Arial"/>
              </a:rPr>
              <a:t>LIBERTAD DE OPINION Y DE INFORMACION </a:t>
            </a:r>
            <a:br>
              <a:rPr sz="2800"/>
            </a:br>
            <a:r>
              <a:rPr b="0" lang="en-US" sz="2800" spc="-1" strike="noStrike">
                <a:solidFill>
                  <a:srgbClr val="004e6d"/>
                </a:solidFill>
                <a:latin typeface="Arial"/>
              </a:rPr>
              <a:t>(Art.19 Nº 12)</a:t>
            </a:r>
            <a:endParaRPr b="0" lang="en-US" sz="2800" spc="-1" strike="noStrike">
              <a:solidFill>
                <a:srgbClr val="000000"/>
              </a:solidFill>
              <a:latin typeface="Arial"/>
            </a:endParaRPr>
          </a:p>
        </p:txBody>
      </p:sp>
      <p:sp>
        <p:nvSpPr>
          <p:cNvPr id="219" name="Text Box 4"/>
          <p:cNvSpPr/>
          <p:nvPr/>
        </p:nvSpPr>
        <p:spPr>
          <a:xfrm>
            <a:off x="533520" y="1295280"/>
            <a:ext cx="8229600" cy="61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Derecho de fundar y mantener medios impreso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nstantia"/>
              </a:rPr>
              <a:t>    </a:t>
            </a:r>
            <a:r>
              <a:rPr b="0" lang="es-CL" sz="2800" spc="-1" strike="noStrike">
                <a:solidFill>
                  <a:srgbClr val="000000"/>
                </a:solidFill>
                <a:latin typeface="Constantia"/>
              </a:rPr>
              <a:t>(</a:t>
            </a:r>
            <a:r>
              <a:rPr b="0" lang="es-CL" sz="2400" spc="-1" strike="noStrike">
                <a:solidFill>
                  <a:srgbClr val="000000"/>
                </a:solidFill>
                <a:latin typeface="Constantia"/>
              </a:rPr>
              <a:t>Inciso 4 regulado por la Ley de Prensa</a:t>
            </a:r>
            <a:r>
              <a:rPr b="0" lang="es-CL" sz="2800" spc="-1" strike="noStrike">
                <a:solidFill>
                  <a:srgbClr val="000000"/>
                </a:solidFill>
                <a:latin typeface="Constantia"/>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cultad para crear, editar y mantener diarios, revistas, periódicos, etc.</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cluye todas las facultades necesarias para ejercer el derecho sin discriminaciones (importar maquinaria, papel, tinta....)</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Deben cumplirse los requisitos de publicación y circulación de la Ley de Prensa N° 19.733</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Text Box 5"/>
          <p:cNvSpPr/>
          <p:nvPr/>
        </p:nvSpPr>
        <p:spPr>
          <a:xfrm>
            <a:off x="517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Text Box 2"/>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2" name="Text Box 3"/>
          <p:cNvSpPr/>
          <p:nvPr/>
        </p:nvSpPr>
        <p:spPr>
          <a:xfrm>
            <a:off x="304920" y="1143000"/>
            <a:ext cx="8534160" cy="547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4. </a:t>
            </a:r>
            <a:r>
              <a:rPr b="1" lang="es-CL" sz="2800" spc="-1" strike="noStrike" u="sng">
                <a:solidFill>
                  <a:srgbClr val="000000"/>
                </a:solidFill>
                <a:uFillTx/>
                <a:latin typeface="Constantia"/>
              </a:rPr>
              <a:t>La Televisión</a:t>
            </a:r>
            <a:r>
              <a:rPr b="0" lang="es-CL" sz="2800" spc="-1" strike="noStrike">
                <a:solidFill>
                  <a:srgbClr val="000000"/>
                </a:solidFill>
                <a:latin typeface="Constantia"/>
              </a:rPr>
              <a:t>: Incisos 5 y 6</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El Estado, las universidades o entidades   que la ley determine podrán operar y   mantener estaciones de televisió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El Estado, TV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Universidades reconocidas como la U. de Chile, Católica de Chile, UCV, y del Norte.</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tras universidades o entidades públicas o privadas cumpliendo los requisitos leg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1:42:01Z</dcterms:created>
  <dc:creator>Ana Maria</dc:creator>
  <dc:description/>
  <dc:language>en-US</dc:language>
  <cp:lastModifiedBy>Ana Maria</cp:lastModifiedBy>
  <dcterms:modified xsi:type="dcterms:W3CDTF">2011-05-31T01:01:52Z</dcterms:modified>
  <cp:revision>57</cp:revision>
  <dc:subject/>
  <dc:title>LIBERTAD DE OPINION Y DE INFORMACION</dc:title>
</cp:coreProperties>
</file>