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838-F932-4126-97DC-54C3C828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400-CAED-4362-BC3F-131B9DE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961-CEEA-4D5D-84FB-7708F0CB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B1B-5341-4DE8-9165-5AAC39C0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C0E1-9ED6-4CE8-827A-7AF551C7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6447-59FA-4B0F-8E07-6FDFDC8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0E3-F4DE-4EC9-B5B8-C780B5A1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77C9-B92F-4B0F-82AD-9E6F5D44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B94C-C7CF-42F6-9B83-4ABD820C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D99D-F965-4488-A8B2-D6DAD8AD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1CC1-4876-46D1-8582-D2BF070B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B12-8301-4E6F-89F5-AC984DF8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A0F-FD91-474B-8D12-D8E0F86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183F-0430-4F7A-86A6-21794768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FF7B-F7DA-44C4-8A30-ECA038FF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5C2F-68B0-4CB5-97BE-EC6794E1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DAE4-4BDA-4CE2-BA6D-B71BA3C0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57E8-0616-4D51-A99A-3B6D7E0E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E87E6-150F-4588-A0DE-14EA9F9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20F0-ABF0-45B6-B33E-AC7B24E3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4E1D-1686-4BB3-8BFB-507C4409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33E1-5C0A-4AF6-9DA4-5831C3DE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551-CEC6-40C5-AD6D-5506AF08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6EC1-9B43-45FB-BBCC-CAE5462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5701-E6B9-44F9-948B-F5C3FA7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FA9D-30BE-4817-B87E-8425A51C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0266-6878-44E9-A55B-78D4F0A7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A7A3-8981-4643-B7ED-E138B0E2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F753-3642-4FFC-8DF3-C63D6B14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ACB8C-1AB2-4B8D-8F08-612C6451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0E27-5880-468E-A377-D854B3F4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FA71-85C1-46C6-A41A-13793DDC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1A1D-9827-4C15-97F4-0DDDE621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48F-D3F5-4AE3-B299-D8E549A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2234-30B4-4C84-A1B0-1A4142B5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3484-4C0D-4C80-ABE7-078F9FA9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990D-74F5-4DD5-A5F0-00197510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B5B1-0D88-4CDD-B7B1-E5C39431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2D6D-5560-48AF-99F8-622B525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C0A4-1826-4384-97AC-02EFBD4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4398-29C0-4B85-993D-C4D2E30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010B-E0D6-4154-ADC2-A4F3AFAA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D770-01F9-48E6-B8FD-20727C20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963-41F1-482B-A905-5695B76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255-6DE0-4AF2-823C-F30E5925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0BE-E4F4-4E23-9613-16F931E9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93D-F142-4678-A4A9-1C4FAF1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375-1E4D-4931-98D2-24ECEB0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BE51-DEA7-4F67-88F1-B9F1CB70ED7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32B-466B-4475-BFB2-2585A2982F14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03B2-9CA4-4353-994C-A17F85D0AEAB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08D-2912-42DD-BD39-FDA1AD2190F5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4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respeto y protección a la vida privada y a la honra de la persona y su famili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5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inviolabilidad del hogar y de toda forma de comunicación privada.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4" descr="logo_uchile"/>
          <p:cNvPicPr/>
          <p:nvPr/>
        </p:nvPicPr>
        <p:blipFill>
          <a:blip r:embed="rId1"/>
          <a:stretch/>
        </p:blipFill>
        <p:spPr>
          <a:xfrm>
            <a:off x="250920" y="333360"/>
            <a:ext cx="112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onstitución francesa de 1791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La protección de la casa familiar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PR 1833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“La correspondencia epistolar es inviolable. No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odrá abrirse ni interceptarse, ni rejistrarse los papeles o efectos,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sino en los casos espresamente señalados por la lei.” (Artículo 147.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PR 1925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Nº 12 La inviolabilidad del hoga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La casa de toda persona que habite el territorio chileno solo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uede ser allanada por un motivo especial determinado por la ley, y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en virtud de orden de autoridad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Nº 13 La inviolabilidad de la correspondencia epistolar y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telegráfica. No podrán abrirse, ni interceptarse, ni registrarse los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apeles o efectos públicos, sino en los casos expresamente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señalados por la ley;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Inviolabilidad de las comunic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 Allanamiento e intercep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Inviolabilidad del hog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) Concepto de “hogar”.  Diferencias con “domicilio”, “morada” y “residenc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El domicilio en el Código Civ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) Fundamento: Protección de la “intimidad” (valor constitucional protegido). Relación con 19 nº 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Inviolabilidad de comunicaciones privad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Todo tipo de medio de comunicación privada.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j., conversación telefónica. No limitada como en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833 y 1925 (epistolar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mplitud de la expresión “documento”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Este derecho frente a la tecnología ho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Ley  No 19.423 de 1995: introdujo tipos pe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(colisión entre privacidad y libertad de prensa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Allanamiento e interceptación de comunica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sos y formas determinadas por la ley”. Legalidad de la persona que da la orden, quien la cumple y su oport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rocesal penal: Artículos 205 a 209; y 222 a 224: Diligencias de investigación; Autorización previa del Juez de Garant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n virtud del artículo 20 de la Carta Fundamental, procede el recurso de protección para garantizar el derecho a la inviolabilidad del hogar y toda forma de comunicación privad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Funcionarios del Ministerio de Obras Públicas con Chevesich. Sobre la revisión de correos electrónicos como medida de investigación en el proceso MOP – GA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6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libertad de conciencia, la manifestación de todas las creencias y el ejercicio libre de todos los cultos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4" descr="logo_uchile"/>
          <p:cNvPicPr/>
          <p:nvPr/>
        </p:nvPicPr>
        <p:blipFill>
          <a:blip r:embed="rId1"/>
          <a:stretch/>
        </p:blipFill>
        <p:spPr>
          <a:xfrm>
            <a:off x="179280" y="189000"/>
            <a:ext cx="960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.-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 Antecede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833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“La relijión de la República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de Chile es la Católica, Apostólica, Romana; con exclusión del ejercicio público de cualquier otra.”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(Artículo 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(Institución del “patronato”)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interpretativa de 1865: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mitió el ejercicio privado de otros cultos, que no fueran el católico, apostólico y roman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. Pol 1925: separación de la Iglesia y 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25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 consagra el derecho en términos muy similares 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actu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80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solo modificaciones formales respecto a la redacción del año 19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Fundamen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En Estados Unido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Warren y Brandeis: “El derecho a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rivacidad”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arvard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(1890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Juez Cooley: “The right to be let alone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En Chil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lva Bascuña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“… S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 no se le deja al individuo ninguna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ntimidad, entonces la sociedad se va a masificar en una serie de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ndividuos sin ninguna posibilidad de aportar algo de progreso, algo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de perfeccionamiento a la sociedad entera …”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(Sesión 129 de la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Comisión de estudios para la nueva Constitución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.- Conte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 Estatuto constitucional de las instituciones dedicadas al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ibertad de conciencia y cul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cept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amplio y restringido. (toda creencia – religios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uero interno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Manifestación de todas las creenc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consagra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luralismo propio de la separación entre la iglesia y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ado (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uero extern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ón de la libertad de opin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ibre ejercicio de todos los culto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derecho desarrollad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y protegido por la Ley No 19.638 de 1999, sobr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ón Jurídica de las Iglesias y Organizacione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eligios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imitaciones a la libertad anterior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la moral, buen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stumbres, orden público. Ejemplo: Sectas qu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tan contra la vida o la integridad fís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41264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statuto constitucional de las instituciones dedicadas al culto religio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erecho 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dificar templos, conservarlos  bajo l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normas legales de seguridad e higi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xención de contribuciones a dependenci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xclusivam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 destinadas al cu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ersonalidad Jurídica de las iglesias en general: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 derech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nte acciones u omisiones arbitrarias o ilegales que atenten contra el derecho a la libertad de conciencia, rige el recurso de protección en virtud del artículo 20 de la Constitu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Transfusiones de sangre: en conflicto con el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recho 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elícula “La última tentación de Cristo”: en conflicto    con el derecho a la honr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staba en la Constitución de 19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misión Estudio Nueva Constitución (CENC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ejo de Estado: Son “derechos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sonalísimos” o del “patrimonio de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sonalidad”, pero no es absolut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Respeto y protección de la vida priv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Respeto y protección a la honra de la persona y de su famil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de la vida privada de las person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recho de la personalidad, no puede ser vulnerado, salvo escasas excep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s de “respeto”, “protección”, “vida privada” o “intimidad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 ordenamiento legal otorga protección a este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a la honra de la persona y de su familia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cepto de “honor”. Sentido objetivo y subjetivo. (apreciación general – persona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cepto de “honra” (honor en sentido objetivo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Honra de la “persona” (natural y jurídic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 Honra de la familia . Sentido de “familia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.-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rotección legal del derecho a la privacidad y hon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ódigo Penal: artículo 412 a 420 que consagran los delitos de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injurias y de calumn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Código procesal penal (acción penal privad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628: Sobre protección de la vida privada o protección de datos de carácter personal. Artículo 12, crea la acción de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Habeas Dat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733: Sobre libertades de opinión e información y ejercicio del periodismo. Artículo 16 y siguientes, consagran el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derecho de aclaración y rectif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atados Internacion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.-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gulación constitucional, previa a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forma del año 2005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contemplaba el respeto y protección a la vida “pública”, basado en el interés general que existía en conocer antecedentes de ciertas personas. Ejemplo, autoridades públic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regulaba la infracción a este precepto cometida a través de un medio de comunicación social. Se creaba el delito constitucional de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difama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derecho al respeto de la vida privada y honra de la persona y su familia, se encuentra tutelado por el recurso de protección en virtud del artículo 20 de nuestra Carta Fundament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Luksic con Martorell por la publicación del libr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Impunidad Diplomática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Sindicato de Futbolistas con SALO editores. Por l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ublicación de un álbum con fotografías, si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utor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LEICA</cp:lastModifiedBy>
  <dcterms:modified xsi:type="dcterms:W3CDTF">2011-04-21T10:42:27Z</dcterms:modified>
  <cp:revision>71</cp:revision>
  <dc:subject/>
  <dc:title>DERECHO A LA PRIVACIDAD Y A LA   HONRA  (Art. 19 No 4)</dc:title>
</cp:coreProperties>
</file>