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F25-587E-48F5-ACF7-5FBE0B72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2B6-A6A7-46D3-874D-534DDED6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701D-6AE2-418C-8027-6B41273F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3DD-D643-4DDF-9F07-915D0250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D45F-58E3-446D-A3CD-ADD9A1EB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08BC-CA0C-4990-AFD2-B497DD66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A8DF-E1D6-4E14-B530-81128064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BCBE-BB20-42A6-B2CE-875DF437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37B9-AA8A-459E-A2AD-41768F16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106C-5ADC-43FB-8D1D-7264A1EA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0282-2F68-4BE7-AD14-20B574E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6F0-3F5A-4159-9BA8-9CBA0DDF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81C6-0BD8-405A-8F59-13725F71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738-ED3A-444A-ABEA-34F72233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1C88-20FA-4A6D-8BB0-D8F6C75A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5969-37D9-4B8D-B288-386D6BE8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30A7-D497-4E3B-BBBD-CE45677A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4782-C0EC-4DF5-98F2-1F9177DD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6016-6055-414A-9CC2-8CD3134D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960C8-8518-49A1-8FAA-8D44267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EB57-AE2D-424B-AFBF-F5E00F96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683D8-D697-423A-A4CB-DA4552E8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037-756C-4AEA-AE21-9C9DE15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778CE-E8E3-4652-A091-7D80492B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7E35-7B21-489B-9350-329AB29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D818-09D4-4772-ADA8-F74685F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301D0-C44C-4C85-B61E-88218C1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F2F5-7166-452A-84A8-4F727A96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DB59D-8AFC-4259-96F7-55FABF7A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AAE3-551B-470A-BF89-ADD2007C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E5D0-4281-4FA9-B9CE-71C83E87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2F5DF-B39E-494D-99C0-21303359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D765-5BCE-4446-902A-182625D6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06C-F6E7-4E76-A338-B37486DB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9632-AA36-40F7-B10B-4FE39B46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8BC7B-39DE-48AB-BF31-636EFFBB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98B6-17BA-455A-BCA3-36F69FE6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BF17-C4AE-46D1-9778-4D063DF5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4FAC-4223-4A37-8700-7F6AF032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807A8-7FFA-4016-BC4D-9F61136B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6BD24-4426-4826-B3C1-A4BB09BC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EDF59-E97A-4288-8465-65B12CA7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FF5C-6567-4F44-9440-90DF78E7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17F-497B-4293-8A49-F0B64A9E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1DC-7F6A-4AC0-A9CD-4E4AC86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4BB-C59D-46A0-8A78-EA69C26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5A9-EDA9-4F1D-A917-5374FF30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542-3E8A-4F96-891D-9F64C326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7DBB-8D81-4593-87AD-15E4B5DD889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B7E7-769C-42C1-AC11-9EAE871F1394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2248-B6BD-4DEE-BB79-9D025CC4E9EF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615D-3597-4898-9417-C48CB50E99D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4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respeto y protección a la vida privada y a la honra de la persona y su familia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6" descr="logo_uchile"/>
          <p:cNvPicPr/>
          <p:nvPr/>
        </p:nvPicPr>
        <p:blipFill>
          <a:blip r:embed="rId1"/>
          <a:stretch/>
        </p:blipFill>
        <p:spPr>
          <a:xfrm>
            <a:off x="179280" y="260280"/>
            <a:ext cx="10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5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inviolabilidad del hogar y de toda forma de comunicación privada.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4" descr="logo_uchile"/>
          <p:cNvPicPr/>
          <p:nvPr/>
        </p:nvPicPr>
        <p:blipFill>
          <a:blip r:embed="rId1"/>
          <a:stretch/>
        </p:blipFill>
        <p:spPr>
          <a:xfrm>
            <a:off x="250920" y="333360"/>
            <a:ext cx="11286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onstanti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Constitución francesa de 1791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La protección de la casa familiar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CPR 1833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“La correspondencia epistolar es inviolable. No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podrá abrirse ni interceptarse, ni rejistrarse los papeles o efectos,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sino en los casos espresamente señalados por la lei.” (Artículo 147.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CPR 1925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Nº 12 La inviolabilidad del hoga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La casa de toda persona que habite el territorio chileno solo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puede ser allanada por un motivo especial determinado por la ley, y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en virtud de orden de autoridad competente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Nº 13 La inviolabilidad de la correspondencia epistolar y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telegráfica. No podrán abrirse, ni interceptarse, ni registrarse los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papeles o efectos públicos, sino en los casos expresamente 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Constantia"/>
              </a:rPr>
              <a:t>señalados por la ley;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 .-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l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Inviolabilidad del Hog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Inviolabilidad de las comunicacio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 Allanamiento e intercepta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Inviolabilidad del hog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) Concepto de “hogar”.  Diferencias con “domicilio”, “morada” y “residencia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* El domicilio en el Código Civ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) Fundamento: Protección de la “intimidad” (valor constitucional protegido). Relación con 19 nº 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- Inviolabilidad de comunicaciones privad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Todo tipo de medio de comunicación privada.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j., conversación telefónica. No limitada como en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1833 y 1925 (epistolar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Amplitud de la expresión “documento”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Este derecho frente a la tecnología ho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Ley  No 19.423 de 1995: introdujo tipos pe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(colisión entre privacidad y libertad de prensa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INVIOLABILIDAD DEL HOG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3.- Allanamiento e interceptación de comunicacio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asos y formas determinadas por la ley”. Legalidad de la persona que da la orden, quien la cumple y su oportun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ódigo procesal penal: Artículos 205 a 209; y 222 a 224: Diligencias de investigación; Autorización previa del Juez de Garant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 u="sng">
                <a:solidFill>
                  <a:srgbClr val="04617b"/>
                </a:solidFill>
                <a:uFillTx/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492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n virtud del artículo 20 de la Carta Fundamental, procede el recurso de protección para garantizar el derecho a la inviolabilidad del hogar y toda forma de comunicación privada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Funcionarios del Ministerio de Obras Públicas con Chevesich. Sobre la revisión de correos electrónicos como medida de investigación en el proceso MOP – GAT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19 Nº 6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La libertad de conciencia, la manifestación de todas las creencias y el ejercicio libre de todos los cultos</a:t>
            </a: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4" descr="logo_uchile"/>
          <p:cNvPicPr/>
          <p:nvPr/>
        </p:nvPicPr>
        <p:blipFill>
          <a:blip r:embed="rId1"/>
          <a:stretch/>
        </p:blipFill>
        <p:spPr>
          <a:xfrm>
            <a:off x="179280" y="189000"/>
            <a:ext cx="960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.-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 Antecedente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833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“La relijión de la República 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ES" sz="2000" spc="-1" strike="noStrike">
                <a:solidFill>
                  <a:srgbClr val="000000"/>
                </a:solidFill>
                <a:latin typeface="Constantia"/>
              </a:rPr>
              <a:t>de Chile es la Católica, Apostólica, Romana; con exclusión del ejercicio público de cualquier otra.” 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(Artículo 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(Institución del “patronato”)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ey interpretativa de 1865: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ermitió el ejercicio privado de otros cultos, que no fueran el católico, apostólico y roman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. Pol 1925: separación de la Iglesia y el Esta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Antecedentes (continuació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25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. consagra el derecho en términos muy similares a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actu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stitución de 1980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 solo modificaciones formales respecto a la redacción del año 1925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.-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Fundamento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En Estados Unido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Warren y Brandeis: “El derecho a l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rivacidad”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Harvard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(1890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Juez Cooley: “The right to be let alone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En Chil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ilva Bascuñan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“… S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i no se le deja al individuo ninguna 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intimidad, entonces la sociedad se va a masificar en una serie de 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individuos sin ninguna posibilidad de aportar algo de progreso, algo 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Constantia"/>
              </a:rPr>
              <a:t>de perfeccionamiento a la sociedad entera …”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(Sesión 129 de la 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tantia"/>
              </a:rPr>
              <a:t>Comisión de estudios para la nueva Constitución.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.- Conteni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 Libertad de conciencia y cul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  Estatuto constitucional de las instituciones dedicadas al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ul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Libertad de conciencia y cul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Concepto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amplio y restringido. (toda creencia – religios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fuero interno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Manifestación de todas las creenci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consagra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luralismo propio de la separación entre la iglesia y el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stado (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fuero externo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xpresión de la libertad de opin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Libre ejercicio de todos los culto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derecho desarrollad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y protegido por la Ley No 19.638 de 1999, sobr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nstitución Jurídica de las Iglesias y Organizacione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Religios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Limitaciones a la libertad anterior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la moral, buen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stumbres, orden público. Ejemplo: Sectas que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tentan contra la vida o la integridad fís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LIBERTAD DE CON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412640"/>
            <a:ext cx="8642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2.-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Estatuto constitucional de las instituciones dedicadas al culto religios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Derecho a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dificar templos, conservarlos  bajo l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normas legales de seguridad e higie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Exención de contribuciones a dependencias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Constantia"/>
              </a:rPr>
              <a:t>exclusivamente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” destinadas al cu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es-ES" sz="2400" spc="-1" strike="noStrike">
                <a:solidFill>
                  <a:srgbClr val="000000"/>
                </a:solidFill>
                <a:latin typeface="Constantia"/>
              </a:rPr>
              <a:t>Personalidad Jurídica de las iglesias en general: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e derecho públ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nte acciones u omisiones arbitrarias o ilegales que atenten contra el derecho a la libertad de conciencia, rige el recurso de protección en virtud del artículo 20 de la Constitució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ntencias releva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Transfusiones de sangre: en conflicto con el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recho a la vid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Película “La última tentación de Cristo”: en conflicto    con el derecho a la honr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B.-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Antecedente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No estaba en la Constitución de 192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venciones Internaciona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misión Estudio Nueva Constitución (CENC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sejo de Estado: Son “derechos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ersonalísimos” o del “patrimonio de l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ersonalidad”, pero no es absolut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.- 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Contenido de la norma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Respeto y protección de la vida priv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2.- Respeto y protección a la honra de la persona y de su famil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1.-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de la vida privada de las personas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recho de la personalidad, no puede ser vulnerado, salvo escasas excepcio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ceptos de “respeto”, “protección”, “vida privada” o “intimidad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 ordenamiento legal otorga protección a este derech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Respeto y protección a la honra de la persona y de su familia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cepto de “honor”. Sentido objetivo y subjetivo. (apreciación general – personal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oncepto de “honra” (honor en sentido objetivo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Honra de la “persona” (natural y jurídica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-  Honra de la familia . Sentido de “familia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.-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Protección legal del derecho a la privacidad y hon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ódigo Penal: artículo 412 a 420 que consagran los delitos de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injurias y de calumnia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 Código procesal penal (acción penal privad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628: Sobre protección de la vida privada o protección de datos de carácter personal. Artículo 12, crea la acción de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Habeas Data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ey 19.733: Sobre libertades de opinión e información y ejercicio del periodismo. Artículo 16 y siguientes, consagran el </a:t>
            </a:r>
            <a:r>
              <a:rPr b="1" i="1" lang="es-ES" sz="2400" spc="-1" strike="noStrike">
                <a:solidFill>
                  <a:srgbClr val="000000"/>
                </a:solidFill>
                <a:latin typeface="Constantia"/>
              </a:rPr>
              <a:t>derecho de aclaración y rectificación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atados Internacion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DERECHO A LA PRIVACIDAD Y A LA HONR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.-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Regulación constitucional, previa a la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nstantia"/>
              </a:rPr>
              <a:t>reforma del año 2005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contemplaba el respeto y protección a la vida “pública”, basado en el interés general que existía en conocer antecedentes de ciertas personas. Ejemplo, autoridades públic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Se regulaba la infracción a este precepto cometida a través de un medio de comunicación social. Se creaba el delito constitucional de </a:t>
            </a:r>
            <a:r>
              <a:rPr b="0" i="1" lang="es-ES" sz="2800" spc="-1" strike="noStrike">
                <a:solidFill>
                  <a:srgbClr val="000000"/>
                </a:solidFill>
                <a:latin typeface="Constantia"/>
              </a:rPr>
              <a:t>difamació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l derecho al respeto de la vida privada y honra de la persona y su familia, se encuentra tutelado por el recurso de protección en virtud del artículo 20 de nuestra Carta Fundament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Constantia"/>
              </a:rPr>
              <a:t>Sentencias relevantes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Luksic con Martorell por la publicación del libro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“Impunidad Diplomática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- Sindicato de Futbolistas con SALO editores. Por la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ublicación de un álbum con fotografías, sin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autoriz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6:36Z</dcterms:created>
  <dc:creator>usuario</dc:creator>
  <dc:description/>
  <dc:language>en-US</dc:language>
  <cp:lastModifiedBy>LEICA</cp:lastModifiedBy>
  <dcterms:modified xsi:type="dcterms:W3CDTF">2011-04-21T10:42:27Z</dcterms:modified>
  <cp:revision>71</cp:revision>
  <dc:subject/>
  <dc:title>DERECHO A LA PRIVACIDAD Y A LA   HONRA  (Art. 19 No 4)</dc:title>
</cp:coreProperties>
</file>