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E6D-706A-4E99-84FF-94250BD3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601-157D-419D-AA5B-7D417D70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04E-E63F-4361-8DE9-EE79A1D8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71E-5FDD-4624-8E87-0C6F1CAE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C57B-41E1-4783-865A-2D9C8078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67BC-90B1-4EB2-817E-1E73C571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82CF-580D-40A2-9943-BB178353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A469-4A72-4CA6-B9EC-6C928655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8A4C-66BE-483A-B173-7C532E37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28CF-3280-48F1-BF61-0BE887AA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7F9D-E9D1-4463-B197-E9AE8712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4E5-118F-491C-BCF4-7AB8E15E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3534-1A30-445D-B095-CD1B0FA7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D272-1DB4-48D5-BDA2-4EA55EB9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5725-3E56-40CC-A9AB-50975A6D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A3CA-3208-461E-B61D-4B481599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420F-7C18-4F30-9C36-B7FD2EBF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A8CF5-FA42-4CE2-9833-594E3B74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A65C-93B7-40F1-B396-B07C2AD3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51ED-6455-40EA-84E3-7DE15B50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8BDD-F701-4D79-AE3C-8E204D85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5590-D6C7-43F0-A1E5-8F548731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70DF-226D-487A-9AD2-CE4B6F59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D19EF-941E-4351-973C-64639E32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B71B9-623C-4A7A-AB6C-93DADC30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780A-F245-4719-A173-D5958B76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2373B-E361-42B8-AB3C-A9DAF440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A660-76EA-49A4-813B-CDAB0DD4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FC0B8-C6E2-4B89-979E-388411CE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5C38-DCAA-4880-8D0B-DEF87E3E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E6AB-CF89-4326-9707-F526A00D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AF04-1BD5-43EB-AF6A-8C53D3D5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B8A3F-3CCD-4843-B56C-D8405702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155-0C08-4E5C-88F2-E3E513DE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1043-DFAF-4672-BE27-D5D5F029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DBE7-F3E7-49CD-BA2A-E9FCA87A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E0A4D-5B3A-44C3-B06E-3C5AC668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AD0B-DDE6-4C42-99B6-58F76AEA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775FD-6816-4A54-814E-D6202EA3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BA317-A93C-4002-9988-D019822F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4F9DC-936D-4389-871A-535942D3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48668-F2F3-41A5-8EE5-5F3375AC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15E7-ADAD-4F08-B56D-1631C739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7C9-270B-4AE0-9F54-486F470D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10BF-7965-4432-8450-6706CD6F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451-52AA-4FCD-BC02-B1DD9926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E6A-74D4-45BD-8DB9-EBD4378F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88F-87FC-42C3-9463-4BB52B82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312-D6FF-40E4-B79C-B3443DE814DB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D9F2-C4DA-4721-8E4F-8157CE562667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B716-71B1-42E0-AEDD-C87079C6B5A5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5DE7-2744-47A6-A992-1657F22BC5E7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4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respeto y protección a la vida privada y a la honra de la persona y su familia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6" descr="logo_uchile"/>
          <p:cNvPicPr/>
          <p:nvPr/>
        </p:nvPicPr>
        <p:blipFill>
          <a:blip r:embed="rId1"/>
          <a:stretch/>
        </p:blipFill>
        <p:spPr>
          <a:xfrm>
            <a:off x="179280" y="260280"/>
            <a:ext cx="10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5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inviolabilidad del hogar y de toda forma de comunicación privada.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4" descr="logo_uchile"/>
          <p:cNvPicPr/>
          <p:nvPr/>
        </p:nvPicPr>
        <p:blipFill>
          <a:blip r:embed="rId1"/>
          <a:stretch/>
        </p:blipFill>
        <p:spPr>
          <a:xfrm>
            <a:off x="250920" y="333360"/>
            <a:ext cx="112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Constitución francesa de 1791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La protección de la casa familiar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CPR 1833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“La correspondencia epistolar es inviolable. No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podrá abrirse ni interceptarse, ni rejistrarse los papeles o efectos,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sino en los casos espresamente señalados por la lei.” (Artículo 147.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CPR 1925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Nº 12 La inviolabilidad del hoga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La casa de toda persona que habite el territorio chileno solo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puede ser allanada por un motivo especial determinado por la ley, y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en virtud de orden de autoridad competen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Nº 13 La inviolabilidad de la correspondencia epistolar y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telegráfica. No podrán abrirse, ni interceptarse, ni registrarse los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papeles o efectos públicos, sino en los casos expresamente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señalados por la ley;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Inviolabilidad del Ho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Inviolabilidad de las comunicacio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 Allanamiento e intercept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Inviolabilidad del hog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) Concepto de “hogar”.  Diferencias con “domicilio”, “morada” y “residenci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* El domicilio en el Código Civ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) Fundamento: Protección de la “intimidad” (valor constitucional protegido). Relación con 19 nº 4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Inviolabilidad de comunicaciones privad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Todo tipo de medio de comunicación privada.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j., conversación telefónica. No limitada como en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833 y 1925 (epistolar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Amplitud de la expresión “documento”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Este derecho frente a la tecnología ho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Ley  No 19.423 de 1995: introdujo tipos pe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(colisión entre privacidad y libertad de prensa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Allanamiento e interceptación de comunicacio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sos y formas determinadas por la ley”. Legalidad de la persona que da la orden, quien la cumple y su oport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ódigo procesal penal: Artículos 205 a 209; y 222 a 224: Diligencias de investigación; Autorización previa del Juez de Garant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492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n virtud del artículo 20 de la Carta Fundamental, procede el recurso de protección para garantizar el derecho a la inviolabilidad del hogar y toda forma de comunicación privada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Funcionarios del Ministerio de Obras Públicas con Chevesich. Sobre la revisión de correos electrónicos como medida de investigación en el proceso MOP – GAT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6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libertad de conciencia, la manifestación de todas las creencias y el ejercicio libre de todos los cultos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4" descr="logo_uchile"/>
          <p:cNvPicPr/>
          <p:nvPr/>
        </p:nvPicPr>
        <p:blipFill>
          <a:blip r:embed="rId1"/>
          <a:stretch/>
        </p:blipFill>
        <p:spPr>
          <a:xfrm>
            <a:off x="179280" y="189000"/>
            <a:ext cx="960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.-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 Anteceden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833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“La relijión de la República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de Chile es la Católica, Apostólica, Romana; con exclusión del ejercicio público de cualquier otra.”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(Artículo 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(Institución del “patronato”)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ey interpretativa de 1865: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ermitió el ejercicio privado de otros cultos, que no fueran el católico, apostólico y roman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. Pol 1925: separación de la Iglesia y el Esta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ntecedentes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25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 consagra el derecho en términos muy similares 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actu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80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solo modificaciones formales respecto a la redacción del año 1925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Fundament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En Estados Unido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Warren y Brandeis: “El derecho a l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rivacidad”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arvard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(1890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Juez Cooley: “The right to be let alone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En Chil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ilva Bascuña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“… S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i no se le deja al individuo ninguna 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intimidad, entonces la sociedad se va a masificar en una serie de 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individuos sin ninguna posibilidad de aportar algo de progreso, algo 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de perfeccionamiento a la sociedad entera …”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(Sesión 129 de la 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Comisión de estudios para la nueva Constitución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.- Conten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Libertad de conciencia y cul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 Estatuto constitucional de las instituciones dedicadas al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ul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ibertad de conciencia y cul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ncept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amplio y restringido. (toda creencia – religios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fuero interno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Manifestación de todas las creenci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consagra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luralismo propio de la separación entre la iglesia y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stado (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fuero extern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presión de la libertad de opin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Libre ejercicio de todos los culto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derecho desarrollad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y protegido por la Ley No 19.638 de 1999, sobr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ón Jurídica de las Iglesias y Organizacione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eligios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Limitaciones a la libertad anterior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la moral, buen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stumbres, orden público. Ejemplo: Sectas qu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tan contra la vida o la integridad fís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141264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statuto constitucional de las instituciones dedicadas al culto religio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Derecho a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dificar templos, conservarlos  bajo l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normas legales de seguridad e higi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xención de contribuciones a dependenci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xclusivament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” destinadas al cu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ersonalidad Jurídica de las iglesias en general: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 derecho públ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nte acciones u omisiones arbitrarias o ilegales que atenten contra el derecho a la libertad de conciencia, rige el recurso de protección en virtud del artículo 20 de la Constitu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Transfusiones de sangre: en conflicto con el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recho a la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elícula “La última tentación de Cristo”: en conflicto    con el derecho a la honr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estaba en la Constitución de 19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misión Estudio Nueva Constitución (CENC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sejo de Estado: Son “derechos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ersonalísimos” o del “patrimonio de l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ersonalidad”, pero no es absolut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Respeto y protección de la vida priv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Respeto y protección a la honra de la persona y de su famil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de la vida privada de las person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recho de la personalidad, no puede ser vulnerado, salvo escasas excepcio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ceptos de “respeto”, “protección”, “vida privada” o “intimidad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 ordenamiento legal otorga protección a este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a la honra de la persona y de su familia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cepto de “honor”. Sentido objetivo y subjetivo. (apreciación general – persona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cepto de “honra” (honor en sentido objetivo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Honra de la “persona” (natural y jurídica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 Honra de la familia . Sentido de “familia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.-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rotección legal del derecho a la privacidad y hon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ódigo Penal: artículo 412 a 420 que consagran los delitos de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injurias y de calumni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 Código procesal penal (acción penal privad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628: Sobre protección de la vida privada o protección de datos de carácter personal. Artículo 12, crea la acción de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Habeas Data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733: Sobre libertades de opinión e información y ejercicio del periodismo. Artículo 16 y siguientes, consagran el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derecho de aclaración y rectificació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atados Internacion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.-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Regulación constitucional, previa a l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reforma del año 2005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contemplaba el respeto y protección a la vida “pública”, basado en el interés general que existía en conocer antecedentes de ciertas personas. Ejemplo, autoridades públic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regulaba la infracción a este precepto cometida a través de un medio de comunicación social. Se creaba el delito constitucional de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difama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derecho al respeto de la vida privada y honra de la persona y su familia, se encuentra tutelado por el recurso de protección en virtud del artículo 20 de nuestra Carta Fundament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Luksic con Martorell por la publicación del libr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Impunidad Diplomática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Sindicato de Futbolistas con SALO editores. Por l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ublicación de un álbum con fotografías, sin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utoriz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6:36Z</dcterms:created>
  <dc:creator>usuario</dc:creator>
  <dc:description/>
  <dc:language>en-US</dc:language>
  <cp:lastModifiedBy>LEICA</cp:lastModifiedBy>
  <dcterms:modified xsi:type="dcterms:W3CDTF">2011-04-21T10:42:27Z</dcterms:modified>
  <cp:revision>71</cp:revision>
  <dc:subject/>
  <dc:title>DERECHO A LA PRIVACIDAD Y A LA   HONRA  (Art. 19 No 4)</dc:title>
</cp:coreProperties>
</file>