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11E-948D-4D98-83DE-FC717574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33A-EF0E-4508-9BBF-A1BF24FA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808-87A3-4C87-8B9D-15071756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E21-2FB1-4F7D-96E2-A8112C09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A9EF-812B-4E0C-8544-983F6CE4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B4C6-2ABD-42C5-B619-684E8DB1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DE89-BB19-473A-9ABB-C7B01C4D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A6CD-934A-4586-A4A1-6B570DFF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2629-7FCB-4693-B933-A601D068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C3F9-0469-4C23-9E2D-2C69B7D9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60B9-BA3E-4C77-BF14-155226B0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ECE-4917-4A1C-9ED3-C5515C11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D899-8D90-47B4-A859-2FE797CC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34DF-5640-4514-9069-6E4A799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8D6A-83FB-4344-9EC4-96DD14ED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D114-11AC-4873-84D7-53C573DC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3907-6A80-474C-8371-A3CB2EE3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19318-93FA-4EFA-B3A1-64AF3A67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60A5-CA52-41DD-9C5A-FC49D8CD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02972-A0F2-4CC9-BA43-A60841C3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1DBEA-9275-4DC9-9074-4363EDA6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9287-244E-4789-87B6-C7A27CD2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EDC-8D70-4A56-A810-A6679DC3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01C8-CD01-47E3-83B0-775C5ACE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0D476-FCE0-46D6-B28A-AF1A9157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55D9F-BD5C-4F09-9AD6-2775F40A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3604-2955-4C24-ADA7-C74D6EFF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61F35-C584-4B17-B7D4-68713FC4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525B8-1870-4FFE-BC60-ADABACC2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A963-2180-4D2E-B4B5-7CD2BA3F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38356-7A29-4901-8E66-212B6270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7FFF6-E5DB-4519-94E0-92012E68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5804D-CE36-4F2E-B1E4-03272C4E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705-CE97-48FD-8824-98AB3ECD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9C8EB-52A7-4F69-9644-E1331E49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B55D8-572E-4A2C-A8CE-8C266350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C9824-DC05-4380-9390-B718A113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F6875-26FC-418C-BDC9-652B2EF6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648B6-F09F-4DB6-ADE1-081C8805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C2D5-01E0-4250-8220-1C91348F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7423E-4703-4D2B-B31F-F29D79C7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98C9-ED93-4DF3-BAB7-EE0CDA53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C9C1-347D-4DCA-BB2D-9C322BF2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900-15FA-4062-8BF9-D0CE6996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B80-BA5E-4CBA-A14A-EFD4FF38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5E8-0EC8-4BFE-B609-A6855D94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67B-680E-4D28-B803-DE61024E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149-FA65-4686-BBA8-6A5633E6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1E2C-882D-4E5C-9828-77F0451B74ED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B02C-0AC0-4D64-8572-89E66CBE9C0B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A74A-B257-47D7-B7D4-FADF998E765C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C81A-6CCD-43B8-821E-911C0B08E467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ES" sz="4500" spc="-1" strike="noStrike" u="sng">
                <a:solidFill>
                  <a:srgbClr val="04617b"/>
                </a:solidFill>
                <a:uFillTx/>
                <a:latin typeface="Calibri"/>
              </a:rPr>
              <a:t>19 Nº 2</a:t>
            </a:r>
            <a:br>
              <a:rPr sz="4500"/>
            </a:br>
            <a:br>
              <a:rPr sz="1300"/>
            </a:b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gualdad ante la Ley</a:t>
            </a:r>
            <a:br>
              <a:rPr sz="4500"/>
            </a:br>
            <a:br>
              <a:rPr sz="4500"/>
            </a:br>
            <a:br>
              <a:rPr sz="45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200"/>
            </a:br>
            <a:r>
              <a:rPr b="0" lang="es-ES" sz="22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8" descr="logo_uchile"/>
          <p:cNvPicPr/>
          <p:nvPr/>
        </p:nvPicPr>
        <p:blipFill>
          <a:blip r:embed="rId1"/>
          <a:stretch/>
        </p:blipFill>
        <p:spPr>
          <a:xfrm>
            <a:off x="324000" y="333360"/>
            <a:ext cx="11001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560" y="191736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Orige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claración de los Derechos del H. y del Ciudadano. 1789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corporación al constitucionalismo y al régimen democrát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Reconocimiento en las Constituciones Políticas y Convencion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-    Concepto originario: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“Sometimiento de todas las personas a un mismo estatuto jurídico fundamental para el ejercicio de sus derechos y para el cumplimiento de sus deberes, sin que sea procedente efectuar entre ellas distinciones favorables o adversas en razón de raza, nacionalidad, sexo, profesión grupo social o económico a que se pertenezca” (Evan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claración Univ. DD.HH.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acto internacional de derechos civiles y políticos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acto de derechos económicos sociales y cultural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vención americana de DD.HH.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vención internacional sobre eliminación de todas las formas de discriminación racial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vención sobre la eliminación  de todas las formas de discriminación contra la mujer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vención sobre los derechos del niñ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50920" y="1773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Igualdad ante la ley en Chil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iene reconocimiento desde el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Reglamento Provisorio de 1812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, en adelante, sin excep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agración actual (art. 19 Nº 2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novaciones en relación a la Constitución Política 1925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La igualdad ante la ley. En Chile no hay clase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privilegia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n Chile no hay esclavos, y el que pise su territorio,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queda libre. No puede hacerse este tráfico por chilenos.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l extranjero que lo hiciere, no puede habitar en Chile, ni 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acionalizarse en la República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Artículo 10 nº1, Constitución de 1925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a igualdad es un principio rector que rige todo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ordenamiento jurídico. Ejempl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  Alcances e interpretación de la norm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Expresión de una igualdad “sociológica” (revisar el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cepto originari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* No existe igualdad absolu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Expresión del principio de la “generalidad” (fallo Cort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uprema de 194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4.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Mandat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constitucional al legislador y a la autoridad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Ni la ley ni autoridad alguna podrán establecer diferencias arbitrari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112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Control jurídico a favor del principio de supremací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onal y del derecho de igualdad.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 - - - -  -  Mecanismos de defensa contra las infracciones o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gravios.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IGUALDAD ANTE LA L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ohibición de discriminaciones </a:t>
            </a:r>
            <a:r>
              <a:rPr b="1" i="1" lang="es-ES" sz="2600" spc="-1" strike="noStrike">
                <a:solidFill>
                  <a:srgbClr val="000000"/>
                </a:solidFill>
                <a:latin typeface="Constantia"/>
              </a:rPr>
              <a:t>arbitrarias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(no fundadas en la razón, caprichosas, falto al bien común) CEN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19.585 eliminación de la distinción entre hijos legítimos e ilegítim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iscriminación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no arbitraria.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jemplo: Exención tributaria a una determinada zona geográfica o la discriminación del artículo 19 y 20 del Código del Traba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prohibido es hacer diferencias entre iguales, mas no entre distintos (CENC y jurisprudencia de Corte Suprema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numeral 2º del artículo 19 está garantizado por el recurso de protección y,  gracias a su amplitud, es utilizado como instrumento para cautelar otros derechos constitucionales no tutelados por esta acción. Ejemplo, derecho a la educ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bunal Constitucional, inaplicabilidad por inconstitucionalidad del Art. 595 del COT, que establece la institución del abogado de turno (Rol 755-2007, TC. Marzo 2008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Fallo de la cuarta sala de la Corte Suprema, que priva de la tuición de tres menores a madre homosexual. (jueza Karen Atala, CS200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3:46:14Z</dcterms:created>
  <dc:creator>usuario</dc:creator>
  <dc:description/>
  <dc:language>en-US</dc:language>
  <cp:lastModifiedBy>LEICA</cp:lastModifiedBy>
  <dcterms:modified xsi:type="dcterms:W3CDTF">2011-04-21T10:37:44Z</dcterms:modified>
  <cp:revision>60</cp:revision>
  <dc:subject/>
  <dc:title>IGUALDAD ANTE LA LEY</dc:title>
</cp:coreProperties>
</file>