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203-4902-4DEB-AFFE-FD0521AD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6D8-AF77-4EDC-A96F-FE7252B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7F1-97EE-4B1F-80CA-454D737F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63C-5D62-4D3F-A9B8-06B35D99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C9F-40DB-483C-B9AC-8BEEFB39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624-C581-4118-845B-12518782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5408-FCFC-42DB-8965-2C1A839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A65A-C10C-471A-89AA-DA99D24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AFF5-4E56-4E53-B9FF-EBA9AB75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BDC9-C817-4550-80B8-8C48737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C138-C06B-445D-9E82-CD40734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F47-0773-4377-809A-A336D56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EDF7-FCF7-4082-8528-CAAADAC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B4EF-645D-43D9-8A49-A473F26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C165-6858-461D-AEF7-F68B023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0450-9BB1-4136-8FA2-299416F8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848A-3EF1-49C1-BD29-CD67529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1C78-BE07-4D0D-AAEC-10C2EBF0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FF47-A787-4B68-AFF8-6179A98E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6EDB-ABB9-4D12-884D-016802B7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0586-F58D-44A9-8371-656E44F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7FF6-8166-49AE-A605-C2E6C71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953-EE7A-4F47-BEF0-7D370FB0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F33A-92C0-49BF-A0C1-813778ED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3C4F-A048-494C-800B-F840088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97C4-2DB0-44EE-B139-EBA052F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715D-1B3C-4E06-AA78-90CE3594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4B7C-79B0-4A21-8763-749B426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AB66-15E6-48D8-82C2-BC3CBB0E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74F0-74BA-4C68-ADCF-F3C91AAF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4EDF-B536-4BEB-9518-81C1ABC3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549D-BB44-47B6-A78B-902AA52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1044-9896-4AAF-B3BA-7BE8836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D58-4910-42DC-A807-4421AAB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CFCE-2DF7-4478-B8A1-94C75FD3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8A2E-BF80-4474-B95F-ECE6EFA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2A247-C686-4787-9CE9-F8FBD5B7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7898-B328-4BFE-A53A-138F283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7B66-E8EC-4917-B22D-F9A9D75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BFE5-4138-4946-ACB0-CC0F87F7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06F5-0DE8-4B7A-80A2-4BE99D4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007F-5B13-4600-8A71-20E0455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38A1-9332-4C96-9765-CAB9E1C3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A44-08BD-407F-8A3D-5C22617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9B2-D0E2-4940-9BB4-26A1FA45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652-8062-490D-BFAC-D930B89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CCB-7C53-469F-8935-CA49F71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83F-2670-449F-A3E2-2261407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F4CC-706B-47BF-A023-82C742418FA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2633-6938-4F74-A024-0A711D998FA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4A9C-127D-472D-8065-E2FBBBAF1D8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D2B-2E3C-434C-94E2-9A9388CBCA2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1736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de los Derechos del H. y del Ciudadano. 1789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orporación al constitucionalismo y al régimen democrát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conocimiento en las Constituciones Políticas y Convencio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  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 (Eva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Univ. DD.HH.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internacional de derechos civiles y político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de derechos económicos sociales y cultural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americana de DD.HH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internacional sobre eliminación de todas las formas de discriminación raci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a eliminación  de todas las formas de discriminación contra la mujer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ene reconocimiento desde el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Reglamento Provisorio de 1812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en adelante, sin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0 nº1, Constitución de 1925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 Ejempl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 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 (revisar el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 originari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i la ley ni autoridad alguna podrán establecer diferencias arbitrar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- - - -  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c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LEICA</cp:lastModifiedBy>
  <dcterms:modified xsi:type="dcterms:W3CDTF">2011-04-21T10:37:44Z</dcterms:modified>
  <cp:revision>60</cp:revision>
  <dc:subject/>
  <dc:title>IGUALDAD ANTE LA LEY</dc:title>
</cp:coreProperties>
</file>