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AB8-8227-4B03-8833-8B2F4A4F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3F9-2093-4206-BCED-14C2D0DB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2B1-73E4-40CF-9000-406ED614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897-05DB-4529-908D-0A79F8CA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3F98-6242-4029-A11B-96F546AE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72CB-4429-4C9A-AF57-3E75B3AC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FCE0-E036-4107-8ED3-E205B63A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4AFA-2692-4FEB-B01D-9B16559D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C1F-98D6-43DD-8280-CB4B36BE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D03E-5CEA-4F8E-9F80-4AA36B74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4C27-357C-4213-8804-076E6567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FC3-F645-4554-ADB8-8940DACD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55A4-4FAE-46CB-A974-13C8B40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E085-2D0F-4D4D-AD15-B87B81C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4780-CF38-49CD-86D2-A0A80EB8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044A-E6E9-48B3-81E0-D54084AD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E8E4-B613-4EED-8CDA-AB04B1EF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7038-36B5-4486-8E53-BD341557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4D6F-E8F2-4081-937F-AC59A08F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E8AA4-1812-4156-B295-1C467CB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4CDF-91DD-4179-AD64-0FA648FF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CDE7-CE0A-4DEA-8248-2D5B9FF2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B37-878D-41CE-892B-BEDC22D7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F4A2-3A9C-4EAF-A737-2151C2C6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504E1-2D4B-4765-860F-5582B0C0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3C3D-8793-43DC-8B7D-CF7E7126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4C50-B752-4DC2-B19D-ACD1C264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EEDD-71D4-4A24-82F5-25D5A6F6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500B-5738-4D93-A37D-8C0430A2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A464-80B2-4DCA-BF1E-6FFB032C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211B-8CD6-497F-9C4C-3B89CB0E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9175-CECD-454E-8956-D0872BA4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FD1E4-7328-440B-A8AC-3A71EEAC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A27-C2B4-42BA-AA57-FA92DEDA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4663-F902-42A1-9823-D8D6F2D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BD1F-6678-4BD6-8E78-1C3F9AA1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33DF0-3CE6-43A5-8AC3-911835A4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EFB4-C078-47A0-B52F-6235CF0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1170-DB70-4944-9512-C164896C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4F94-88B9-43E0-A4C3-263AC95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E09B7-BD46-418F-BD91-209E16E9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52962-4233-4EA7-A1FD-2AA01EF9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DC63-4208-4C67-9520-D72C10C5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3A2-9B4C-46EC-9800-EF65E825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E12-897A-40ED-B6E3-A795838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729-7165-466C-940E-276262C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367-8360-4541-9AFB-3B9CDAE4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F31-EF50-427A-8355-ECE8F24A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19C3-5E49-46B9-A340-A552418D9AB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1F8C-E11C-4618-BE34-06F739854AB0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170B-A872-4616-9AFE-F7DBA85C9BBF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71AD-5693-4EA6-92DA-8B8DE5A4411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 u="sng">
                <a:solidFill>
                  <a:srgbClr val="04617b"/>
                </a:solidFill>
                <a:uFillTx/>
                <a:latin typeface="Calibri"/>
              </a:rPr>
              <a:t>19 Nº 2</a:t>
            </a:r>
            <a:br>
              <a:rPr sz="4500"/>
            </a:br>
            <a:br>
              <a:rPr sz="13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gualdad ante la Ley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1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91736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Orige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claración de los Derechos del H. y del Ciudadano. 1789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corporación al constitucionalismo y al régimen democrát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conocimiento en las Constituciones Políticas y Convencion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   Concepto originario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“Sometimiento de todas las personas a un mismo estatuto jurídico fundamental para el ejercicio de sus derechos y para el cumplimiento de sus deberes, sin que sea procedente efectuar entre ellas distinciones favorables o adversas en razón de raza, nacionalidad, sexo, profesión grupo social o económico a que se pertenezca” (Eva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claración Univ. DD.HH.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acto internacional de derechos civiles y políticos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acto de derechos económicos sociales y cultural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americana de DD.HH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internacional sobre eliminación de todas las formas de discriminación racia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sobre la eliminación  de todas las formas de discriminación contra la mujer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sobre los derechos del niñ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92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Igualdad ante la ley 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iene reconocimiento desde el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Reglamento Provisorio de 1812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, en adelante, sin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agración actual (art. 19 Nº 2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novaciones en relación a la Constitución Política 1925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a igualdad ante la ley. En Chile no hay clase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privilegia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Chile no hay esclavos, y el que pise su territorio,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queda libre. No puede hacerse este tráfico por chilenos.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l extranjero que lo hiciere, no puede habitar en Chile, ni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acionalizarse en la República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10 nº1, Constitución de 1925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igualdad es un principio rector que rige todo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ordenamiento jurídico. Ejempl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 Alcances e interpretación de la norm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 una igualdad “sociológica” (revisar el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 originari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* No existe igualdad absolu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l principio de la “generalidad” (fallo Cort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prema de 194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4.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Mandat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onal al legislador y a la autoridad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i la ley ni autoridad alguna podrán establecer diferencias arbitrari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Control jurídico a favor del principio de supremací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onal y del derecho de igualdad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- - - -  -  Mecanismos de defensa contra las infracciones 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gravios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hibición de discriminaciones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arbitrari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(no fundadas en la razón, caprichosas, falto al bien común) CEN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585 eliminación de la distinción entre hijos legítimos e ilegítim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criminación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no arbitraria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jemplo: Exención tributaria a una determinada zona geográfica o la discriminación del artículo 19 y 20 del Código del Tr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prohibido es hacer diferencias entre iguales, mas no entre distintos (CENC y jurisprudencia de Corte Suprema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numeral 2º del artículo 19 está garantizado por el recurso de protección y,  gracias a su amplitud, es utilizado como instrumento para cautelar otros derechos constitucionales no tutelados por esta acción. Ejemplo, derecho a la educ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bunal Constitucional, inaplicabilidad por inconstitucionalidad del Art. 595 del COT, que establece la institución del abogado de turno (Rol 755-2007, TC. Marzo 200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Fallo de la cuarta sala de la Corte Suprema, que priva de la tuición de tres menores a madre homosexual. (jueza Karen Atala, CS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3:46:14Z</dcterms:created>
  <dc:creator>usuario</dc:creator>
  <dc:description/>
  <dc:language>en-US</dc:language>
  <cp:lastModifiedBy>LEICA</cp:lastModifiedBy>
  <dcterms:modified xsi:type="dcterms:W3CDTF">2011-04-21T10:37:44Z</dcterms:modified>
  <cp:revision>60</cp:revision>
  <dc:subject/>
  <dc:title>IGUALDAD ANTE LA LEY</dc:title>
</cp:coreProperties>
</file>