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374-0452-4B05-AA9E-13C74B6B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3CD-2382-4911-9637-B33D2D44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DBD-0C7B-4E65-AB64-E8C3EC17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3682-EE23-4892-AAD5-DF13BFDE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6682-6AC1-48E7-8D93-FDAEDD79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9FCB-78FF-4D72-8978-8D534A55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6444-6741-4245-8BCA-5C7D68A9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B445-B737-4AAB-83CF-3F15303A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2DBC-BE9B-47E4-BE93-A24D00C3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1623-0F45-4419-A2A2-EF3E94E8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52C9-5FF4-4E38-9409-873F24DC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947D-F00E-4766-8F4B-6E0A279D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3203-87DF-4D82-A7A6-D2CEEE8F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8453-6CC0-4EFC-9FA4-F63052F1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575B-AA6C-4BCD-89DE-D49E7D2D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2E61-72F8-4201-ACEF-F26A6D98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3431-A757-441E-8804-69BD3372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66FE4-E8A9-4E62-8F70-41904978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8A3A9-803B-4B64-AEBC-60202EA3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79FE3-1CC7-4552-923A-F5544B0C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58DEA-538F-4900-8D6F-A16B7808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586F9-D292-424E-A8CC-7DFF87A3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1271-745B-4542-B631-567A6464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70F53-9ED8-458E-8748-E40C6E38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0139B-3DB7-4311-8FD8-0CD51EA4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3FEAD-C51E-4DEB-A972-C6B24D10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882ED-E886-457A-BA81-B80B0F12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4C25D-F0A8-405E-9CC9-9111FBB9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0ACEB-9A90-4889-8735-2F716880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2EEBF-FCCD-42EF-BBFD-BA7293E2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B54AF-5A43-4B5C-A00A-1686AE3C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02EDA-C42C-4B9E-B9E7-8889DAC4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D6C93-27FE-4133-ABAC-C6D8FF4B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AE0-2D61-4836-8DEE-3F207E67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C3365-4114-461F-A21C-02A526E7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35310-E84C-4DB1-B88E-E59B7DAB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81693-18D1-432E-899F-BCC8A7D2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4C46B-CADE-43DF-BE51-C6D806B8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6DDF4-6A39-4F0F-843E-4C91138E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ACA0E-C190-4E54-A42C-C2E63907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D25FE-0DA0-4FE1-A53F-2B626AF5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232CC-7D52-4BB1-97AC-01214996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FADFB-EA65-40E2-B4DE-B0E7EF39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2B8-DB0D-481D-ABA7-8A7ED11E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98D-C69C-4048-B59E-9F2CFBE0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A12-6290-48B3-9E30-ECFA727B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1F5C-B3E0-414E-A172-71ABDFD4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B7F-1BB6-4C8A-A21B-FEAB9A9D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49F7-F916-4C9A-A291-CC00DE0F84BE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62BB-5378-4AD6-BABC-EB1EB9770468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5240-6728-498E-B452-D47443A4765B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8F7D-461F-424E-A8BE-8CE051137E17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1640" y="1052640"/>
            <a:ext cx="727236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Artículo 19 nº 1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El derecho a la vida y a la integridad física y psíquica de la persona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11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773000"/>
            <a:ext cx="8147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7" descr="logo_uchile"/>
          <p:cNvPicPr/>
          <p:nvPr/>
        </p:nvPicPr>
        <p:blipFill>
          <a:blip r:embed="rId1"/>
          <a:stretch/>
        </p:blipFill>
        <p:spPr>
          <a:xfrm>
            <a:off x="250920" y="189000"/>
            <a:ext cx="10587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85104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4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APREMIOS ILEGITIM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31768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ntecedentes y alcance de la nor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Apremios legítimos / ilegítimos. Ejemplo: deten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mplitud de la norma: no admite excepci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Caso especial de la Tortura como el apremio ilegítimo mas gra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Importancia de las convenciones internacionales. “Convención internacional contra la tortura y otros tratos o penas crueles, inhumanas o degradantes” de las Naciones Unidas, 1984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¿Excepción: Derecho Penal del Enemig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90792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8360" y="2349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l Derecho a la Vida reconocido en el art. 19 Nº 1 se encuentra resguardado por el Recurso de Protección establecido en el artículo 20 de la Constitu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Sentencias relevan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Píldora del día despué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Transfusiones de sang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Evacuación a habitantes de Chaité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8330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DERECHO  A  LA  VID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16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Antecede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ste derecho no se encontraba en la Constitución de 1925 ya que se consideraba como un presupues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Influencia de las declaraciones internacionales: Hacen patente la importancia que tiene la estipulación expresa de este derecho</a:t>
            </a: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(Declaración Universal de DD.HH.; Convención Americana de DD.HH.; Convenios de Ginebra; Pacto Internacional de derechos civiles y políticos; Convención de derechos del niñ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Reconocimiento explícito del derecho en la Constitución de 1980, artículo 19 nº 1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993240"/>
            <a:ext cx="77151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DERECHO A LA VID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9280" y="1844280"/>
            <a:ext cx="820908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Temas que se distinguen en este derecho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1. La vida y la integridad física y psíquica de la person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2. La ley protege la vida del que está por nac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3. La pena de muer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4. Apremios ilegítim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1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VIDA Y LA INTEGRIDAD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ISICA Y PSIQUIC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)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lcance de la nor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b)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La vida humana es un bien jurídico al igual que la libertad, la propiedad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)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l derecho objetivo debe otorgar protección a este bien jurídico  subjetivo. (Código Penal, Código Civil, legislación laboral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) Jurisprudenci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eber de protección del marido respecto de su mujer (C.Stgo.199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Fallo del Tribunal Constitucional ante el requerimiento de inconstitucionalidad del DS n° 48 del Ministerio de Salud “Normas nacionales sobre regulación de fertilidad” (Píldora del día después) (TC. 200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Medida de protección”(C.Valpso.1994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Transfusión sanguínea” (C.Suprema 1992,1995, 1996, 1979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Recurso de Protección para la evacuación de  la ciudad de Chaitén” (C de Puerto Montt, 200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836640"/>
            <a:ext cx="75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1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VIDA Y LA NTEGRIDAD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ISICA Y PSIQUICA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052640"/>
            <a:ext cx="785988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2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LEY PROTEGE LA VIDA DEL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QUE ESTÁ POR NACE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360" y="199872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) Antecedent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Artículo 75 Código Civi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Convención Americana de DD.HH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: “Este derecho estará protegido por la ley y, en general, a partir del momento de la concepción” (artículo 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b) Doble encargo al legislad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) El aborto y el derecho a la vid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rtículo 342  a 345 del Código Pe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ódigo Sanitario antes de 1989: “Sólo con fines terapéuticos se podrá interrumpir un embarazo…” …”opinión documentada de dos médicos cirujanos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Ley 18.826 de 1989: “No podrá ejecutarse ninguna acción cuyo fin sea provocar el aborto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2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LEY PROTEGE LA VIDA DEL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QUE ESTÁ POR NACER (cont.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2463480"/>
            <a:ext cx="856908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) Importancia de la determinación del inicio de la existencia humana o comienzo de la vi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Incidencia de los descubrimientos bi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Teorías al respecto: Concepción, anidación,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viabilidad, desarrollo del sistema nervioso, auto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suficiencia, nacimien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¿En donde comienza la protección legal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049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3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PENA DE MUERT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4000" y="2060640"/>
            <a:ext cx="8686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La pena de  muerte sólo podrá establecerse por delito contemplado en ley aprobada con quórum calificado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)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l constituyente de 1980 tiende a la restricción en la aplicación de la pena de muerte, poniendo como requisito, su estipulación con quórum califica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b)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Polémica ético-jurídico y tendencia internacional hacia su aboli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3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PENA DE MUERTE (cont.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) Antecedentes de su regulació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C. Penal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; Código de Justicia Militar; D.T Nº1 C.Pol.1980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L.Q.C.18.314 de 1984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“Conductas terroristas”, modificada por leyes de 1990 y 1991 que rebajaron penas y derogaron conduct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L.Q.C. 19.734 de 2001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la reemplazó por presidio perpetuo derogándola en la práctica (adecuación a Tratados de DD.HH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) Problemas jurídicos en torno la muerte e importancia jurídica del momento en que se produce. Derecho de la persona a disponer de su propio cuerpo. Ley de Trasplantes.  La Bioéti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18:58:32Z</dcterms:created>
  <dc:creator>usuario</dc:creator>
  <dc:description/>
  <dc:language>en-US</dc:language>
  <cp:lastModifiedBy>usuiario</cp:lastModifiedBy>
  <dcterms:modified xsi:type="dcterms:W3CDTF">2011-03-10T10:54:48Z</dcterms:modified>
  <cp:revision>31</cp:revision>
  <dc:subject/>
  <dc:title>DERECHO  A  LA  VIDA</dc:title>
</cp:coreProperties>
</file>