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0820-5F5C-4954-9379-12FC8ECE3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EF4E-8070-4678-9CF0-1AE69C1F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4B3-E2E9-4AA2-BA3D-90BD7D4B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7F4-E00A-47CC-9529-755353CE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94DA-E160-4A90-ABA3-26570969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8B26-5F75-4BE4-96F3-ABC70DF6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3297-26AE-44C4-A614-C4028BF8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4DF3-183F-4FA3-A180-E7EF4DD5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EEA0-4D79-4B21-93AE-6BA3C081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9EAB-14A7-4D95-AC4F-11DE7836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7296-14E9-4023-9EF9-DE577F61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BA0-0A7C-4EE3-BFA0-B4129DE3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14844-F731-46BB-96DF-0619D65C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44A9-855C-4BCB-B399-44ABE3DF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B126-D16B-4CE9-8CD9-29F71FF4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DE47-F901-4BB6-9C36-B2E58493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A61A-F44B-48E8-8826-4F4D5972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77A64-F228-4F0A-A37D-50EF4A92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FB6F-A6FC-47BB-A47E-AF8AED7C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EEB0-3F14-4661-A4B1-A70BBDEE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091D-3E54-4214-A03E-012A5EEB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D7062-1D03-4754-A901-9FB34481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EF5-4663-40BA-A53C-7AE106BC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E232-CB8C-4829-B404-D606E862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9368F-138E-4C83-84F9-31F1517A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3453-2972-4ED9-A7C7-F051114D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C1968-0133-4A09-9CFE-6124736C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249DC-40DC-4ED9-859F-587940B7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7121D-7621-4462-9A3B-C559CC1F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A5EE-2962-49AB-BA7D-9A64F942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138F-BA23-4038-BD29-FCC4C9CA2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32A11-BC11-4B78-A632-CDD424E2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76B91-22C5-466D-8DEB-025D98DC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F1B-53EE-414A-9143-C0E04F9D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D20B9-DC3C-476B-94D0-626D371A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BEC79-5525-41B0-8A60-942E5376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1A2E2-B051-41D3-916E-019863F0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16762-89FA-4A6F-8F7C-F5FA229A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8341A-36D2-4DCC-A13E-537E47CB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87456-387A-49CC-88FC-536F00B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66792-DFC9-4639-B5A5-39BF0722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51F18-A2B1-4975-A378-286050F1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E484-E1E8-483A-B6A1-529DB215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F40-8195-40BA-9440-CB78BA6C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B64-D995-40F6-9D84-97D6AF37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0BB-7E16-43B5-8A33-979FA4F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CA7-6A2E-44D8-BDA3-3CD0C407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E96-E88D-43BE-9E24-2E4492A0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DD8F-9444-4066-8A59-3E8A43D9B33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DFE3-1E6F-4382-98D4-2E3238201190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5085-D236-4A57-BD41-1F1C4FEAB424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003B-1381-4675-995E-13428DEED39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31640" y="1052640"/>
            <a:ext cx="727236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" sz="4000" spc="-1" strike="noStrike" u="sng">
                <a:solidFill>
                  <a:srgbClr val="04617b"/>
                </a:solidFill>
                <a:uFillTx/>
                <a:latin typeface="Calibri"/>
              </a:rPr>
              <a:t>Artículo 19 nº 1</a:t>
            </a:r>
            <a:br>
              <a:rPr sz="4000"/>
            </a:br>
            <a:br>
              <a:rPr sz="1800"/>
            </a:br>
            <a:r>
              <a:rPr b="0" lang="es-ES" sz="4000" spc="-1" strike="noStrike">
                <a:solidFill>
                  <a:srgbClr val="04617b"/>
                </a:solidFill>
                <a:latin typeface="Calibri"/>
              </a:rPr>
              <a:t>El derecho a la vida y a la integridad física y psíquica de la persona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ofesora: Ana María García B.</a:t>
            </a:r>
            <a:br>
              <a:rPr sz="4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Derecho Constitucional II</a:t>
            </a:r>
            <a:br>
              <a:rPr sz="2000"/>
            </a:br>
            <a:r>
              <a:rPr b="0" lang="es-ES" sz="2000" spc="-1" strike="noStrike">
                <a:solidFill>
                  <a:srgbClr val="04617b"/>
                </a:solidFill>
                <a:latin typeface="Calibri"/>
              </a:rPr>
              <a:t>Primer semestre 2011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773000"/>
            <a:ext cx="8147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7" descr="logo_uchile"/>
          <p:cNvPicPr/>
          <p:nvPr/>
        </p:nvPicPr>
        <p:blipFill>
          <a:blip r:embed="rId1"/>
          <a:stretch/>
        </p:blipFill>
        <p:spPr>
          <a:xfrm>
            <a:off x="250920" y="189000"/>
            <a:ext cx="10587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85104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4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APREMIOS ILEGITIM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31768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ntecedentes y 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Apremios legítimos / ilegítimos. Ejemplo: deten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mplitud de la norma: no admite excepci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Caso especial de la Tortura como el apremio ilegítimo mas gra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mportancia de las convenciones internacionales. “Convención internacional contra la tortura y otros tratos o penas crueles, inhumanas o degradantes” de las Naciones Unidas, 1984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xcepción: Derecho Penal del Enemig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907920"/>
            <a:ext cx="793116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Recurso de protección y fall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8360" y="2349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a la Vida reconocido en el art. 19 Nº 1 se encuentra resguardado por el Recurso de Protección establecido en el artículo 20 de la Constitu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Sentencias relevan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Píldora del día despué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ransfusiones de sang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Evacuación a habitantes de Chaité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330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 A  LA 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1628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nteced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ste derecho no se encontraba en la Constitución de 1925 ya que se consideraba como un presupues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fluencia de las declaraciones internacionales: Hacen patente la importancia que tiene la estipulación expresa de este derecho</a:t>
            </a: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(Declaración Universal de DD.HH.; Convención Americana de DD.HH.; Convenios de Ginebra; Pacto Internacional de derechos civiles y políticos; Convención de derechos del niño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9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onocimiento explícito del derecho en la Constitución de 1980, artículo 19 nº 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993240"/>
            <a:ext cx="7715160" cy="70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 u="sng">
                <a:solidFill>
                  <a:srgbClr val="04617b"/>
                </a:solidFill>
                <a:uFillTx/>
                <a:latin typeface="Calibri"/>
              </a:rPr>
              <a:t>DERECHO A LA VID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9280" y="1844280"/>
            <a:ext cx="8209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Temas que se distinguen en este derecho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1. La vida y la integridad física y psíquica de la person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2. La ley protege la vida del que está por nac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3. La pena de muer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4. Apremios ilegítim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I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lcance de la norm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a vida humana es un bien jurídico al igual que la libertad, la propiedad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derecho objetivo debe otorgar protección a este bien jurídico  subjetivo. (Código Penal, Código Civil, legislación laboral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Jurisprudenci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eber de protección del marido respecto de su mujer (C.Stgo.1992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Fallo del Tribunal Constitucional ante el requerimiento de inconstitucionalidad del DS n° 48 del Ministerio de Salud “Normas nacionales sobre regulación de fertilidad” (Píldora del día después) (TC. 200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Medida de protección”(C.Valpso.1994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Transfusión sanguínea” (C.Suprema 1992,1995, 1996, 1979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Recurso de Protección para la evacuación de  la ciudad de Chaitén” (C de Puerto Montt, 2008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836640"/>
            <a:ext cx="753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1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VIDA Y LA NTEGRIDAD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FISICA Y PSIQUICA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052640"/>
            <a:ext cx="7859880" cy="92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68360" y="199872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Antecedente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Artículo 75 Código Civi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4617b"/>
                </a:solidFill>
                <a:uFillTx/>
                <a:latin typeface="Calibri"/>
              </a:rPr>
              <a:t>Convención Americana de DD.HH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: “Este derecho estará protegido por la ley y, en general, a partir del momento de la concepción” (artículo 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 Doble encargo al legislad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El aborto y el derecho a la vida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rtículo 342  a 345 del Código Pe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ódigo Sanitario antes de 1989: “Sólo con fines terapéuticos se podrá interrumpir un embarazo…” …”opinión documentada de dos médicos cirujanos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Ley 18.826 de 1989: “No podrá ejecutarse ninguna acción cuyo fin sea provocar el aborto”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2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LEY PROTEGE LA VIDA DEL 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QUE ESTÁ POR NACER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2463480"/>
            <a:ext cx="856908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Importancia de la determinación del inicio de la existencia humana o comienzo de la v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Incidencia de los descubrimientos biológ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Teorías al respecto: Concepción, anidación,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viabilidad, desarrollo del sistema nervioso, auto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suficiencia, nacimien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- ¿En donde comienza la protección legal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494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4000" y="2060640"/>
            <a:ext cx="8686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“</a:t>
            </a: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a pena de  muerte sólo podrá establecerse por delito contemplado en ley aprobada con quórum calificado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a) 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El constituyente de 1980 tiende a la restricción en la aplicación de la pena de muerte, poniendo como requisito, su estipulación con quórum calificad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b)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Polémica ético-jurídico y tendencia internacional hacia su aboli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3.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LA PENA DE MUERTE (cont.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c) Antecedentes de su regulación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C. Penal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; Código de Justicia Militar; D.T Nº1 C.Pol.1980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18.314 de 1984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“Conductas terroristas”, modificada por leyes de 1990 y 1991 que rebajaron penas y derogaron conduc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8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4617b"/>
                </a:solidFill>
                <a:latin typeface="Calibri"/>
              </a:rPr>
              <a:t>L.Q.C. 19.734 de 2001</a:t>
            </a: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 la reemplazó por presidio perpetuo derogándola en la práctica (adecuación a Tratados de DD.HH.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4617b"/>
                </a:solidFill>
                <a:latin typeface="Calibri"/>
              </a:rPr>
              <a:t>d) Problemas jurídicos en torno la muerte e importancia jurídica del momento en que se produce. Derecho de la persona a disponer de su propio cuerpo. Ley de Trasplantes.  La Bioét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8:58:32Z</dcterms:created>
  <dc:creator>usuario</dc:creator>
  <dc:description/>
  <dc:language>en-US</dc:language>
  <cp:lastModifiedBy>usuiario</cp:lastModifiedBy>
  <dcterms:modified xsi:type="dcterms:W3CDTF">2011-03-10T10:54:48Z</dcterms:modified>
  <cp:revision>31</cp:revision>
  <dc:subject/>
  <dc:title>DERECHO  A  LA  VIDA</dc:title>
</cp:coreProperties>
</file>