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D4D-B902-4E7F-829E-21BC1062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C2B-6079-4657-A9AC-61F1BD92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6EA-7E42-44E3-A839-682C785D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CA9-AA83-4BCA-B667-8FE2A58D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BAE3-9405-4830-BD17-7667E24D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E98A-02B3-4775-9C45-12CA489D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7F2A-D264-40EF-B3DE-B52EC0C5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6F61-F3F5-4E75-B65E-A874732B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E3A7-80DF-4E7A-BDA7-F10C600D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37F1-5B84-4D43-9374-C0AB2CB3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C5FF-2B86-4960-9123-31CBBDFC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88D-22DD-4390-9333-7A52C846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F6F4-85DD-4776-A6A9-80A9F1B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18DD-2113-4E4C-9C37-5A8B07E7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1E74-D364-48F5-AB03-13D21069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4177-7014-4F2C-8FC2-A92459EE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42E8-7682-4423-BA00-7AE87454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25803-9F21-46BE-8255-994EAB87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3724-1D65-4DC5-BE7D-AD49A821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EB99-3FA8-4659-8D96-5C1D0A6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4939-89A7-425A-A033-4E71F30D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3B1F-E3AF-496F-9BCE-94F91F36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99A-4E1C-4901-90FF-4990019D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089E-B08B-491F-9E00-55BE5615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F7BD-C8C8-4074-BF14-1AA8858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F5CA-AB38-4BDE-91C4-5BEF35F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E572-5734-4B2B-8530-C4340659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312D-B5DE-4E61-8D86-ABBDD719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FF2B-72C3-4925-9E6C-60F5990D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A1FE-ED31-480E-B674-90F74F03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6172-2DFC-412B-A513-6AFA43B5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76FFC-7F07-4BE7-AE98-6B1052B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122A-68DA-44DE-8FF6-A240FBC4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6E5-5372-42B5-9E1E-83BA4A0A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1EC6-9FD6-4F0C-8E3F-A310273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DA415-DFC9-48B8-8BA5-534575DB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7FAD2-44CD-4F2D-BA13-05B8CAD2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378DF-B386-4A51-A8A3-59FC4958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BEDC-6EB6-4C32-8D37-60FF0C84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592D-0315-491A-A4B9-0FB4F58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5270-6331-47B2-9A2E-BA1026A5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3211-0158-463B-B955-2F9EB839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F226-F16A-49D4-B762-5E8EE3D9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789-E99E-48FC-9A3B-4570D1E8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82B-78FF-423A-91C0-6D6BD5F0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C71-6DF0-4106-BB67-DFBFE595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578-E3C2-4BE6-A9D0-6E685673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79B-7A3A-4EFC-8524-6C55B4EF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C9E7-2603-46A0-B59C-4D9DA314F12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984E-2297-4154-814E-BA61FDB2115E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3011-F730-415C-BA58-30CF22FAF1AB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933B-288B-45B6-8DFF-EEC7FEAF2D9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1640" y="1052640"/>
            <a:ext cx="72723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Artículo 19 nº 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vida y a la integridad física y psíquica de la persona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773000"/>
            <a:ext cx="8147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7" descr="logo_uchile"/>
          <p:cNvPicPr/>
          <p:nvPr/>
        </p:nvPicPr>
        <p:blipFill>
          <a:blip r:embed="rId1"/>
          <a:stretch/>
        </p:blipFill>
        <p:spPr>
          <a:xfrm>
            <a:off x="250920" y="189000"/>
            <a:ext cx="1058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85104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4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APREMIOS ILEGITIM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31768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ntecedentes y 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Apremios legítimos / ilegítimos. Ejemplo: deten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mplitud de la norma: no admite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Caso especial de la Tortura como el apremio ilegítimo mas gra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mportancia de las convenciones internacionales. “Convención internacional contra la tortura y otros tratos o penas crueles, inhumanas o degradantes” de las Naciones Unidas, 198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xcepción: Derecho Penal del Enemig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2349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a la Vida reconocido en el art. 19 Nº 1 se encuentra resguardado por el Recurso de Protección establecido en el artículo 20 de la Constitu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Sentencias releva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Píldora del día despué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ransfusiones de sang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Evacuación a habitantes de Chaité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30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 A  LA 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1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ste derecho no se encontraba en la Constitución de 1925 ya que se consideraba como un presupues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fluencia de las declaraciones internacionales: Hacen patente la importancia que tiene la estipulación expresa de este derecho</a:t>
            </a: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(Declaración Universal de DD.HH.; Convención Americana de DD.HH.; Convenios de Ginebra; Pacto Internacional de derechos civiles y políticos; Convención de derechos del niñ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onocimiento explícito del derecho en la Constitución de 1980, artículo 19 nº 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993240"/>
            <a:ext cx="77151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A LA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280" y="1844280"/>
            <a:ext cx="8209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Temas que se distinguen en este derecho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1. La vida y la integridad física y psíquica de la perso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2. La ley protege la vida del que está por nac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3. La pena de muer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4. Apremios ilegíti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I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a vida humana es un bien jurídico al igual que la libertad, la propiedad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objetivo debe otorgar protección a este bien jurídico  subjetivo. (Código Penal, Código Civil, legislación labor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Jurisprudenci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ber de protección del marido respecto de su mujer (C.Stgo.199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Fallo del Tribunal Constitucional ante el requerimiento de inconstitucionalidad del DS n° 48 del Ministerio de Salud “Normas nacionales sobre regulación de fertilidad” (Píldora del día después) (TC. 200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Medida de protección”(C.Valpso.1994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Transfusión sanguínea” (C.Suprema 1992,1995, 1996, 1979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urso de Protección para la evacuación de  la ciudad de Chaitén” (C de Puerto Montt, 200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836640"/>
            <a:ext cx="75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99872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Antecedent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rtículo 75 Código Civi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Convención Americana de DD.HH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 “Este derecho estará protegido por la ley y, en general, a partir del momento de la concepción” (artículo 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 Doble encargo al legisl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El aborto y el derecho a la vid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rtículo 342  a 345 del Código Pe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ódigo Sanitario antes de 1989: “Sólo con fines terapéuticos se podrá interrumpir un embarazo…” …”opinión documentada de dos médicos cirujanos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ey 18.826 de 1989: “No podrá ejecutarse ninguna acción cuyo fin sea provocar el aborto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2463480"/>
            <a:ext cx="85690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Importancia de la determinación del inicio de la existencia humana o comienzo de la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cidencia de los descubrimientos bi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eorías al respecto: Concepción, anidación,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viabilidad, desarrollo del sistema nervioso, auto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suficiencia, nacimien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n donde comienza la protección legal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49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206064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a pena de  muerte sólo podrá establecerse por delito contemplado en ley aprobada con quórum calificad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constituyente de 1980 tiende a la restricción en la aplicación de la pena de muerte, poniendo como requisito, su estipulación con quórum calific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olémica ético-jurídico y tendencia internacional hacia su aboli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Antecedentes de su regulació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C. Penal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; Código de Justicia Militar; D.T Nº1 C.Pol.1980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18.314 de 1984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“Conductas terroristas”, modificada por leyes de 1990 y 1991 que rebajaron penas y derogaron conduc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 19.734 de 2001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la reemplazó por presidio perpetuo derogándola en la práctica (adecuación a Tratados de DD.HH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Problemas jurídicos en torno la muerte e importancia jurídica del momento en que se produce. Derecho de la persona a disponer de su propio cuerpo. Ley de Trasplantes.  La Bioét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8:58:32Z</dcterms:created>
  <dc:creator>usuario</dc:creator>
  <dc:description/>
  <dc:language>en-US</dc:language>
  <cp:lastModifiedBy>usuiario</cp:lastModifiedBy>
  <dcterms:modified xsi:type="dcterms:W3CDTF">2011-03-10T10:54:48Z</dcterms:modified>
  <cp:revision>31</cp:revision>
  <dc:subject/>
  <dc:title>DERECHO  A  LA  VIDA</dc:title>
</cp:coreProperties>
</file>