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B90BC-1E6E-45F0-B6B3-F5382870B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E3627-AD6E-4F41-80DA-B9ECAA436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30F95-69A1-4215-B405-DB8A74588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55D65-3633-4EF4-92AE-4CC428CD3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DB9DC-5696-4D4F-8F77-D25F006E3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02B97-2ABD-4B39-8C07-AF16184D1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867C3-6478-4A7C-9CAC-A1D11C2C3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B4A43-84F8-4429-BE57-372CCE19A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C398A-F914-469F-92DF-9D2EC8BC2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46788-8C8B-49B0-8593-50FCB3DDD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2592C-3FB2-442D-A4A5-47CFF551B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D0E8A-F540-4711-808E-8022CF223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FF0B4-D414-4232-AC33-0981F0CA0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ECF28-B081-46B1-BCB3-54495C607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946BC-AD0F-41DA-A241-5D94332D3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4A38E-AFC1-4C37-B280-EF995AF00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E074B-C19C-41A7-8919-1CE41BE96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E4BCD1-0588-48D6-ADCA-1B845D7433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E7A2A1-F549-4266-83A7-F56A5F210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D4D7C8-E814-4DF7-8513-B4AAE4F2A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D529F7-E438-4698-9F5E-51727EDAB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5256A-97EC-440D-B3D9-B578AA64F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0EC11-E956-41CF-B2EE-269D475B8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4813F-5C25-4CB9-8EBD-518B257AE5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D4123-CA22-456C-8518-CD1B2A8C3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F6897-1326-4408-9221-427B0C59B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E5931-41C6-4E59-8D9E-BD11B6BF3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329B84-1A16-4D99-85BA-86DFF9199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CA2950-E013-4708-9C98-E502B5C409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2E80EB-1349-4FFE-8946-FBB9D330E3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DF70EF-0665-4353-9FF4-3FDBD7D48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A7C4D-82F1-4608-BAE3-D7136A7B8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0E5FCA-7CBB-4B9A-88C2-956228CE2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425A7-1EDB-47E3-A858-8071E7E8E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CA32F-748A-42E1-AF48-676F05E1F1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2275BF-8FB9-4640-81BB-B2F5A2CB22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42629-1B10-4B2F-B104-0B564EEB2F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6C39B-5F4F-4BB9-897A-984B5AAB34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F47EF-2263-46E6-9D1A-D550ECD0F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B246B-113C-4836-ABA6-F0DEF5614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A264F-224D-436D-BD4E-6525BA014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295A41-0D34-4B4B-AED2-0DCBBEEF76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954751-0C4C-4F33-BAFF-2884671826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0C58-BB3C-4A9C-8D72-B3BB2660C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212B0-C396-4883-8A68-71D4EED8E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15A6-199C-42F3-89E5-2B1D7E7FE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F2AC6-72ED-4238-BF87-4A68B8166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80E1-0EEE-4220-9374-8A70929D3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659F-E399-4C6B-8010-33BFA90CFE8F}"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A06B-89C6-466E-AD83-4AD44A4C10BC}"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6027-2F2D-4044-8918-A098C41139C3}"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BC98-0435-4700-A499-B4C1D5E6747C}"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Art. 19 nº 1 Constitución Política de la Repúblic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Seminario 10 de marzo de 2011</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Fernanda Villena Herrer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7" name="Picture 6" descr="logo_uchile"/>
          <p:cNvPicPr/>
          <p:nvPr/>
        </p:nvPicPr>
        <p:blipFill>
          <a:blip r:embed="rId2"/>
          <a:stretch/>
        </p:blipFill>
        <p:spPr>
          <a:xfrm>
            <a:off x="179280" y="260280"/>
            <a:ext cx="104472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ostura del Colegio Médico Art. 26 de la ley de ética:</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t>
            </a:r>
            <a:r>
              <a:rPr b="0" lang="es-ES_tradnl" sz="2600" spc="-1" strike="noStrike">
                <a:solidFill>
                  <a:srgbClr val="000000"/>
                </a:solidFill>
                <a:latin typeface="Constantia"/>
              </a:rPr>
              <a:t>El aborto procede solo cuando se cumplen las condiciones siguientes: a) se efectúe como medida terapéutica; b) la decisión sea aprobada por escrito, al menos por dos médicos escogidos por su competencia; y c) las operación sea realizada por un médico especialista”</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l carácter excepcional de la norma propuesta (Chile se encuentra dentro de los únicos tres países en América Latina que tienen prohibido el aborto terapéutic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Opinión casi unánime de la población (encuestas CERC, APROFA-CERC, DIAGNOS y FLACSO).</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oyecto de ley concordante con nuestra legislación. Los derechos constitucionales admiten excepcion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s de necesidad justificant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 no objeción del artículo 119 del Código Sanitario durante la CPR de 1925, ni en los años de vigencia de la actual CPR.</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oyecto de le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rt. 119 inciso 2º Del Código Sanitari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t>
            </a:r>
            <a:r>
              <a:rPr b="0" i="1" lang="es-ES_tradnl" sz="2600" spc="-1" strike="noStrike">
                <a:solidFill>
                  <a:srgbClr val="000000"/>
                </a:solidFill>
                <a:latin typeface="Constantia"/>
              </a:rPr>
              <a:t>Sólo con fines terapéuticos se podrá interrumpir un embarazo. Para proceder a ésta intervención se requerirá la opinión documentada de dos médicos cirujan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Segundo proyecto de ley que trata de introducir en Chile el aborto terapéutico después de su derogación.</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Cámara de Diputado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8 de enero de 2007.</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archivado (07/05/2010)</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René Alinco</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Clemira Pacheco.</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arcos Espinoza.</a:t>
            </a:r>
            <a:r>
              <a:rPr b="0" lang="es-ES_tradnl" sz="2600" spc="-1" strike="noStrike">
                <a:solidFill>
                  <a:srgbClr val="000000"/>
                </a:solidFill>
                <a:latin typeface="Constantia"/>
              </a:rPr>
              <a:t>	</a:t>
            </a:r>
            <a:r>
              <a:rPr b="0" lang="es-ES_tradnl" sz="2600" spc="-1" strike="noStrike">
                <a:solidFill>
                  <a:srgbClr val="000000"/>
                </a:solidFill>
                <a:latin typeface="Constantia"/>
              </a:rPr>
              <a:t>- Alberto Robl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Guido Girardi.</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Alejandro Sul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arcos Enríquez-Ominami.</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Objeto de protección la vida dependien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chileno reconvenido por prohibibión absoluta del abor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mités de Naciones Unidas, a partir de 1999 han señalado al Estado de Chile en forma reiterada, las violaciones de los derechos de las mujeres que se están cometiendo al mantener la penalización absoluta del aborto. Derecho a la vida de las mujeres que desean interrumpir su embaraz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comendaciones. </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Modificar la legislación vigente en los siguientes aspectos:</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ermitir la realización de abortos en determinadas circunstancias como:</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La protección de la vida y la salud de las mujeres, inclusive la salud mental.</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roporcionar abortos en condiciones de seguridad para las mujeres.</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forzar las medidas orientadas a la prevención de embarazos no deseados  como la ampliación al acceso de métodos anticonceptiv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EN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Sistema compar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365 inciso 2º Código Sanitario:</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t>
            </a:r>
            <a:r>
              <a:rPr b="0" i="1" lang="es-ES_tradnl" sz="2600" spc="-1" strike="noStrike">
                <a:solidFill>
                  <a:srgbClr val="000000"/>
                </a:solidFill>
                <a:latin typeface="Constantia"/>
              </a:rPr>
              <a:t>El aborto practicado por un médico cirujano con especialidad en Gineco-Obstetricia y con consentimiento de la mujer, no será punible:</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i se ha realizado cuando exista un peligro para la vida de la madre o grave deterioro de su salud y se efectúe con posterioridad a la opinión fundada de tres médcos cirujanos especialistas en Gineco-Obstetricia;</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i se tratare de una menor incapaz, será necesario el consentimiento de consuno con su representante leg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Tercer proyecto de ley que trata de introducir en Chile el aborto terapéutico después de su derog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Sena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5 de diciembre de 20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Primer trámite constitu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velyn Matthei.</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Fulvio Rossi.</a:t>
            </a:r>
            <a:r>
              <a:rPr b="0" lang="es-ES_tradnl" sz="2600" spc="-1" strike="noStrike">
                <a:solidFill>
                  <a:srgbClr val="000000"/>
                </a:solidFill>
                <a:latin typeface="Constantia"/>
              </a:rPr>
              <a:t>	</a:t>
            </a:r>
            <a:r>
              <a:rPr b="0" lang="es-ES_tradnl"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atologías que ponen en riesgo la vida de la mad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26 del Código de ética del Colegio Médic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viabilidad fet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aplicable</a:t>
            </a:r>
            <a:r>
              <a:rPr b="0" lang="es-ES_tradnl" sz="5000" spc="-1" strike="noStrike">
                <a:solidFill>
                  <a:srgbClr val="04617b"/>
                </a:solidFill>
                <a:latin typeface="Calibri"/>
              </a:rPr>
              <a:t>	</a:t>
            </a:r>
            <a:r>
              <a:rPr b="0" lang="es-ES_tradnl" sz="5000" spc="-1" strike="noStrike">
                <a:solidFill>
                  <a:srgbClr val="04617b"/>
                </a:solidFill>
                <a:latin typeface="Calibri"/>
              </a:rPr>
              <a:t>	</a:t>
            </a:r>
            <a:r>
              <a:rPr b="0" lang="es-ES_tradnl" sz="5000" spc="-1" strike="noStrike">
                <a:solidFill>
                  <a:srgbClr val="04617b"/>
                </a:solidFill>
                <a:latin typeface="Calibri"/>
              </a:rPr>
              <a:t>	</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19 nº 1 de la CP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La Constitución asegura a todas las personas:</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Nº1: El derecho a la vida y a la integridad física y psíquica de la persona.</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La ley protege la vida del que está por nace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La pena de muerte solo podrá establecerse por delito contemplado en ley aprobada con quórum calificado.</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e prohíbe la aplicación de todo apremio ilegíti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345 del Código Pena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a:t>
            </a:r>
            <a:r>
              <a:rPr b="0" i="1" lang="es-ES_tradnl" sz="2600" spc="-1" strike="noStrike">
                <a:solidFill>
                  <a:srgbClr val="000000"/>
                </a:solidFill>
                <a:latin typeface="Constantia"/>
              </a:rPr>
              <a:t>No se considerará aborto cuando se produzca la muerte del feto como consecuencia de una intervención, tratamiento o administración de algún fármaco que sea indispensable para salvar la vida de la madre, lo que deberá ser certificado por un grupo de tres médic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No será punible la interrupción de un embarazo cuando se haya certificado por un grupo de tres médicos la inviabilidad fet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a:t>
            </a:r>
            <a:r>
              <a:rPr b="0" i="1" lang="es-ES_tradnl" sz="2400" spc="-1" strike="noStrike">
                <a:solidFill>
                  <a:srgbClr val="000000"/>
                </a:solidFill>
                <a:latin typeface="Constantia"/>
              </a:rPr>
              <a:t>continuación…)</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Un grupo de tres médicos del hospital o del Servicio de Salud correspondiente deberá otorgar en forma unánime e inequívoca las certificaciones de los dos incisos anteriores. Los médicos que otorguen la certificación no podrá formar parte del equipo tratante de la madre.</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Copia de las certificaciones, sus fundamentos y antecedentes serán mantenidas en el respectivo Servicio de Salud por un período de tiempo de 5 años. Será responsabilidad del Jefe del Servicio de Salud custodiar dichos documentos por el período de tiempo indicad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Los médicos que otorguen certificaciones falsas o que intervengan sin cumplir con las exigencias anteriores, serán sancionados con pena de presidio menor en su grado máxi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1" name=""/>
          <p:cNvSpPr txBox="1"/>
          <p:nvPr/>
        </p:nvSpPr>
        <p:spPr>
          <a:xfrm>
            <a:off x="250560" y="1600200"/>
            <a:ext cx="8713800" cy="5068800"/>
          </a:xfrm>
          <a:prstGeom prst="rect">
            <a:avLst/>
          </a:prstGeom>
          <a:noFill/>
          <a:ln w="0">
            <a:noFill/>
          </a:ln>
        </p:spPr>
        <p:txBody>
          <a:bodyPr anchor="t">
            <a:normAutofit fontScale="99000"/>
          </a:bodyPr>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1.- Posible vulneración del Art. 19 N° 10 de la Constitución</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Marco de confidencialidad médico paciente.</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2.- Infracción del Art. 19 N° 2.</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3.-Derecho a la vid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Doctrina científica, coincidencia en que la “píldora del día después es anticonceptiv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Diferencia entre anticoncepción de emergencia y contracepción de emergenci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Posibles implicancias en el embrión determinarían al juicio de constitucionalidad.</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3" name=""/>
          <p:cNvSpPr txBox="1"/>
          <p:nvPr/>
        </p:nvSpPr>
        <p:spPr>
          <a:xfrm>
            <a:off x="250920" y="1412640"/>
            <a:ext cx="8642160" cy="4895640"/>
          </a:xfrm>
          <a:prstGeom prst="rect">
            <a:avLst/>
          </a:prstGeom>
          <a:noFill/>
          <a:ln w="0">
            <a:noFill/>
          </a:ln>
        </p:spPr>
        <p:txBody>
          <a:bodyPr anchor="t">
            <a:normAutofit fontScale="94000"/>
          </a:bodyPr>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Tanto en el método Yuzpe como en el de levonorgestrel 0.75 mg., coincidencia dificultad y complejidad en su determinación.</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Efectos de la pastilla del días después:</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1.- Impedir la ovulación.</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2.- Impedir la migración de los espermatozoides para fecundar el ovul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3.- Impedir la implementación del óvulo fecundad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Evidencia científica contradictoria, no hay claridad en relación ala determinación si el fármaco afectará la vida de un ser human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Efectos de la indeterminación en relación a la implementación:</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Momento en que se generaría la vida.</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s advertencias en los fármacos, señalan que trae riesgo en su implementación.</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 ciencia médica no puede excluir que la píldora del día después, pueda afectar la implementación.</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octrina predominante señala que el inicio de la vida, comienza con la concepción. (singularidad del embrió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o constitucional de “hombres” a “persona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rt. 19 N° 1 de la CPR orden al Legislador a proteger la vida del que está por nacer.</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rmas sobre regulación de fertilidad, duda razonabl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vilegio de la interpretación que favorezca a la persona.</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resuelv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 </a:t>
            </a:r>
            <a:r>
              <a:rPr b="0" lang="es-CL" sz="2600" spc="-1" strike="noStrike">
                <a:solidFill>
                  <a:srgbClr val="000000"/>
                </a:solidFill>
                <a:latin typeface="Constantia"/>
              </a:rPr>
              <a:t>	</a:t>
            </a:r>
            <a:r>
              <a:rPr b="0" lang="es-CL" sz="2600" spc="-1" strike="noStrike">
                <a:solidFill>
                  <a:srgbClr val="000000"/>
                </a:solidFill>
                <a:latin typeface="Constantia"/>
              </a:rPr>
              <a:t>Se acoge el requerimiento, únicamente en la parte del D.S. 48 de 2007 del M.S. donde se refiere a la anticoncepción de emergenc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 Se desestima la referencia a los DI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 Se rechaza la impugnación de consejería a adolescentes en el marco de confidencialida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oto ministr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José Luis Ce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Raúl Bertelse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isol Peñ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otos concurren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io Fernández</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celo Veneg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del día después”</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inistros disiden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an Colombo</a:t>
            </a:r>
            <a:r>
              <a:rPr b="0" lang="es-CL"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rnán Vodanov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rancisco Fernánd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orge Correa Suti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Comisión de Estudios de la Nueva Constitución</a:t>
            </a:r>
            <a:endParaRPr b="0" lang="en-US" sz="45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misionado Ortú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t>
            </a:r>
            <a:r>
              <a:rPr b="0" i="1" lang="es-ES_tradnl" sz="2600" spc="-1" strike="noStrike">
                <a:solidFill>
                  <a:srgbClr val="000000"/>
                </a:solidFill>
                <a:latin typeface="Constantia"/>
              </a:rPr>
              <a:t>una diferencia entre el precepto que consagra el derecho a la vida y la disposición que entrega al legislador  el deber de proteger la vida del que está por nacer. En el primer caso se trata de consagrar de forma absoluta el derecho a la vida, y en el segundo, se desea dejar cierta elasticidad para que el legislador, en determinados casos, como por ejemplo el aborto terapéutico, no considere constitutivo de delito el hecho del abor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Voto disidente de Juan Colombo Campbell</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1.- Procedencia del requerimiento.</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2.- Derechos garantizados por el constituyente en el Art. 19 N° 1. Nasciturus no tiene protección constitucional.</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 Art. 74 CC</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i) Art. 75 del CC</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ii) Art. 119 del Código Sanitario</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v) Art. 342 y ss del Código Penal.</a:t>
            </a:r>
            <a:endParaRPr b="0" lang="en-US" sz="21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rga de la prueb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terminación del inicio de la vid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ctos que gozan de presunción de legalidad. Ley 1988º, número 3</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testad reglamentaria de ejecución del Presidente de la República. Art. 32 N° 6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Órganos representantes del pueblo soberano, presunción de legalidad</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osibilidad de imponer concepciones religiosas y morales. Ejercicio de la libertad de creencia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Voto disidente Hernán Vodanov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ntos de la controversi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1.- La existencia, rango y entidad de los derechos del embrión preimplantaciona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2.- Eventual conflicto entre un interés constitucionalmente protegido y otros derechos fundamentales, como lo orden reproductivo y sexu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aborto no es un ilícito constitucion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rechos sexuales y reproductivos de la mujer. Art. 5 inc. 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ventual conflicto entre el interés protegido del nasciturus y los derechos de la muj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s reales de la decisión jurisdiccion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lvl="4" marL="1461960" indent="-209520">
              <a:spcBef>
                <a:spcPts val="100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lvl="4" marL="1461960" indent="-209520">
              <a:spcBef>
                <a:spcPts val="100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nstantia"/>
              </a:rPr>
              <a:t>MUCHAS GRACIAS…</a:t>
            </a:r>
            <a:endParaRPr b="0" lang="en-US" sz="4000" spc="-1" strike="noStrike">
              <a:solidFill>
                <a:srgbClr val="000000"/>
              </a:solidFill>
              <a:latin typeface="Constantia"/>
            </a:endParaRPr>
          </a:p>
          <a:p>
            <a:pPr marL="272880" indent="-272880" algn="ctr">
              <a:spcBef>
                <a:spcPts val="11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nstantia"/>
            </a:endParaRPr>
          </a:p>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000000"/>
                </a:solidFill>
                <a:latin typeface="Constantia"/>
              </a:rPr>
              <a:t>	</a:t>
            </a:r>
            <a:r>
              <a:rPr b="0" lang="es-ES_tradnl" sz="4600" spc="-1" strike="noStrike">
                <a:solidFill>
                  <a:srgbClr val="000000"/>
                </a:solidFill>
                <a:latin typeface="Constantia"/>
              </a:rPr>
              <a:t>	</a:t>
            </a:r>
            <a:r>
              <a:rPr b="0" lang="es-ES_tradnl" sz="4600" spc="-1" strike="noStrike">
                <a:solidFill>
                  <a:srgbClr val="000000"/>
                </a:solidFill>
                <a:latin typeface="Constantia"/>
              </a:rPr>
              <a:t>	</a:t>
            </a:r>
            <a:r>
              <a:rPr b="0" lang="es-ES_tradnl" sz="7200" spc="-1" strike="noStrike">
                <a:solidFill>
                  <a:srgbClr val="000000"/>
                </a:solidFill>
                <a:latin typeface="Wingdings"/>
                <a:ea typeface="Wingdings"/>
              </a:rPr>
              <a:t></a:t>
            </a:r>
            <a:r>
              <a:rPr b="0" lang="es-ES_tradnl" sz="7200" spc="-1" strike="noStrike">
                <a:solidFill>
                  <a:srgbClr val="000000"/>
                </a:solidFill>
                <a:latin typeface="Constantia"/>
              </a:rPr>
              <a:t>!!!!!!!</a:t>
            </a:r>
            <a:endParaRPr b="0" lang="en-US" sz="7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Código Civil : Libro I del “De las personas”, Título II “Del principio y fin de la existencia de las personas”. Párrafo 1 “Del principio de la existencia de las personas”:</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	</a:t>
            </a:r>
            <a:r>
              <a:rPr b="0" i="1" lang="es-ES_tradnl" sz="2400" spc="-1" strike="noStrike">
                <a:solidFill>
                  <a:srgbClr val="000000"/>
                </a:solidFill>
                <a:latin typeface="Constantia"/>
              </a:rPr>
              <a:t>Art. 74: La existencia legal de la persona principia al nacer, esto es, al separarse completamente de su madr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La criatura que muere en el vientre materno, o que perece antes de estar completamente separada de su madre, o que no haya sobrevivido a la separación un momento siquiera, se reputará no haber existido jamá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75:</a:t>
            </a:r>
            <a:r>
              <a:rPr b="0" i="1" lang="es-ES_tradnl" sz="2600" spc="-1" strike="noStrike">
                <a:solidFill>
                  <a:srgbClr val="000000"/>
                </a:solidFill>
                <a:latin typeface="Constantia"/>
              </a:rPr>
              <a:t> La ley protege la vida del que está por nacer. El juez, en consecuencia, tomará todas las providencias que le parezcan convenientes para proteger la existencia del no nacido, siempre que crea que de algún modo peligr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Todo castigo de la madre, por el cual pudiera peligrar la vida o la salud de la criatura que tiene en su seno, deberá diferirse hasta después de su nacimien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77:</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Los derechos que se deferirán a la criatura que está en el vientre materno, si hubiese nacido y viviese, estarán suspensos hasta que el nacimiento se efectúe. Y se el nacimiento constituye un principio de existencia, entrará el recién nacido en el goce de dichos derechos, como si hubiesen existido al tiempo en que se defirieron. En el caso del artículo 74 inciso 2º, pasarán estos derechos a otras personas, como si la criatura no hubiese existido jamá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ódigo Sanitario antes de 1989: </a:t>
            </a: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a:t>
            </a:r>
            <a:r>
              <a:rPr b="0" i="1" lang="es-ES" sz="2600" spc="-1" strike="noStrike">
                <a:solidFill>
                  <a:srgbClr val="000000"/>
                </a:solidFill>
                <a:latin typeface="Calibri"/>
              </a:rPr>
              <a:t>Sólo con fines terapéuticos se podrá interrumpir un embarazo…” …”opinión documentada de dos médicos cirujanos”.</a:t>
            </a: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ey 18.826 de 1989: </a:t>
            </a:r>
            <a:r>
              <a:rPr b="0" i="1" lang="es-ES" sz="2600" spc="-1" strike="noStrike">
                <a:solidFill>
                  <a:srgbClr val="000000"/>
                </a:solidFill>
                <a:latin typeface="Calibri"/>
              </a:rPr>
              <a:t>“No podrá ejecutarse ninguna acción cuyo fin sea provocar el aborto”.</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4617b"/>
                </a:solidFill>
                <a:latin typeface="Calibri"/>
              </a:rPr>
              <a:t>Aborto terapéutico. Debate en Chile. </a:t>
            </a:r>
            <a:endParaRPr b="0" lang="en-US" sz="44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imer proyecto de ley que trata de introducir en Chile el aborto terapéutico después de su derogació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Cámara de Diputado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7 de septiembre de 1991.</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archivado (17/06/1997)</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mando Arancibia. </a:t>
            </a:r>
            <a:r>
              <a:rPr b="0" lang="es-ES_tradnl" sz="2600" spc="-1" strike="noStrike">
                <a:solidFill>
                  <a:srgbClr val="000000"/>
                </a:solidFill>
                <a:latin typeface="Constantia"/>
              </a:rPr>
              <a:t>	</a:t>
            </a:r>
            <a:r>
              <a:rPr b="0" lang="es-ES_tradnl" sz="2600" spc="-1" strike="noStrike">
                <a:solidFill>
                  <a:srgbClr val="000000"/>
                </a:solidFill>
                <a:latin typeface="Constantia"/>
              </a:rPr>
              <a:t>- Carlos Smok.</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driana Muñoz.</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Carlos Montes.</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Juan Pablo Leteli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nsideracion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nsecuencia psicosociales que significan la muerte de la madre.</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usencia de madre pobre y/o soltera. Consecuencia para los niño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Declaración OSLO 24ª Asamblea Médica Mundial y el deber del médico de asegurar la protección de los pacientes y defender sus derechos dentro de la sociedad.</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9:35:46Z</dcterms:created>
  <dc:creator>usuiario</dc:creator>
  <dc:description/>
  <dc:language>en-US</dc:language>
  <cp:lastModifiedBy>usuiario</cp:lastModifiedBy>
  <dcterms:modified xsi:type="dcterms:W3CDTF">2011-03-10T11:01:29Z</dcterms:modified>
  <cp:revision>16</cp:revision>
  <dc:subject/>
  <dc:title>DERECHO A LA VIDA</dc:title>
</cp:coreProperties>
</file>