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DDBAD-6029-4D59-8D97-C97CB648B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9B1DF-65CD-4E2F-A588-586C8F031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EE0D6-D839-4F7D-9CCE-ABF6601F9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D0FB2-5EFD-4AB7-8D96-2734F00C7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B3DD6-18AC-4661-8986-92BFF8957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EC00F-A9C6-450B-B404-187712F03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EAAD2-28D2-4E04-B9D1-E517AFF66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82BD2-1E3C-4D5E-BCFB-92BA39833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92E26-D994-44D0-BAD5-37CE27B5F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43178-DF5C-4370-A7BE-CD5526736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033C4-F976-4C12-9921-30409C530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BB281-6D3F-4CA6-A44F-E4E43A00F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FF91-6FB4-4711-8427-D97612C119D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500040" y="1357200"/>
            <a:ext cx="7772400" cy="478656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00"/>
                </a:solidFill>
                <a:latin typeface="Arial"/>
              </a:rPr>
              <a:t>COMPENSACIÓN</a:t>
            </a:r>
            <a:endParaRPr b="0" lang="en-US" sz="4800" spc="-1" strike="noStrike">
              <a:solidFill>
                <a:srgbClr val="000000"/>
              </a:solidFill>
              <a:latin typeface="Times New Roman"/>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00"/>
                </a:solidFill>
                <a:latin typeface="Arial"/>
              </a:rPr>
              <a:t>ECONÓMICA</a:t>
            </a:r>
            <a:endParaRPr b="0" lang="en-US" sz="48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istián Luis Lepin Molina</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gíster Derecho privado</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iversidad de Chile</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1"/>
          <p:cNvSpPr/>
          <p:nvPr/>
        </p:nvSpPr>
        <p:spPr>
          <a:xfrm>
            <a:off x="0" y="333360"/>
            <a:ext cx="8675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1"/>
          <p:cNvSpPr>
            <a:spLocks noGrp="1"/>
          </p:cNvSpPr>
          <p:nvPr>
            <p:ph/>
          </p:nvPr>
        </p:nvSpPr>
        <p:spPr>
          <a:xfrm>
            <a:off x="685800" y="620280"/>
            <a:ext cx="7772400" cy="54752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Aspectos probatorios</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Libertad probatoria art. 28 LTF</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Medios de prueba arts. 33 y sgtes LTF</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Limitaciones art. 35 Cód. Tributario</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Ponderación de la prueba art. 32 LTF</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85800" y="907920"/>
            <a:ext cx="7772400" cy="5043600"/>
          </a:xfrm>
          <a:prstGeom prst="rect">
            <a:avLst/>
          </a:prstGeom>
          <a:noFill/>
          <a:ln w="0">
            <a:noFill/>
          </a:ln>
        </p:spPr>
        <p:txBody>
          <a:bodyPr anchor="t">
            <a:norm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Otros aspectos</a:t>
            </a:r>
            <a:endParaRPr b="0" lang="en-US" sz="36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Casos en que se puede denegar o rebajar arts. 62 inc. final y 54.</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Formas de garantizar el pago.</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Apremios en caso de incumplimiento.</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Renuncia (ex ante- ex post).</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Prescripción.</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Relación con la obligación alimenti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Relación con los regímenes patrimoniales del matrimoni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Comparación con el Patrimonio Reservado de la mujer casada en sociedad conyugal.</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Compatibilidad con otras indemnizacion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Efectos tributari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2"/>
          <p:cNvSpPr/>
          <p:nvPr/>
        </p:nvSpPr>
        <p:spPr>
          <a:xfrm>
            <a:off x="0" y="712800"/>
            <a:ext cx="914400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1"/>
          <p:cNvSpPr>
            <a:spLocks noGrp="1"/>
          </p:cNvSpPr>
          <p:nvPr>
            <p:ph/>
          </p:nvPr>
        </p:nvSpPr>
        <p:spPr>
          <a:xfrm>
            <a:off x="685800" y="713880"/>
            <a:ext cx="7772400" cy="5883480"/>
          </a:xfrm>
          <a:prstGeom prst="rect">
            <a:avLst/>
          </a:prstGeom>
          <a:noFill/>
          <a:ln w="0">
            <a:noFill/>
          </a:ln>
        </p:spPr>
        <p:txBody>
          <a:bodyPr anchor="t">
            <a:normAutofit/>
          </a:bodyPr>
          <a:p>
            <a:pPr marL="457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ahoma"/>
              </a:rPr>
              <a:t>Análisis de jurisprudencia</a:t>
            </a:r>
            <a:endParaRPr b="0" lang="en-US" sz="3200" spc="-1" strike="noStrike">
              <a:solidFill>
                <a:srgbClr val="000000"/>
              </a:solidFill>
              <a:latin typeface="Times New Roman"/>
            </a:endParaRPr>
          </a:p>
          <a:p>
            <a:pPr marL="457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ste una gran influencia de la doctrina civilista nacional, con cita de algunos autores como Carmen Domínguez, Ramón Domínguez, Carlos Pizarro y Mauricio Tapia, entre otros.</a:t>
            </a:r>
            <a:endParaRPr b="0" lang="en-US" sz="24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La mayoría de los fallos coinciden en que se trata de una manifestación del principio de protección del cónyuge más débil.</a:t>
            </a:r>
            <a:endParaRPr b="0" lang="en-US" sz="24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gen la concurrencia de los requisitos del art. 61 NLMC, los que se deben acreditar en juicio, en especial, el menoscabo económico.</a:t>
            </a:r>
            <a:endParaRPr b="0" lang="en-US" sz="24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cluyen expresamente la naturaleza alimenticia.</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642960" y="1500120"/>
            <a:ext cx="7620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
          <p:cNvSpPr txBox="1"/>
          <p:nvPr/>
        </p:nvSpPr>
        <p:spPr>
          <a:xfrm>
            <a:off x="685800" y="785880"/>
            <a:ext cx="7772400" cy="5310000"/>
          </a:xfrm>
          <a:prstGeom prst="rect">
            <a:avLst/>
          </a:prstGeom>
          <a:noFill/>
          <a:ln w="0">
            <a:noFill/>
          </a:ln>
        </p:spPr>
        <p:txBody>
          <a:bodyPr anchor="t">
            <a:normAutofit fontScale="99000"/>
          </a:bodyPr>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Mayoritariamente, reconocen naturaleza indemnizatoria.</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Determinan que se trata de una reparación de un daño económico, y no de perjuicios morales.</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 establece que la enumeración de los criterios para determinar la cuantía de la compensación, no es taxativa.</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Que procede el arresto nocturno como mecanismo de apremio para el pago de las cuotas.</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Minoritariamente, también se ha considerado lucro cesante y en algunos casos, una cierta presunción de menoscabo, sólo acreditando la existencia de hijos y el cuidado de ellos o del hogar común.</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685800" y="907560"/>
            <a:ext cx="7772400" cy="5187960"/>
          </a:xfrm>
          <a:prstGeom prst="rect">
            <a:avLst/>
          </a:prstGeom>
          <a:noFill/>
          <a:ln w="0">
            <a:noFill/>
          </a:ln>
        </p:spPr>
        <p:txBody>
          <a:bodyPr anchor="t">
            <a:normAutofit fontScale="96000"/>
          </a:bodyPr>
          <a:p>
            <a:pPr marL="780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ea typeface="Tahoma"/>
              </a:rPr>
              <a:t>Nueva Ley de Matrimonio Civil Nº 19.947</a:t>
            </a:r>
            <a:endParaRPr b="0" lang="en-US" sz="3200" spc="-1" strike="noStrike">
              <a:solidFill>
                <a:srgbClr val="000000"/>
              </a:solidFill>
              <a:latin typeface="Times New Roman"/>
            </a:endParaRPr>
          </a:p>
          <a:p>
            <a:pPr marL="780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ea typeface="Tahoma"/>
              </a:rPr>
              <a:t>Artículo 60.- El divorcio pone fin a las obligaciones y derechos de carácter patrimonial cuya titularidad y ejercicio se funda en la existencia del matrimonio, como los derechos sucesorios recíprocos y el derecho de alimentos, sin perjuicio de lo dispuesto en el Párrafo 1 del Capítulo siguiente.</a:t>
            </a:r>
            <a:endParaRPr b="0" lang="en-US" sz="3200" spc="-1" strike="noStrike">
              <a:solidFill>
                <a:srgbClr val="000000"/>
              </a:solidFill>
              <a:latin typeface="Times New Roman"/>
            </a:endParaRPr>
          </a:p>
          <a:p>
            <a:pPr marL="780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500040"/>
            <a:ext cx="7772400" cy="5595840"/>
          </a:xfrm>
          <a:prstGeom prst="rect">
            <a:avLst/>
          </a:prstGeom>
          <a:noFill/>
          <a:ln w="0">
            <a:noFill/>
          </a:ln>
        </p:spPr>
        <p:txBody>
          <a:bodyPr anchor="t">
            <a:normAutofit fontScale="98000"/>
          </a:bodyPr>
          <a:p>
            <a:pPr marL="5972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ahoma"/>
                <a:ea typeface="Tahoma"/>
              </a:rPr>
              <a:t>Capítulo VII</a:t>
            </a:r>
            <a:br>
              <a:rPr sz="2400"/>
            </a:br>
            <a:r>
              <a:rPr b="0" lang="es-ES_tradnl" sz="2400" spc="-1" strike="noStrike">
                <a:solidFill>
                  <a:srgbClr val="ffff00"/>
                </a:solidFill>
                <a:latin typeface="Tahoma"/>
                <a:ea typeface="Tahoma"/>
              </a:rPr>
              <a:t>De las reglas comunes a ciertos casos de separación, nulidad y divorcio</a:t>
            </a:r>
            <a:endParaRPr b="0" lang="en-US" sz="2400" spc="-1" strike="noStrike">
              <a:solidFill>
                <a:srgbClr val="000000"/>
              </a:solidFill>
              <a:latin typeface="Times New Roman"/>
            </a:endParaRPr>
          </a:p>
          <a:p>
            <a:pPr marL="5972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1.- Si, como consecuencia de haberse dedicado al cuidado de los hijos o a las labores propias del hogar común, uno de los cónyuges no pudo desarrollar una actividad remunerada o lucrativa durante el matrimonio, o lo hizo en menor medida de lo que podía y quería, tendrá derecho a que, cuando se produzca el divorcio o se declare la nulidad del matrimonio, se le compense el menoscabo económico sufrido por esta causa</a:t>
            </a:r>
            <a:r>
              <a:rPr b="0" lang="es-ES_tradnl" sz="3200" spc="-1" strike="noStrike">
                <a:solidFill>
                  <a:srgbClr val="3333cc"/>
                </a:solidFill>
                <a:latin typeface="Tahoma"/>
                <a:ea typeface="Tahoma"/>
              </a:rPr>
              <a:t>.</a:t>
            </a:r>
            <a:endParaRPr b="0" lang="en-US" sz="3200" spc="-1" strike="noStrike">
              <a:solidFill>
                <a:srgbClr val="000000"/>
              </a:solidFill>
              <a:latin typeface="Times New Roman"/>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685800" y="571680"/>
            <a:ext cx="7772400" cy="5736960"/>
          </a:xfrm>
          <a:prstGeom prst="rect">
            <a:avLst/>
          </a:prstGeom>
          <a:noFill/>
          <a:ln w="0">
            <a:noFill/>
          </a:ln>
        </p:spPr>
        <p:txBody>
          <a:bodyPr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2.- Para determinar la existencia del menoscabo económico y la cuantía de la compensación, se considerará, especialmente, la duración del matrimonio y de la vida en común de los cónyuges; la situación patrimonial de ambos; la buena o mala fe; la edad y el estado de salud del cónyuge beneficiario; su situación en materia de beneficios previsionales y de salud; su cualificación profesional y posibilidades de acceso al mercado laboral, y la colaboración que hubiere prestado a las actividades lucrativas del otro cónyuge.</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Si se decretare el divorcio en virtud del artículo 54, el juez podrá denegar la compensación económica que habría correspondido al cónyuge que dio lugar a la causal, o disminuir prudencialmente su mont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1285560"/>
            <a:ext cx="7772400" cy="480996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ea typeface="Tahoma"/>
              </a:rPr>
              <a:t>Artículo 63.- La compensación económica y su monto y forma de pago, en su caso, serán convenidos por los cónyuges, si fueren mayores de edad, mediante acuerdo que constará en escritura pública o acta de avenimiento, las cuales se someterán a la aprobación del tribunal.</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685800" y="1500120"/>
            <a:ext cx="7772400" cy="45957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4.- A falta de acuerdo, corresponderá al juez determinar la procedencia de la compensación económica y fijar su monto.</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Si no se solicitare en la demanda, el juez  informará a los cónyuges la existencia de este derecho   durante la audiencia preparatoria. </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Pedida en la demanda, en escrito complementario de la demanda o en la reconvención, el juez se pronunciará sobre la procedencia de la compensación económica y su monto, en el evento de dar lugar a ella, en la sentencia de divorcio o nulidad.</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solidFill>
            <a:srgbClr val="3333cc"/>
          </a:solidFill>
          <a:ln w="9360">
            <a:solidFill>
              <a:srgbClr val="ffff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Tahoma"/>
                <a:ea typeface="Tahoma"/>
              </a:rPr>
              <a:t>Aspectos generales</a:t>
            </a:r>
            <a:endParaRPr b="0" lang="en-US" sz="4000" spc="-1" strike="noStrike">
              <a:solidFill>
                <a:srgbClr val="000000"/>
              </a:solidFill>
              <a:latin typeface="Times New Roman"/>
            </a:endParaRPr>
          </a:p>
        </p:txBody>
      </p:sp>
      <p:sp>
        <p:nvSpPr>
          <p:cNvPr id="43" name="PlaceHolder 2"/>
          <p:cNvSpPr>
            <a:spLocks noGrp="1"/>
          </p:cNvSpPr>
          <p:nvPr>
            <p:ph/>
          </p:nvPr>
        </p:nvSpPr>
        <p:spPr>
          <a:xfrm>
            <a:off x="685800" y="2356920"/>
            <a:ext cx="7772400" cy="37386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a:t>
            </a:r>
            <a:r>
              <a:rPr b="0" lang="es-ES_tradnl" sz="2800" spc="-1" strike="noStrike">
                <a:solidFill>
                  <a:srgbClr val="ffffff"/>
                </a:solidFill>
                <a:latin typeface="Tahoma"/>
                <a:ea typeface="Tahoma"/>
              </a:rPr>
              <a:t>Normas Legales arts. 3, 60, 61 y sgtes NLMC y art. 80 y 81 Ley Nº 20.255 y Ley Nº 20.239.</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2. Historia de la Ley Nº 19.947 (Boletín 1759-18).</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3. Modelos relevantes de Derecho Comparado: Francia y España.</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4. Efectos patrimoniales de la terminación del matrimonio arts. 50 y 60 NLMC</a:t>
            </a:r>
            <a:r>
              <a:rPr b="0" lang="es-ES_tradnl" sz="2800" spc="-1" strike="noStrike">
                <a:solidFill>
                  <a:srgbClr val="3333cc"/>
                </a:solidFill>
                <a:latin typeface="Tahoma"/>
                <a:ea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85800" y="549000"/>
            <a:ext cx="7772400" cy="5546520"/>
          </a:xfrm>
          <a:prstGeom prst="rect">
            <a:avLst/>
          </a:prstGeom>
          <a:noFill/>
          <a:ln w="0">
            <a:noFill/>
          </a:ln>
        </p:spPr>
        <p:txBody>
          <a:bodyPr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5.- En la sentencia, además, el juez determinará la forma de pago de la compensación, para lo cual podrá establecer las siguientes modalidades:</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1.- Entrega de una suma de dinero, acciones u otros bienes. Tratándose de dinero, podrá ser enterado en una o varias cuotas reajustables, respecto de las cuales el juez fijará seguridades para su pago.</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2.- Constitución de derechos de usufructo, uso o habitación, respecto de bienes que sean de propiedad del cónyuge deudor. La constitución de estos derechos no perjudicará a los acreedores que el cónyuge propietario hubiere tenido a la fecha de su constitución, ni aprovechará a los acreedores que el cónyuge beneficiario tuviere en cualquier tiemp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28760" y="714240"/>
            <a:ext cx="7772400" cy="533088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Artículo 66.- Si el deudor no tuviere bienes suficientes para solucionar el monto de la compensación mediante las modalidades a que se refiere el artículo anterior, el juez podrá dividirlo en cuantas cuotas fuere necesario. Para ello, tomará en consideración la capacidad económica del cónyuge deudor y expresará el valor de cada cuota en alguna unidad reajustable.</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La cuota respectiva se considerará alimentos para el efecto de su cumplimiento, a menos que se hubieren ofrecido otras garantías para su efectivo y oportuno pago, lo que se declarará en la sente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42960" y="571680"/>
            <a:ext cx="7772400" cy="5473440"/>
          </a:xfrm>
          <a:prstGeom prst="rect">
            <a:avLst/>
          </a:prstGeom>
          <a:noFill/>
          <a:ln w="0">
            <a:noFill/>
          </a:ln>
        </p:spPr>
        <p:txBody>
          <a:bodyPr anchor="t">
            <a:normAutofit fontScale="95000"/>
          </a:bodyPr>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ea typeface="Tahoma"/>
              </a:rPr>
              <a:t>Ley Nº 20.255 Reforma Provisional</a:t>
            </a:r>
            <a:r>
              <a:rPr b="0" lang="es-ES_tradnl" sz="3200" spc="-1" strike="noStrike">
                <a:solidFill>
                  <a:srgbClr val="ffff00"/>
                </a:solidFill>
                <a:latin typeface="Tahoma"/>
                <a:ea typeface="Tahoma"/>
              </a:rPr>
              <a:t> </a:t>
            </a:r>
            <a:endParaRPr b="0" lang="en-US" sz="3200" spc="-1" strike="noStrike">
              <a:solidFill>
                <a:srgbClr val="000000"/>
              </a:solidFill>
              <a:latin typeface="Times New Roman"/>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80 “Al considerar la situación en materia de beneficios previsionales a que se refiere el artículo 62 de la ley N° 19.947, sobre Matrimonio Civil, y ello origine total o parcialmente un menoscabo económico del que resulte una compensación, el juez, cualquiera haya sido el régimen patrimonial del matrimonio, podrá ordenar el traspaso de fondos desde la cuenta de capitalización individual afecta al decreto ley N° 3.500, de 1980, del cónyuge que deba compensar a la cuenta de capitalización del cónyuge compensado o de no existir ésta, a una cuenta de capitalización individual, que se abra al efecto.</a:t>
            </a:r>
            <a:endParaRPr b="0" lang="en-US" sz="2400" spc="-1" strike="noStrike">
              <a:solidFill>
                <a:srgbClr val="000000"/>
              </a:solidFill>
              <a:latin typeface="Times New Roman"/>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Dicho traspaso, no podrá exceder del 50% de los recursos acumulados en la cuenta de capitalización individual del cónyuge que debe compensar, respecto de los fondos acumulados durante el matrimonio”.</a:t>
            </a:r>
            <a:endParaRPr b="0" lang="en-US" sz="2400" spc="-1" strike="noStrike">
              <a:solidFill>
                <a:srgbClr val="000000"/>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571680" y="571680"/>
            <a:ext cx="7772400" cy="564336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ahoma"/>
                <a:ea typeface="Tahoma"/>
              </a:rPr>
              <a:t>Ley N° 20.239 Libera del Impuesto a la Renta a las Compensaciones Económicas Originadas al Término de un Matrimonio</a:t>
            </a:r>
            <a:endParaRPr b="0" lang="en-US" sz="18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1°: “Agrégase en el artículo 17 de la Ley sobre Impuesto a la Renta, contenida en el artículo 1° del decreto ley N° 824, de 1974, el siguiente número 31°:</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31°.- Las compensaciones económicas convenidas por los cónyuges en escritura pública, acta de avenimiento o transacción y aquellas decretadas por sentencia judicial.".</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2°: “La presente ley regirá desde la entrada en vigencia de la ley Nº 19.947, que establece una nueva Ley de Matrimonio Civil”.</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685800" y="990360"/>
            <a:ext cx="7772400" cy="5678280"/>
          </a:xfrm>
          <a:prstGeom prst="rect">
            <a:avLst/>
          </a:prstGeom>
          <a:noFill/>
          <a:ln w="0">
            <a:noFill/>
          </a:ln>
        </p:spPr>
        <p:txBody>
          <a:bodyPr anchor="t">
            <a:normAutofit/>
          </a:bodyPr>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ea typeface="Tahoma"/>
              </a:rPr>
              <a:t>Concepto</a:t>
            </a:r>
            <a:endParaRPr b="0" lang="en-US" sz="3200" spc="-1" strike="noStrike">
              <a:solidFill>
                <a:srgbClr val="000000"/>
              </a:solidFill>
              <a:latin typeface="Times New Roman"/>
            </a:endParaRPr>
          </a:p>
          <a:p>
            <a:pPr marL="5335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Tahoma"/>
                <a:ea typeface="Tahoma"/>
              </a:rPr>
              <a:t>Se trata del derecho que le asiste al cónyuge más débil, para que en los casos de término del matrimonio, sea nulidad o por divorcio, se le compense el menoscabo económico sufrido producto de no haber desarrollado actividad remunerada -o por haberlo hecho en menor medida de lo que podía y quería- como consecuencia de su dedicación al cuidado de los hijos  y/o del hogar común”. </a:t>
            </a:r>
            <a:endParaRPr b="0" lang="en-US" sz="3200" spc="-1" strike="noStrike">
              <a:solidFill>
                <a:srgbClr val="000000"/>
              </a:solidFill>
              <a:latin typeface="Times New Roman"/>
            </a:endParaRPr>
          </a:p>
          <a:p>
            <a:pPr marL="5335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57160" y="57132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4400" spc="-1" strike="noStrike">
                <a:solidFill>
                  <a:srgbClr val="ffff00"/>
                </a:solidFill>
                <a:latin typeface="Tahoma"/>
                <a:ea typeface="Tahoma"/>
              </a:rPr>
              <a:t>Fundamentos</a:t>
            </a:r>
            <a:br>
              <a:rPr sz="4400"/>
            </a:br>
            <a:endParaRPr b="0" lang="en-US" sz="4400" spc="-1" strike="noStrike">
              <a:solidFill>
                <a:srgbClr val="000000"/>
              </a:solidFill>
              <a:latin typeface="Times New Roman"/>
            </a:endParaRPr>
          </a:p>
        </p:txBody>
      </p:sp>
      <p:sp>
        <p:nvSpPr>
          <p:cNvPr id="46"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Protección al cónyuge más débil.</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Pérdida del estatuto protector del matrimonio. </a:t>
            </a:r>
            <a:r>
              <a:rPr b="0"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El menoscabo económico que genera la ruptura.</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Costo de oportunidad laboral.</a:t>
            </a:r>
            <a:r>
              <a:rPr b="1" lang="es-ES" sz="2400" spc="-1" strike="noStrike">
                <a:solidFill>
                  <a:srgbClr val="ffffff"/>
                </a:solidFill>
                <a:latin typeface="Tahoma"/>
                <a:ea typeface="Tahoma"/>
              </a:rPr>
              <a:t>	</a:t>
            </a:r>
            <a:r>
              <a:rPr b="0"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Cierto reconocimiento a las labores domésticas. </a:t>
            </a:r>
            <a:r>
              <a:rPr b="0"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La equidad.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685800" y="857160"/>
            <a:ext cx="7772400" cy="5238720"/>
          </a:xfrm>
          <a:prstGeom prst="rect">
            <a:avLst/>
          </a:prstGeom>
          <a:noFill/>
          <a:ln w="0">
            <a:noFill/>
          </a:ln>
        </p:spPr>
        <p:txBody>
          <a:bodyPr anchor="t">
            <a:normAutofit fontScale="99000"/>
          </a:bodyPr>
          <a:p>
            <a:pPr marL="33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Naturaleza Jurídica</a:t>
            </a:r>
            <a:endParaRPr b="0" lang="en-US" sz="3600" spc="-1" strike="noStrike">
              <a:solidFill>
                <a:srgbClr val="000000"/>
              </a:solidFill>
              <a:latin typeface="Times New Roman"/>
            </a:endParaRPr>
          </a:p>
          <a:p>
            <a:pPr marL="33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Naturaleza alimenticia.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Indemnizatoria.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 </a:t>
            </a:r>
            <a:r>
              <a:rPr b="1" lang="es-ES" sz="2800" spc="-1" strike="noStrike">
                <a:solidFill>
                  <a:srgbClr val="ffffff"/>
                </a:solidFill>
                <a:latin typeface="Tahoma"/>
                <a:ea typeface="Tahoma"/>
              </a:rPr>
              <a:t>Enriquecimiento sin causa.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Mixtas o compuestas.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Institución sui generis.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Reflexión sobre la naturaleza juríd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Requisitos de procedencia art.61</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ea typeface="Tahoma"/>
              </a:rPr>
              <a:t>Que se trate</a:t>
            </a:r>
            <a:r>
              <a:rPr b="1" lang="es-ES" sz="2800" spc="-1" strike="noStrike">
                <a:solidFill>
                  <a:srgbClr val="ffffff"/>
                </a:solidFill>
                <a:latin typeface="Tahoma"/>
                <a:ea typeface="Tahoma"/>
              </a:rPr>
              <a:t> de</a:t>
            </a:r>
            <a:r>
              <a:rPr b="1" lang="es-ES_tradnl" sz="2800" spc="-1" strike="noStrike">
                <a:solidFill>
                  <a:srgbClr val="ffffff"/>
                </a:solidFill>
                <a:latin typeface="Tahoma"/>
                <a:ea typeface="Tahoma"/>
              </a:rPr>
              <a:t> un juicio de</a:t>
            </a:r>
            <a:r>
              <a:rPr b="1" lang="es-ES" sz="2800" spc="-1" strike="noStrike">
                <a:solidFill>
                  <a:srgbClr val="ffffff"/>
                </a:solidFill>
                <a:latin typeface="Tahoma"/>
                <a:ea typeface="Tahoma"/>
              </a:rPr>
              <a:t> divorcio o de nulidad de matrimonio.</a:t>
            </a:r>
            <a:r>
              <a:rPr b="1"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Existencia real y efectiva de un menoscabo económico.</a:t>
            </a:r>
            <a:endParaRPr b="0" lang="en-US" sz="2800" spc="-1" strike="noStrike">
              <a:solidFill>
                <a:srgbClr val="000000"/>
              </a:solidFill>
              <a:latin typeface="Times New Roman"/>
            </a:endParaRPr>
          </a:p>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No haber desarrollado trabajo remunerado durante el matrimonio o haberlo hecho en menor medida de lo que podía y quería.</a:t>
            </a:r>
            <a:r>
              <a:rPr b="1"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Dedicación al cuidado de los hijos y/o a las labores propias del hogar común.</a:t>
            </a:r>
            <a:r>
              <a:rPr b="1" lang="es-E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4"/>
          <p:cNvSpPr/>
          <p:nvPr/>
        </p:nvSpPr>
        <p:spPr>
          <a:xfrm>
            <a:off x="0" y="26028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51"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ahoma"/>
              </a:rPr>
              <a:t>Criterios para determinar su importe art.62</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71400"/>
            <a:ext cx="7772400" cy="4524120"/>
          </a:xfrm>
          <a:prstGeom prst="rect">
            <a:avLst/>
          </a:prstGeom>
          <a:noFill/>
          <a:ln w="0">
            <a:noFill/>
          </a:ln>
        </p:spPr>
        <p:txBody>
          <a:bodyPr anchor="t">
            <a:normAutofit fontScale="91000"/>
          </a:bodyPr>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La duración del matrimonio y de la vida en común de los cónyuges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situación patrimonial de ambos.</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buena o mala fe.</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edad y estado de salud del cónyuge beneficiario.</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Su situación en materia de beneficios previsionales y de salud.</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Su cualificación profesional y posibilidades de acceso al mercado laboral.</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colaboración que hubiere prestado a las actividades lucrativas del ot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4"/>
          <p:cNvSpPr/>
          <p:nvPr/>
        </p:nvSpPr>
        <p:spPr>
          <a:xfrm>
            <a:off x="468360" y="425520"/>
            <a:ext cx="806436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1"/>
          <p:cNvSpPr>
            <a:spLocks noGrp="1"/>
          </p:cNvSpPr>
          <p:nvPr>
            <p:ph/>
          </p:nvPr>
        </p:nvSpPr>
        <p:spPr>
          <a:xfrm>
            <a:off x="685800" y="713880"/>
            <a:ext cx="7772400" cy="5381640"/>
          </a:xfrm>
          <a:prstGeom prst="rect">
            <a:avLst/>
          </a:prstGeom>
          <a:noFill/>
          <a:ln w="0">
            <a:noFill/>
          </a:ln>
        </p:spPr>
        <p:txBody>
          <a:bodyPr anchor="t">
            <a:normAutofit fontScale="98000"/>
          </a:bodyPr>
          <a:p>
            <a:pPr marL="5972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Relación entre Los arts. 61 Y 62 NLMC</a:t>
            </a:r>
            <a:endParaRPr b="0" lang="en-US" sz="3600" spc="-1" strike="noStrike">
              <a:solidFill>
                <a:srgbClr val="000000"/>
              </a:solidFill>
              <a:latin typeface="Times New Roman"/>
            </a:endParaRPr>
          </a:p>
          <a:p>
            <a:pPr marL="5972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La relación existente entre lo que se denomina requisitos de procedencia y los requisitos para determinar la cuantía de esta prestación, es decir, la relación existente entre los arts. 61 y 62 NLMC. Dicho vínculo lo estableció el legislador en el art. 62, dada la doble función de los criterios mencionados, para determinar la existencia y la cuantía del menoscabo económico.</a:t>
            </a:r>
            <a:endParaRPr b="0" lang="en-US" sz="2800" spc="-1" strike="noStrike">
              <a:solidFill>
                <a:srgbClr val="000000"/>
              </a:solidFill>
              <a:latin typeface="Times New Roman"/>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999720"/>
            <a:ext cx="7772400" cy="50958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ahoma"/>
              </a:rPr>
              <a:t>Formas de determinar su monto</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Tahoma"/>
              </a:rPr>
              <a:t>Por acuerdo de las partes art. 63</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Que los cónyuges sean mayores de edad.</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Que el acuerdo conste en escritura pública o acta de avenimien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Aprobación del tribunal.</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Tahoma"/>
              </a:rPr>
              <a:t>Regulación por el juez art. 64</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4T19:55:10Z</dcterms:created>
  <dc:creator>Claudia Alvarez</dc:creator>
  <dc:description/>
  <dc:language>en-US</dc:language>
  <cp:lastModifiedBy>Cristian Lepin</cp:lastModifiedBy>
  <dcterms:modified xsi:type="dcterms:W3CDTF">2010-04-12T15:28:25Z</dcterms:modified>
  <cp:revision>36</cp:revision>
  <dc:subject/>
  <dc:title>Sin título de diapositiva</dc:title>
</cp:coreProperties>
</file>