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A7897-75D3-4952-BCFD-4A72DC18D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5BF9-152B-47D5-90C2-2D2D5FF0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2CBB2-DE0C-473C-8F43-E5ECA6002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3DC08-4F90-4D37-8296-2C5DBF8B0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3362-C271-4DCF-8ACF-815BD98BB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31A9-E52F-466C-9A1F-D1575B29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F07DD-2FFB-49E1-8514-4CE8F759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EF363-C1FA-45E1-BD66-599D99C9E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05B5C-7E36-47C7-9F25-4D82550E0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2025-5252-41E6-A121-C4A57912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7B47-162E-4466-BB96-F73DD5C5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B1D2-630A-445F-8DC1-8AB559BF2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BC30-ADAF-4C21-AAFC-E34C8671077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Divorcio en la Nueva Ley de Matrimonio Civil</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a:t>
            </a:r>
            <a:r>
              <a:rPr b="1" lang="es-ES" sz="2400" spc="-1" strike="noStrike" u="sng">
                <a:solidFill>
                  <a:srgbClr val="ffffff"/>
                </a:solidFill>
                <a:uFillTx/>
                <a:latin typeface="Tahoma"/>
                <a:ea typeface="Tahoma"/>
              </a:rPr>
              <a:t>Plazo:</a:t>
            </a:r>
            <a:r>
              <a:rPr b="0" lang="es-ES" sz="2400" spc="-1" strike="noStrike">
                <a:solidFill>
                  <a:srgbClr val="ffffff"/>
                </a:solidFill>
                <a:latin typeface="Tahoma"/>
                <a:ea typeface="Tahoma"/>
              </a:rPr>
              <a:t> mínimo de tres añ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n cuanto al cómputo de los plazos, se debe tener en cuenta lo dispuesto en los arts. 55 inc. 4º, 22 y 25, y el art 2º inc. 3º transitorio  NLMC.</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echa cierta:</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cuerdos que conste en uno de los instrumentos señalados (art. 22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de la demanda (relaciones mutuas o respecto de los hijos, ARTS. 23 Y 25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cese de convivencia (art. 22 a y b, 25 NLM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ea typeface="Tahoma"/>
              </a:rPr>
              <a:t>Cláusula de dureza</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Requisitos:</a:t>
            </a:r>
            <a:endParaRPr b="0" lang="en-US" sz="2800" spc="-1" strike="noStrike">
              <a:solidFill>
                <a:srgbClr val="000000"/>
              </a:solidFill>
              <a:latin typeface="Times New Roman"/>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Solicitud de parte.</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Incumplimiento reiterado durante el cese de la obligación alimenticia, respecto del cónyuge y de los hijos comunes.</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Que este incumplimiento sea injustificad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20280"/>
            <a:ext cx="7772400" cy="547524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ha discutido sobre la naturaleza de la disposición, señalando que correspondería a una excepción perentoria destinada a enervar la acción  o como un presupuesto de la misma (CS 30 de julio 2007).</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También, se ha discutido si el incumplimiento de los deberes alimenticios debe ser respecto de ambos (Barrientos), o basta el incumplimiento respecto de uno de ellos (Ramos), dada la conjunción copulativa “y”.</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diferencias en cuanto a la exigencia de una declaración judicial previa que regule el derecho de alimentos (C.A.  Santiago y de Arica).</a:t>
            </a:r>
            <a:endParaRPr b="0" lang="en-US" sz="24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1214280"/>
            <a:ext cx="7772400" cy="5383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 Respecto a la expresión pudiendo hacerlo (similar art. 225 CC) , por ejemplo en caso de quiebra del alimentante (C.A. Concepción) o cesantía (C.A. Concep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 Por último, se ha señalado que es una sanción civil carente de efecto retroactivo, de excepción y de interpretación restrictiva (C.A. Antofagasta y C.A. de La Serena), en contra, la opinión mayoritaria, la aplicación retroactiva de la excepción, en virtud de lo dispuesto en el art. 2º transitorio NLMC (C.S. y C.A. de Chillán)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Según el prof. Ramos, la sentencia que rechace la demanda no produce cosa juzgada, de tal suerte que se puede volver a demandar, previo cumplimiento de los requisitos legales, es decir, nuevo cese de la convivencia, nuevo plazo de tres años y cumplir en forma regular durante este nuevo plazo los deberes alimenticios, con el cónyuge e hij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Ley no distingue si se debe tratar de alimentos definitivos o provisorios, no exige que se hayan decretado apremios, ni mucho menos la reiteración de los apremios, como por ejemplo lo hace en el art. 19 de la Ley Nº 14.908, sobre Abandono de Familia y Pago de Pensiones alimenticia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peso de la prueba, según lo ha resuelto la Corte Suprema corresponde al actor, por aplicación del art. 1698 CC.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ivorcio </a:t>
            </a:r>
            <a:r>
              <a:rPr b="1" lang="es-ES" sz="3200" spc="-1" strike="noStrike">
                <a:solidFill>
                  <a:srgbClr val="ffff00"/>
                </a:solidFill>
                <a:latin typeface="Tahoma"/>
                <a:ea typeface="Tahoma"/>
              </a:rPr>
              <a:t>mutuo</a:t>
            </a:r>
            <a:r>
              <a:rPr b="1" lang="es-ES" sz="3200" spc="-1" strike="noStrike">
                <a:solidFill>
                  <a:srgbClr val="ffff00"/>
                </a:solidFill>
                <a:latin typeface="Arial"/>
              </a:rPr>
              <a:t> acuerdo</a:t>
            </a:r>
            <a:endParaRPr b="0" lang="en-US" sz="32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 Solicitud de común acuerdo. </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Cese de convivencia.</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 Plazo superior a un año.</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 Convenio regulador.</a:t>
            </a: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 se exige además que se deberá acompañar, por lo que entendemos que debe ser por escrito, conjuntamente con la demanda (presupuesto de la acción).</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196640"/>
            <a:ext cx="7772400" cy="51116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mpleto: </a:t>
            </a:r>
            <a:r>
              <a:rPr b="0" lang="es-ES" sz="2400" spc="-1" strike="noStrike">
                <a:solidFill>
                  <a:srgbClr val="ffffff"/>
                </a:solidFill>
                <a:latin typeface="Tahoma"/>
                <a:ea typeface="Tahoma"/>
              </a:rPr>
              <a:t>si regula todas y cada una de las materias del art. 21; </a:t>
            </a:r>
            <a:r>
              <a:rPr b="1" lang="es-ES" sz="2400" spc="-1" strike="noStrike" u="sng">
                <a:solidFill>
                  <a:srgbClr val="ffffff"/>
                </a:solidFill>
                <a:uFillTx/>
                <a:latin typeface="Tahoma"/>
                <a:ea typeface="Tahoma"/>
              </a:rPr>
              <a:t>entre los cónyuges</a:t>
            </a:r>
            <a:r>
              <a:rPr b="0" lang="es-ES" sz="2400" spc="-1" strike="noStrike">
                <a:solidFill>
                  <a:srgbClr val="ffffff"/>
                </a:solidFill>
                <a:latin typeface="Tahoma"/>
                <a:ea typeface="Tahoma"/>
              </a:rPr>
              <a:t>, los alimentos y las materias vinculadas al régimen de bienes; </a:t>
            </a:r>
            <a:r>
              <a:rPr b="1" lang="es-ES" sz="2400" spc="-1" strike="noStrike" u="sng">
                <a:solidFill>
                  <a:srgbClr val="ffffff"/>
                </a:solidFill>
                <a:uFillTx/>
                <a:latin typeface="Tahoma"/>
                <a:ea typeface="Tahoma"/>
              </a:rPr>
              <a:t>respecto de los hijos</a:t>
            </a:r>
            <a:r>
              <a:rPr b="0" lang="es-ES" sz="2400" spc="-1" strike="noStrike">
                <a:solidFill>
                  <a:srgbClr val="ffffff"/>
                </a:solidFill>
                <a:latin typeface="Tahoma"/>
                <a:ea typeface="Tahoma"/>
              </a:rPr>
              <a:t>, alimentos, cuidado personal y relación directa y regular.</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Suficiente:</a:t>
            </a:r>
            <a:r>
              <a:rPr b="0" lang="es-ES" sz="2400" spc="-1" strike="noStrike">
                <a:solidFill>
                  <a:srgbClr val="ffffff"/>
                </a:solidFill>
                <a:latin typeface="Tahoma"/>
                <a:ea typeface="Tahoma"/>
              </a:rPr>
              <a:t> si resguarda el interés superior de los hijos (art. 222 inc. 2º CC), procura aminorar el menoscabo económico que pudo causar la ruptura y establece relaciones equitativas, hacia el futuro, entre los cónyuges  cuyo divorcio se solicit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Acuerdo completo y su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476280"/>
            <a:ext cx="7772400" cy="5619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ea typeface="Tahoma"/>
              </a:rPr>
              <a:t>La reanudación de la vida en comú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puede considerar como parte integrante del cese efectivo de la convivencia, aun cuando se fije como punto de prueba independient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Otra alternativa es considerar que se trata de una excepción, que cede en beneficio del cónyuge demandado, quien podrá alegarla y en su caso se deberá desechar la acción por no cumplir con el plazo exigido, como consecuencia pierde el tiempo señalad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 un elemento material, reanudación de la convivencia y el ánimo de perman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765000"/>
            <a:ext cx="7772400" cy="53308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Divorcio por culpa</a:t>
            </a:r>
            <a:endParaRPr b="0" lang="en-US" sz="32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400" spc="-1" strike="noStrike">
                <a:solidFill>
                  <a:srgbClr val="ffffff"/>
                </a:solidFill>
                <a:latin typeface="Tahoma"/>
                <a:ea typeface="Tahoma"/>
              </a:rPr>
              <a:t>El art. 54 NLMC regula el divorcio sanción, establece una causa genérica en el inc. 1º, y luego una enumeración no taxativa, de ciertos hechos que configuran la causal.</a:t>
            </a:r>
            <a:endParaRPr b="0" lang="en-US" sz="2400" spc="-1" strike="noStrike">
              <a:solidFill>
                <a:srgbClr val="000000"/>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alta imputable al cónyuge.</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Violación grave : a) deberes y obligaciones que les impone el matrimonio (deberes de fidelidad, socorro, ayuda mutua, respeto, protección y convivencia), b) deberes y obligaciones para con los hij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torne intolerable la vida en comú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ea typeface="Tahoma"/>
              </a:rPr>
              <a:t>Noticia histórica</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17 de mayo de 2004, después de casi diez años de tramitación en el Congreso Nacional, se publicó en el Diario Oficial la Ley N° 19.947, “Nueva Ley de Matrimonio Civil”, que vino a sustituir a la antigua legislación que data del año 1884. </a:t>
            </a:r>
            <a:endParaRPr b="0" lang="en-US" sz="2400" spc="-1" strike="noStrike">
              <a:solidFill>
                <a:srgbClr val="000000"/>
              </a:solidFill>
              <a:latin typeface="Times New Roman"/>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a nueva normativa, fruto del trabajo de parlamentarios y especialistas, principalmente abogados, representantes de un amplio y plural espectro de filosofías y concepciones políticas, ratifica como principio base, en concordancia con lo que prescribe la Constitución Política, la protección a la familia como célula fundamental de la sociedad.</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incurre en la causal, entre otros casos, cuando ocurre  cualquiera de los siguientes hech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º Atentado contra la vida o malos tratamientos graves contra la integridad física o psíquica del cónyuge o alguno de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º Transgresión grave y reiterada de los deberes de convivencia, socorro  y fidelidad propios del matrimonio. El abandono continuo o reiterado del hogar común, es una forma de trasgresión grave de los deberes del matrimoni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º Condena ejecutoriada por la comisión de alguno de los crímenes o simples delitos contra el orden de las familias y contra la moralidad pública o contra las person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º Conducta homosexu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5º Alcoholismo o drogadicción  que constituya un impedimento grave para la convivencia armoniosa entre los cónyuges o entre éstos y los hijos, y</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6º Tentativa para prostituir al otro cónyuge o a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gún el art. 56 inc.2º NLMC “…salvo cuando se invoque la causal contemplada en el art. 54 NLMC, en cuyo caso la acción corresponde sólo al cónyuge que no hubiere dado lugar a aquélla”.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42960" y="571680"/>
            <a:ext cx="7772400" cy="5473440"/>
          </a:xfrm>
          <a:prstGeom prst="rect">
            <a:avLst/>
          </a:prstGeom>
          <a:noFill/>
          <a:ln w="0">
            <a:noFill/>
          </a:ln>
        </p:spPr>
        <p:txBody>
          <a:bodyPr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Jurisprudencia</a:t>
            </a:r>
            <a:endParaRPr b="0" lang="en-US" sz="32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Por falta se ha entendido como el “quebrantamiento de una obligación”, la que debe ser “imputable” al otro cónyuge, vale decir, atribuible a culpa del otro cónyuge (C. A. Concepción).</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t>
            </a:r>
            <a:r>
              <a:rPr b="0" lang="es-ES" sz="2400" spc="-1" strike="noStrike">
                <a:solidFill>
                  <a:srgbClr val="ffffff"/>
                </a:solidFill>
                <a:latin typeface="Tahoma"/>
                <a:ea typeface="Tahoma"/>
              </a:rPr>
              <a:t>Para que dichas faltas sean imputables a la cónyuge es necesario  que se hayan cometido con plena voluntad, conocimiento y conciencia  de está” (C.A. Santiago).</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requisito de violación grave, esto es, “grande, de mucha entidad o importancia” a los deberes y obligaciones que impone el matrimonio, o sea a los deberes de fidelidad, socorro, ayuda mutua, respeto, protección y convivencia (C.A. Concepción).</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4. El requisito de tornar intolerable la vida en común, se ha entendido que “el legislador estimó que la causal invocada exige una intensidad que haga intolerable la convivencia y a la vez lleva implícito un ataque al honor, reputación o dignidad del otro cónyu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La gran innovación de la Ley Nº 19.947 es introducir el divorcio vincular en Chile. Tanto es así que corrientemente se habla de la “ley de divorcio”, en circunstancias que trata además una serie de otras materias . Con la incorporación del divorcio vincular cae la última columna del Derecho de Familia del Código de Bello, quedando con ello nuestro derecho positivo en esta materia , a tono con la legislación comparada (René Ramos). </a:t>
            </a:r>
            <a:endParaRPr b="0" lang="en-US" sz="32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ahoma"/>
                <a:ea typeface="Tahoma"/>
              </a:rPr>
              <a:t>Tipos de divorcio</a:t>
            </a:r>
            <a:br>
              <a:rPr sz="3200"/>
            </a:b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Con expresión de causa  </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 Divorcio san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1. Catálogo caus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2. Formulación genéric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 Divorcio (remedio por petición de ambos o en forma unilater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1. Sistema cerrado</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2. Sistema abie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 Sin expresión de causa (Incausado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1. Por petición de ambos cónyuge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2. Por petición unilat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Tipos de divorcio en la NLMC</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 Divorcio Por cese efectivo de la convivencia  (art. 55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1.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Unilateral  (art. 55 inc. 3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2.</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Mutuo acuerdo  (art. 55 inc. 1 y 2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Divorcio por culpa  (art.54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Divorcio unilateral por cese de la convivenc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85960"/>
            <a:ext cx="7772400" cy="4309920"/>
          </a:xfrm>
          <a:prstGeom prst="rect">
            <a:avLst/>
          </a:prstGeom>
          <a:noFill/>
          <a:ln w="0">
            <a:noFill/>
          </a:ln>
        </p:spPr>
        <p:txBody>
          <a:bodyPr anchor="t">
            <a:normAutofit fontScale="92000"/>
          </a:bodyPr>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Otras denominaciones:  divorcio remedio , divorcio solución, por ruptura irremediable de la vida en común.</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Requisitos: cese efectivo de la convivencia, plazo  superior a tres años.</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1. </a:t>
            </a:r>
            <a:r>
              <a:rPr b="1" lang="es-ES" sz="2800" spc="-1" strike="noStrike" u="sng">
                <a:solidFill>
                  <a:srgbClr val="ffffff"/>
                </a:solidFill>
                <a:uFillTx/>
                <a:latin typeface="Tahoma"/>
                <a:ea typeface="Tahoma"/>
              </a:rPr>
              <a:t>Cese efectivo de la convivencia</a:t>
            </a:r>
            <a:r>
              <a:rPr b="0" lang="es-ES" sz="2800" spc="-1" strike="noStrike">
                <a:solidFill>
                  <a:srgbClr val="ffffff"/>
                </a:solidFill>
                <a:latin typeface="Tahoma"/>
                <a:ea typeface="Tahoma"/>
              </a:rPr>
              <a:t>: Se refiere a la separación de hecho entre los cónyuges, es decir al término de la comunidad de vida que implica el matrimon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1428840"/>
            <a:ext cx="7772400" cy="46670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Este requisito de la “efectividad” del cese de la convivencia, no obstante su apariencia de  objetividad, no ha de referirse a los que algunos civilistas denominan, por influencia canónica, </a:t>
            </a:r>
            <a:r>
              <a:rPr b="0" i="1" lang="es-ES" sz="2800" spc="-1" strike="noStrike">
                <a:solidFill>
                  <a:srgbClr val="ffffff"/>
                </a:solidFill>
                <a:latin typeface="Tahoma"/>
                <a:ea typeface="Tahoma"/>
              </a:rPr>
              <a:t>corpus separationis </a:t>
            </a:r>
            <a:r>
              <a:rPr b="0" lang="es-ES" sz="2800" spc="-1" strike="noStrike">
                <a:solidFill>
                  <a:srgbClr val="ffffff"/>
                </a:solidFill>
                <a:latin typeface="Tahoma"/>
                <a:ea typeface="Tahoma"/>
              </a:rPr>
              <a:t> o hecho material de la separación física, sino propiamente al </a:t>
            </a:r>
            <a:r>
              <a:rPr b="0" i="1" lang="es-ES" sz="2800" spc="-1" strike="noStrike">
                <a:solidFill>
                  <a:srgbClr val="ffffff"/>
                </a:solidFill>
                <a:latin typeface="Tahoma"/>
                <a:ea typeface="Tahoma"/>
              </a:rPr>
              <a:t>animus separationi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t>
            </a:r>
            <a:r>
              <a:rPr b="0" lang="es-ES" sz="3200" spc="-1" strike="noStrike">
                <a:solidFill>
                  <a:srgbClr val="ffffff"/>
                </a:solidFill>
                <a:latin typeface="Tahoma"/>
                <a:ea typeface="Tahoma"/>
              </a:rPr>
              <a:t>ya que si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subsisite entre los cónyuges no habrá cese efectivo  de la convivencia, aunque haya separación material y los esposos vivan en lugares diferentes y, por el contrario, si falta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tendrá lugar técnicamente el cese de la convivencia  aunque convivan los esposos bajo el mismo techo (Barrientos  y Nov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AUDIO</cp:lastModifiedBy>
  <dcterms:modified xsi:type="dcterms:W3CDTF">2010-09-30T00:30:30Z</dcterms:modified>
  <cp:revision>33</cp:revision>
  <dc:subject/>
  <dc:title>Sin título de diapositiva</dc:title>
</cp:coreProperties>
</file>