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Universidad de Chile - Facultad de Dere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4C435E-9FB6-4C57-9EE5-DE7A53B2153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Universidad de Chile - Facultad de Derecho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AA5EA3-77FA-4438-9FA2-EFF291259F1A}" type="slidenum">
              <a:rPr b="0" lang="es-C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313E-439E-4054-BDCD-D7E19E910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EB7C-9FEC-4B1F-BF3E-1627485B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0D08-386E-4C24-9127-DDFEB8138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ED53-CE8A-4707-8EE6-FDB591961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775B-4AFD-48D5-AE57-8F0F09934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3D96-7B9E-496B-94ED-13F1E48E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1F77-8D92-4B96-BB15-BA193356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CB37-7E5A-4C66-B25B-A545A231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1AB8-6503-4010-AB7F-471F8B26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2328-07A4-4297-B3DA-18EDB75E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9AA9-FB4F-4799-8626-5D0DF72B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9C98-63EB-4031-B390-CA1F2090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17B7-DD9A-4E06-A6CE-09F2C883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4101-1401-4683-A6AD-85420B7F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7549-87E3-42E1-BD39-7FC9F712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28E9-556D-41FE-97D5-F3F0A3542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0F06-97BC-4CCA-A673-5AEE1A53E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811D-0A1E-475A-BE2A-1B5ECCC8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DF60-D931-4AC9-9D5F-CA428BF9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F2F7-97AE-47F8-9515-830EE578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4FEF-5129-4927-A52A-F3E66CCB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0C64-2930-4F0C-8F56-264A73B6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F74E-14D7-48E1-AC2F-B17F8392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085F-6A15-4E3A-BF6A-E8EF8F41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836A-5272-45A1-BC02-D737C5366F43}" type="slidenum">
              <a:rPr b="0" lang="es-C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D160-1778-474D-8564-FA7E8A07ACF1}" type="slidenum">
              <a:rPr b="0" lang="es-C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206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s-ES_tradnl" sz="3400" spc="-1" strike="noStrike">
                <a:solidFill>
                  <a:srgbClr val="ffffcc"/>
                </a:solidFill>
                <a:latin typeface="Garamond"/>
              </a:rPr>
              <a:t>INTRODUCCIÓN AL DERECHO I</a:t>
            </a:r>
            <a:br>
              <a:rPr sz="3200"/>
            </a:br>
            <a:r>
              <a:rPr b="1" lang="es-ES_tradnl" sz="3200" spc="-1" strike="noStrike">
                <a:solidFill>
                  <a:srgbClr val="ffffcc"/>
                </a:solidFill>
                <a:latin typeface="Garamond"/>
              </a:rPr>
              <a:t>_____________________________________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3200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Prof. Miguel González Lem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Universidad de Chile - Facultad de Derech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Primer Semestre 20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Funciones básicas del Derecho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1. Regula y orienta el comportamiento de las person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 Facilita las relaciones (jurídicas) entre particula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3. Modelo o técnica de solución pacífica de conflict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4. Legitima y limita el poder del Est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00040" y="16430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ero,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¿qué es el derech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No todos los conceptos requieren ser defini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Más que buscar la naturaleza o definición del derecho, debemos preguntarn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¿Cuáles son las características necesarias del derecho (objetivo)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c000"/>
                </a:solidFill>
                <a:uFillTx/>
                <a:latin typeface="Garamond"/>
              </a:rPr>
              <a:t>Características necesarias del Derecho (Objetivo)</a:t>
            </a:r>
            <a:r>
              <a:rPr b="1" lang="es-ES_tradnl" sz="2800" spc="-1" strike="noStrike">
                <a:solidFill>
                  <a:srgbClr val="ffc0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es una realidad norm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es un sistema institucionaliz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es coerci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es una realidad preferentemente norm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5.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es una práctica argumentativa e interpretativ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El derecho es una realidad normat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Se vincula con normas o está compuesto de ell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¿Qué tipo de norma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istinción previ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) Leyes de la naturalez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b) Leyes de la socie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Leyes de la naturaleza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escriben realidades empíric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Ámbito ontológ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rincipio de causal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ado A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será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B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Leyes de la sociedad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xpresan pautas de comportamien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Ámbito deontológ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rincipio de imput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ado A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debe ser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B, dado no B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debe ser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C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Garamond"/>
              </a:rPr>
              <a:t>Qué distingue a las normas jurídicas de otros tipos de normas (de la sociedad), como son las normas religiosas o las normas morales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28760" y="17146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Las </a:t>
            </a:r>
            <a:r>
              <a:rPr b="1" lang="es-ES" sz="3100" spc="-1" strike="noStrike">
                <a:solidFill>
                  <a:srgbClr val="ffffff"/>
                </a:solidFill>
                <a:latin typeface="Garamond"/>
              </a:rPr>
              <a:t>normas jurídicas</a:t>
            </a: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, a diferencia de las normas de trato social, morales, éticas o religiosas: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Pertenecen a un </a:t>
            </a:r>
            <a:r>
              <a:rPr b="0" lang="es-ES" sz="3100" spc="-1" strike="noStrike" u="sng">
                <a:solidFill>
                  <a:srgbClr val="ffffff"/>
                </a:solidFill>
                <a:uFillTx/>
                <a:latin typeface="Garamond"/>
              </a:rPr>
              <a:t>sistema institucionalizado</a:t>
            </a: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Son </a:t>
            </a:r>
            <a:r>
              <a:rPr b="0" lang="es-ES" sz="3100" spc="-1" strike="noStrike" u="sng">
                <a:solidFill>
                  <a:srgbClr val="ffffff"/>
                </a:solidFill>
                <a:uFillTx/>
                <a:latin typeface="Garamond"/>
              </a:rPr>
              <a:t>coercibles</a:t>
            </a: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El derecho es un sistema institucionaliz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regula su propia creación (autogenerativ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Señala quiénes, a través de qué procedimientos y con qué limites están facultados par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)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rear, modificar o derogar normas jurídic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i)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esolver conflictos de relevancia jurídic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aracterística asociada a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Fuentes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Normas de competen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El derecho es coerci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asgo distintivo y de mayor capacidad identificator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xclusión del uso de la fuerza en las relaciones soci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uso de la fuerza el derecho lo reserva para sí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istinc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i) Coercibi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ii) Coac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iii) San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28760" y="1285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La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coercibilidad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es un atributo inherente a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ementos del concep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osibilidad del empleo de la fuerz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osibilidad legíti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Uso de la fuerza socialmente organizada o institucionalizad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cc"/>
                </a:solidFill>
                <a:latin typeface="Garamond"/>
              </a:rPr>
              <a:t>INTRODUCCIÓN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I. Las funciones sociales o puntos de vi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relacionados con el derech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4 Conector recto"/>
          <p:cNvSpPr/>
          <p:nvPr/>
        </p:nvSpPr>
        <p:spPr>
          <a:xfrm>
            <a:off x="428760" y="1428840"/>
            <a:ext cx="82152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El derecho es una realidad preferentemente normat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La realidad normativa es por sí misma un fenómeno complejo y de componentes variad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La complejidad aumenta desde el instante en que se advierte que las normas no son el único componente o pieza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Junto a las normas existen también otros estándares jurídicos, a saber: principios y valo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Principios juríd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stándares del derecho que adolecen de indeterminación conceptu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Presentan mayor grado de abstracción y generalidad que las norm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e han identificado diversos sentidos del térmi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econocidos en nuestro ordenamiento como 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“espíritu general de la legislación”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y/o 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“principios de equidad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 u="sng">
                <a:solidFill>
                  <a:srgbClr val="ffffff"/>
                </a:solidFill>
                <a:uFillTx/>
                <a:latin typeface="Garamond"/>
              </a:rPr>
              <a:t>Ej. caso Riggs vs. Palmer (N. York, 1889)</a:t>
            </a:r>
            <a:r>
              <a:rPr b="0" lang="es-CL" sz="30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119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s-CL" sz="3000" spc="-1" strike="noStrike">
                <a:solidFill>
                  <a:srgbClr val="ffffff"/>
                </a:solidFill>
                <a:latin typeface="Garamond"/>
              </a:rPr>
              <a:t>(…) todas las leyes pueden ser controladas en su operación y efecto por máximas generales y fundamentales del derecho consuetudinario. </a:t>
            </a:r>
            <a:r>
              <a:rPr b="1" lang="es-CL" sz="3000" spc="-1" strike="noStrike" u="sng">
                <a:solidFill>
                  <a:srgbClr val="ffffff"/>
                </a:solidFill>
                <a:uFillTx/>
                <a:latin typeface="Garamond"/>
              </a:rPr>
              <a:t>A nadie se le permitirá aprovecharse de su propio fraude o sacar partido de su propia injusticia</a:t>
            </a:r>
            <a:r>
              <a:rPr b="0" lang="es-CL" sz="3000" spc="-1" strike="noStrike">
                <a:solidFill>
                  <a:srgbClr val="ffffff"/>
                </a:solidFill>
                <a:latin typeface="Garamond"/>
              </a:rPr>
              <a:t>, o fundar demanda alguna sobre su propia inequidad o adquirir propiedad por su propio crimen”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Ejemplos de nuestro ordenamiento jurídico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supremacía constitucio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legalidad (juridicidad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inexcusabi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inocen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non bis in id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no discrimin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la buena f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la autonomía de la volunt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Funciones reconocidas a los principios en nuestro ordenamiento jurídic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Función de interpretació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i="1" lang="es-ES" sz="2800" spc="-1" strike="noStrike">
                <a:solidFill>
                  <a:srgbClr val="ffffff"/>
                </a:solidFill>
                <a:latin typeface="Garamond"/>
              </a:rPr>
              <a:t>espíritu general de la legislació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(art. 24 C. Civil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Función de integració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i="1" lang="es-ES" sz="2800" spc="-1" strike="noStrike">
                <a:solidFill>
                  <a:srgbClr val="ffffff"/>
                </a:solidFill>
                <a:latin typeface="Garamond"/>
              </a:rPr>
              <a:t>principios de equidad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(art. 170 Nº 5 CPC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Val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on estándares aún más abiertos e indeterminados que los principi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strechamente vinculados a la noción de principi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j. Artículo 1.1 Constitución español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España se constituye como un Estado social y democrático de derecho, que propugna como </a:t>
            </a:r>
            <a:r>
              <a:rPr b="1" i="1" lang="es-CL" sz="2800" spc="-1" strike="noStrike">
                <a:solidFill>
                  <a:srgbClr val="ffffff"/>
                </a:solidFill>
                <a:latin typeface="Garamond"/>
              </a:rPr>
              <a:t>valores superiores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 de su ordenamiento jurídico la </a:t>
            </a:r>
            <a:r>
              <a:rPr b="1" i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libertad, la justicia, la igualdad y el pluralismo político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Gran relevancia de los valores en el ámbito constituciona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j. Artículo 1 inc.1º CPR: 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“Las personas nacen libres e iguales en dignidad</a:t>
            </a:r>
            <a:r>
              <a:rPr b="1" i="1" lang="es-C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y derechos”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ortalecen la constitución en el proceso de creación y aplicación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Confieren al ordenamiento jurídico mayor densidad normativa y conceptu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5.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El derecho es una práctica argumentativa e interpretat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istinción entre razonar, argumentar e interpret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l razonamiento jurídico debe tomar en cuenta las distintas piezas del derecho: normas, principios y valo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l razonamiento jurídico es un razonamiento práct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l razonamiento jurídico se manifiesta en diversas sedes a través de distintos agentes u operadores jurídicos, siendo la más visible la actividad judici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  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Alcances preliminares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estudio del derecho no se reduce sólo a la búsqueda de un concepto o a la exposición de determinadas características esenciales, sino que debe incorporar, para su mayor comprensión, la perspectiva de ciertas actividades o funciones sociales relacionadas con el mism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Garamond"/>
              </a:rPr>
              <a:t>Roles a considerar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1. Persona comú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2. Legislador (polític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3. Jue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4. Abog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5. Juris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0040" y="149976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regunta que genera desorient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Omnipresencia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Heterogeneidad de respuest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La cosa justa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Conjunto de órdenes respaldadas por la amenaza de castigos”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Producto orgánico determinado históricamente por el desarrollo del pueblo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Profecías acerca de lo que harán los tribunales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Orden coactivo eficaz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Unión de reglas primarias y secundarias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La persona comú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¿Qué entendemos por persona comú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os principales formas de manifestars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) Súbdito (lego = moralidad de la autoridad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) Ciudadano (informad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.1) Ciudadano mínimo (indiferent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.2) Ciudadano situado (participativo = moralidad de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la asociación y moralidad de los principio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ercepción menos erudita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El legislador (polític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 el creador por excelencia de las normas jurídic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tá en su esfera de atribuciones crear, modificar o suprimir las normas (leyes) que componen 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Función directamente vinculada a la política (régimen democrátic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¿Quiénes cumplen el rol de legislador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Visión instrumental del derecho (¿activación del cambio social?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asgos atribuidos al legislador: imparcial, neutral, general y futurist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dea de “legislador racional”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Únic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Impereceder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Omniscient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Operativ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Omnicomprensivo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Coherente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Preciso y justo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El jue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ol central en el conocimiento y comprensión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Función jurisdiccional (art. 76 CPR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istinción entre juez y tribu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 un conocedor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 un funcionario del Estado. Integra una organización burocrática y jerarquizada: Poder Judici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Visión tradicional de la cultura jurídica chilena sobre la función judicial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1. El juez no produce derecho, sólo aplica el derech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eexistente (poder subordinado al legislativ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 Concepción mecanicista y logicista de la fun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jurisdiccional (silogismo judicial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3. Su labor interpretativa debe conducir siempre a u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único resultado posible e invaria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4. El juez “es el esclavo de la ley” (Andrés Bell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El abog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Función que tiene reconocimiento constitucio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s definiciones que entregan el COT y el Código de Ética se centran en el rol de abogado litiga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derecho es para el abogado un elemento fijo con el que es necesario contar para determinar sus cursos de acc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Abogand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Negociand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Aconsejand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Gestionand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00040" y="17859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abogado es un “traductor” del lenguaje leg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Funciones esencial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) Positiva construc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- Redacción de contrato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- Constitución de sociedades civiles o comercial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- Redacción de estatutos sociales o corporativo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) Negativa defens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- Litigios ante tribunal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- Defensa ante órganos administrativo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5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El juri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derecho es el objeto de su ciencia (“lingüista”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sume la posición de un analista, un pensador, un investigador, un científico frente a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naliza el derecho en sí mismo, sin una finalidad inmediata o práct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xplica, conceptualiza, clasifica, sistematiza e interpre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tá llamado a conectar en forma comprensiva todos las funciones sociales o puntos de vista relacionados con 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Alcances preliminar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Garamond"/>
              </a:rPr>
              <a:t>¿Presenta el derecho fines específico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egunta controversial que cuenta con respuestas disímiles dependiendo de la visión del derecho con que se abord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ero, al margen de las disputas dogmáticas o ideológicas en torno al derecho, todo parece indicar que sí es posible asociarlo a ciertos fines o metas socialmente deseab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ntre éstos destacan: la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paz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, la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seguridad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y la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justi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Paz (orde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torre la enmarca dentro de la noción de segur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sistema jurídico es visto como un mecanismo de paz social (misión pacificadora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derecho es un medio institucionalizado de solución de conflict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ohibición del uso de la fuerza por parte de los individu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derecho dispone del uso de la fuerza socialmente organizada (es un sistema coercibl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luralidad de enfoqu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Origen de las dificultades para su defini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elación entre el lenguaje y la rea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oncepciones contrapuestas en el campo de la teoría de la definic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1. Concepción platón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2. Concepción convencionalis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torre plantea una distinción conceptualmente útil. A su juicio, el derecho resguard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 seguridad en las relaciones jurídicas entre  los individu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 seguridad del individuo frente al Est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La seguridad en las relaciones jurídicas entre los individu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Seguridad en el tráfico juríd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nocimiento de las normas, vías e instituciones jurídicas de que disponen los individuos para relacionarse en socieda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elaciones ámbito privado. Ej. normas sobre la compraventa de inmuebles, constitución de sociedades, reglas sucesorias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La seguridad del individuo frente al Est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.1) Asociado a la idea de certeza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Que las normas del derecho sean conocidas y comprendidas por los sujetos imperado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Que dichas normas fijen con razonable precis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) lo que ordenan, prohíben y autorizan; 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i) las consecuencias jurídicas que generan s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ncumplimientos o contravenc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La seguridad del individuo frente al Est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.2) Protección de los derechos fundamental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spcAft>
                <a:spcPts val="4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ases doctrinari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Liberalismo polít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Estado de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Constitucionalism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Garantía de derechos civiles y políticos (Declaración de los Derechos del Hombre y del Ciudadano, 1789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esafío: reconocimiento y garantía de los derechos económicos, sociales y cultura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28760" y="149976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Justi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dentificada tradicionalmente como el más alto de los fines que el derecho debe satisfac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timológicamente la palabra “derecho” está asociada a la idea o noción de justicia (latín </a:t>
            </a:r>
            <a:r>
              <a:rPr b="1" i="1" lang="es-ES" sz="2800" spc="-1" strike="noStrike">
                <a:solidFill>
                  <a:srgbClr val="ffffff"/>
                </a:solidFill>
                <a:latin typeface="Garamond"/>
              </a:rPr>
              <a:t>directus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 directo, recto, correcto, just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 uno de los conceptos que mayores discusiones ha generado en el ámbito de la filosofía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iversas concepciones o teorías de la justicia han intentado delimitar su alcance y conteni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Criterios de clasificació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1. Justicia formal 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(justicia y legalidad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2. Justicia sustancial 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(justicia como proporción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1. Justicia distribu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2. Justicia conmut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3. Justicia reparado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3.1. Justicia compens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3.2. Justicia correc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Concepción platóni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Conceptos reflejan una presunta esencia de las cosa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Existencia de una sola definición válida para cada palabra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Definiciones real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Concepción convencionali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El lenguaje (sistema de símbolos) es convenció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Las cosas por sí solas no tienen propiedades esencial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Definiciones nominal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Ninguna de estas concepciones garantiza que podamos obtener una caracterización del concepto de derecho con perfiles claros y definid</a:t>
            </a: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alabra “derecho”: paradigma de ambig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üe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oblem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arga emotiva asociad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No es una palabra unívo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esenta varios significados estrechamente relacionados entre sí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cepcion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1ª) El </a:t>
            </a:r>
            <a:r>
              <a:rPr b="1" i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derecho</a:t>
            </a:r>
            <a:r>
              <a:rPr b="0" i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hileno regula el divorcio vincul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2ª) Tengo </a:t>
            </a:r>
            <a:r>
              <a:rPr b="1" i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derecho</a:t>
            </a:r>
            <a:r>
              <a:rPr b="0" i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 expresar libremente mis opin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3ª) Los estudios de </a:t>
            </a:r>
            <a:r>
              <a:rPr b="1" i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derecho</a:t>
            </a:r>
            <a:r>
              <a:rPr b="0" i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omenzaron en el siglo X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cepciones de la palabra “Derecho”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1ª acepción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Derecho Obje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2ª acepción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Derecho Subje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3ª acepción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Ciencia del Derecho o Dogmática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  Juríd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Presupuestos esenciales del Derecho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800" spc="-1" strike="noStrike">
                <a:solidFill>
                  <a:srgbClr val="ffc000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c000"/>
                </a:solidFill>
                <a:latin typeface="Garamond"/>
              </a:rPr>
              <a:t>i)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derecho es un fenómeno cultur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Creación humana (derecho occidental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Orientado al cumplimiento de ciertos fi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c000"/>
                </a:solidFill>
                <a:latin typeface="Garamond"/>
              </a:rPr>
              <a:t>ii)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ige la vida en socie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i="1" lang="es-ES" sz="2800" spc="-1" strike="noStrike">
                <a:solidFill>
                  <a:srgbClr val="ffffff"/>
                </a:solidFill>
                <a:latin typeface="Garamond"/>
              </a:rPr>
              <a:t>Ubi societas, ibi ius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Coexiste con otros órdenes normativ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4:14:57Z</dcterms:created>
  <dc:creator>Miguel</dc:creator>
  <dc:description/>
  <dc:language>en-US</dc:language>
  <cp:lastModifiedBy> </cp:lastModifiedBy>
  <dcterms:modified xsi:type="dcterms:W3CDTF">2011-03-11T04:23:03Z</dcterms:modified>
  <cp:revision>66</cp:revision>
  <dc:subject/>
  <dc:title>INTRODUCCIÓN AL DERECHO I  </dc:title>
</cp:coreProperties>
</file>