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6FAAF-5BE1-4025-A00F-F0821CDF3FD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3D079-F3BD-429F-AF0F-710F49A7C4CC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FE5-EE99-43D0-B250-0D2A4BEC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60F-65EB-42F9-8E6C-8FA14542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9A9-253C-4AE2-8041-AE6359E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A19-CC41-45A0-A311-B42BAB1E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64B0-4332-4095-BEF9-395781FC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A46-1914-4517-ADC0-F58F81EA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C4D-B423-4204-8180-E646463D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4DA-0559-4B73-8450-E871842D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53C-C4BB-4FA2-BECD-D61B5AFA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923-E352-4194-8E54-5DBC994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A4C9-3ECA-43F6-9EEA-06BC336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EDE-4013-479A-B4B1-8476FCA3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9160-8B95-4765-8D97-2517430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2825-AC87-4251-8BA5-18798C46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D279-89E5-4419-B0FF-AF916CFD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942A-5D87-4828-91E7-FA4241C1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9D8E-BECF-41EB-B3CC-945009FB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EE7-A1CD-4AF0-AA7D-D3F998FB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A02-8EA2-4147-B6DF-4FA75F3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3EE-3D46-4BFE-A27D-F803D0A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B6D-D50A-4513-B8A3-1185D3A0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8DA-503D-4A09-87DB-36EFF04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3E6-E1FE-4A0B-B91F-0A80F4B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3BD-0E68-4EB7-B808-B3A1018C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FE41-9E29-45F1-A25D-A95AFCEDBF50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754-6E27-44F5-B269-3AD55337666C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1-03-11T04:23:03Z</dcterms:modified>
  <cp:revision>66</cp:revision>
  <dc:subject/>
  <dc:title>INTRODUCCIÓN AL DERECHO I  </dc:title>
</cp:coreProperties>
</file>