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38C17-F52F-42EE-AEA5-F77D535461A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E05E2-2FE6-4EDE-A4C1-51B80BB495FA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651-E1B9-4B46-9F6C-9FEDA8B0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6A1-764D-4087-A39B-6AADE275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5B4-8C4A-440C-A09C-E6B37ED9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C22-AD6D-4243-ABE7-AA6528E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BC0-5A6B-44B9-98D8-9753914E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CEA7-91DD-490D-ACA4-C2EDC2AE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F9B7-C290-4196-B338-9144893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E64-3DA8-4398-AB11-58361B5D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3DCD-03F0-4410-96AD-3363B1C1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BC1D-2B28-48DF-8FE2-D6AD3F64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622-D0B8-427E-A327-4C28BCBA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19D-0DB9-428F-8AB4-6FEDD39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3CE-3C68-4B56-91A8-05E9A3B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1E01-C9EC-4726-85C5-0398503C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E42B-A16E-4B4B-8B10-C895FE8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1482-AF5C-45F4-BB02-9791A306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49E2-7B41-42AA-9174-85E3AA82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9AC-5DA4-4191-B5F9-72CB893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6E2-B766-417A-B6E3-EC0107A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D93-E279-486B-B32F-00C3AF7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69F-7B72-4B15-B4DE-591EC45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3F9-677B-4E31-A078-B0A4499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74C-0EAA-4EB8-86AF-2FF3C11B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509-6E84-4032-94D3-0A01100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F4F-F105-402C-A2DC-2A2EE6E3427E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BB6-E774-4A60-9A1C-13D349D6769F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1-03-11T04:23:03Z</dcterms:modified>
  <cp:revision>66</cp:revision>
  <dc:subject/>
  <dc:title>INTRODUCCIÓN AL DERECHO I  </dc:title>
</cp:coreProperties>
</file>