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F1938-C66E-4BA7-B420-05890E32D97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9C435-FB18-4F68-81D3-95B31FB0140F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97B-ABA6-4330-BBCD-9F289AA0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6E2-4ED0-495F-8500-8716BAA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410-2480-45E3-81DD-00BBB1BF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34C-5F42-4AA0-9FB6-FB327FDC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AB4-711D-48C7-8A6E-FB0742E8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27C4-1861-4D6C-8E46-34ACB95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671-E0F5-46F8-B1FB-D2AC1A8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B2E-A310-48D3-A1A1-573FF189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4F96-1063-4053-BA9A-BD81190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9D6-B9EC-4B5F-A157-1A6B28A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2AC-120C-40B0-AD7C-4F29A93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CC4-B68C-4293-A897-9A7E21E5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B9A7-D393-45FC-A2ED-CC84010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B8BD-BC0F-4BF7-8BA3-D74539E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E32-E5DB-40EA-927B-2E4A26D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9F9-75D6-4FF3-A6E6-8D5558D2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3306-C71D-4D2A-A7CD-430681D7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99F-217C-4C97-B446-9E266840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1D5-A7D9-4AE5-ACB5-38B01FB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6E9-3FE9-43BE-8D98-A999067A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2EA-9DCE-4D0E-8185-25837E94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02A-A659-47B5-8BBF-8C0BB9E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3F9-7FE0-4FE1-A086-9747DD0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8A4-C6FF-47F8-B8A0-D571A76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8DC4-84A9-4CA4-8D46-66EFB191B97D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0A9E-DD16-49A8-A615-9AA258050086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1-03-11T04:23:03Z</dcterms:modified>
  <cp:revision>66</cp:revision>
  <dc:subject/>
  <dc:title>INTRODUCCIÓN AL DERECHO I  </dc:title>
</cp:coreProperties>
</file>