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FDC5-006B-4CA3-9526-B8154B93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8A2-7987-4166-8A8D-4B8E3ADE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AB1-46E4-43B3-8636-32B9AD28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886-272D-4F5D-A423-803A5E00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F1E9-C141-4486-85D6-33B80650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C47E-8003-4DB9-BC5D-72989F97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F913-9C86-453F-80ED-1D5C4E54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F31A-43B1-4DAF-B01A-C519E52A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5F03-2831-4A0F-AE2A-02A68B2A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3B15-7AE9-4D6A-927B-FF027465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C301-2A45-40DA-A5D4-6643D2F7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D6D-09B9-476B-AC52-254F513F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9A0A-564C-4295-8A57-3A7D9E65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D8DC-D2B9-4BFD-BD7E-B2A1455F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18AE-4B23-49CB-B1F0-7B3EC459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4DD6-706A-4FE6-B438-9753AF29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1953-9006-44B8-9F37-EF367666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E64-2705-40AC-AD15-4CC4A801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8D6B-03E3-4814-A3C1-28334623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91C-CDBC-45D8-958C-4CAC2B23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7C3-26C2-48BB-9285-1DCC12B1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9CD-9B7C-4872-B91C-6832BA94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9AD-3C33-450D-851C-7EE89625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66C-4933-4CD6-935C-EEA29D18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21D1-4331-421D-9C91-15389100A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EB38-5176-4821-A8A6-20A526BD3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POTESIS EN UN ESTUD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EQUISITOS DE LA HIPÓTE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hipótesis se refiere a variables y unidades de análi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 referirse a un solo ámbito de la re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s conceptos de las hipótesis deben ser claros y precis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s conceptos deben contar con realidades o referentes empíricos y observ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 el planteamiento se debe prever la técnica para probar la hipóte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el proceso de análisis estadístico Inferencial de los datos recolectados deben plantearse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Hipótesis Estadísticas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s se postulan cuando se trata de decidir si existen diferencias o no, para variables en dos muestras, o si los datos de la muestra son comparables a los datos del univer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HIPÓTESIS ESTADÍSTIC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. HIPOTESIS NUL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o hipótesis de no diferencia; Se refiere al planteamiento del supuesto de que el valor observado en una población, o en una muestra o una variable, no difiere del encontrado en una población, muestra o variable de interé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establece con el propósito expreso de ser rechazada. Cuando se efectúan pruebas estadísticas, suele asumirse la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in que se exprese de manera explíci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: “Los niños que nacen sin circular del cordón umbilical tienen las mismas posibilidades de desarrollar una conducta hiperactiva e irritable, que los que si la tien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o lo que se espera es que exista diferencia en el resultado,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rechazo de H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e concluirá que los datos disponibles no son compatibles con la hipótesis nu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no se rechaza H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se dirá que los datos no proporcionan evidencia suficiente que provoque el rech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HIPÓTESIS ESTADÍSTIC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2. HIPOTESIS ALTERN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Plantea  que los valores observados en el Universo, en la muestra o en una variable, no son equivalentes a los encontrados en otro Universo, muestra o variable de interés. Lo que significa que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xiste una verdadera diferencia en los val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valor encontrado puede ser mayor o menor al esper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: “Los niños que nacen con circular del cordón umbilical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ienen diferen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osibilidades de desarrollar una conducta hiperactiva e irritable, que los que no la tienen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a hipótesis es una suposición o una proposición que establece la existencia de una relación entre dos o más variables expresadas como hechos, fenómenos, factores o entidades, y que debe ser sometida a prueba para ser aceptada como válida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lit, López Cano, Rojas Soriano y Ladrón de Guevara entre otros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hipótesis constituye un puente o enlace entre la teoría y la investig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a hipótesis bien formulada sirve de directriz a la investigación, y luego de su comprobación, genera nuevos conocimientos que pasan a formar parte del saber hum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construcción de la hipótesis se apoya en un sistema de conocimientos organizados, formando un contexto teórico, comprobado mediante la verificación empírica, para explicar y predecir en lo posible los hechos o fenómenos si se comprueba la relación enunciad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IPO DE 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s hipótesis están íntimamente relacionadas con el problema, el marco teórico y el tipo de investigación que estos gener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- HIPOTESIS DE ASOCIACIÓN O COVARI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 cuando se establece una determinada correspondencia o correlación entre dos o más variables (hipótesis descriptiv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na modificación en la variable independiente, modifica la variable dependiente en forma directa o inver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a X                     Aument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a X                     Disminuye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minuye X                   Aument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minuye X                   Disminuye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Los alumnos que estudian durante dos o más horas diarias, tienen mayor rendimiento académico que los que estudian menos hor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Los estudiantes egresados de escuelas estatales obtienen índices académicos más bajos que los egresados de escuelas priv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3505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3886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267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46483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IPO DE 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2. HIPÓTESIS DE RELACIÓN DE PRODUC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ando el comportamiento o la modificación de una variable independiente influye o produce cambio en la variable depend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lementos lógic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 X produce cambio en 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 X influye en el comportamiento de 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El incremento de conocimientos del diabético sobre su enfermedad y tratamiento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luy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n el mejoramiento de las actividades de autocuid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La primera notificación sobre el diagnóstico de su enfermeda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gustia en el paciente diabé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IPO DE 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3. HIPÓTESIS DE RELACIÓN CAUS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n las que permiten explicar y predecir los hechos y fenómenos con determinados márgenes de error, y se dan cuando se cumple con las siguientes condicio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)- El comportamiento o variación de una variable es el “efecto” del comportamiento o variación de otra variable “causa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)- La covariación indicada anteriormente, no es producto de factores extraños o aleatorios, por lo que la relación entre variables es real,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)- La variable “causa” ocurre antes que la variable “efect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Los niños que nacen con circular del cordón umbilical desarrollan una conducta hiperactiva e irri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El habito de fumar cigarrillos produce cánc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 investigación metódica y constante produce cono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GENERACIÓN DE HIPÓ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) LAS HIPÓTESIS INDUCTIVA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Se parte de la observación específica de hechos, fenómenos, tendencias o asociaciones. Posteriormente se utiliza ésta observación para dar una explicación tentativa y tempo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2) LA HIPÓTESIS DEDUCTIVA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Tienen como punto de partida leyes generales o teorías que se aplican a situaciones particulares. Mediante el razonamiento deductivo un investigador puede desarrollar expectativas científicas o hipótesis fundadas en principios teóricos gene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GENERACIÓN DE HIPÓ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ELEMENTOS ESTRUCTURALES DE LA HIPÓTES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A)- LA UNIDAD DE ANÁLISI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Individuos, familias, grupos, casas, institucione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B)- LAS VARIABL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características, propiedades o factores que presenta la unidad de análisis y pueden ser cualitativas o cuantit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)- LOS ELEMENTOS LÓGICO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Que relacionan las unidades de análisis con las variables y a estas entre s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s niños que nacen con circular del cordón umbilical desarrollan una conducta hiperactiva e irritabl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 unidad de análisis: Los ni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variables: I; circular del cordón, D; conducta hiperactiva e irrit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s elementos lógicos: desarrollan o no desarroll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RITERIOS PARA LA FORMULACIÓN DE HIPÓTESI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447920"/>
            <a:ext cx="17524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362320"/>
            <a:ext cx="2743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empre formular 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a afirm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276720"/>
            <a:ext cx="35053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n plantear la re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 dos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4191120"/>
            <a:ext cx="41911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n posibilitar la prue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 las relaciones expres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5105520"/>
            <a:ext cx="3657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n ser de po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dictivo y explic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1337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RITERIOS PARA FORMULAR UNA HIPÓTE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El enunciado se expresa en forma positiva. Ej: esto provoca, produce, genera, etc., distinto a decir esto NO produce, NO genera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La relación de variables independientes. I; circular del cordón, con la variables dependiente. D; conducta hiperactiva e irritable. Está debidamente plante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 relación de variables planteada en la hipótesis sí puede ser sometida a la prueba de hipótesis: Las relaciones deben ser mensurables o potencialmente verificables. Ej: Un examen médico, clínico y de desarrollo Psicomotriz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La hipótesis debe ser capaz de explicar y predecir los hechos a encontrar en la relación de los hechos. Ej: Los niños con circular del cordón desarrollan una conducta hiperactiva e irritab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3:16:32Z</dcterms:created>
  <dc:creator>USO</dc:creator>
  <dc:description/>
  <dc:language>en-US</dc:language>
  <cp:lastModifiedBy>Gilda</cp:lastModifiedBy>
  <dcterms:modified xsi:type="dcterms:W3CDTF">2009-03-19T04:12:01Z</dcterms:modified>
  <cp:revision>42</cp:revision>
  <dc:subject/>
  <dc:title>MARCO TEÓRICO Y CONCEPTUAL ¿Cuál es la base teórica del problema?</dc:title>
</cp:coreProperties>
</file>