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5A5-A461-427F-8652-92AC43B1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829-3A5B-4F59-AE12-1AAC5EF9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F45-E00F-4FDA-9ED9-E5E6A81A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9D4-80BF-40F2-AF61-3AD54A33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E301-490B-4393-AF98-B3F21CE0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7343-B61C-4309-B231-7217DDFB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513C-B1B2-4562-A157-B536BEF8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088D-8A60-4584-8DE3-F3471E5E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B4BB-930F-4976-8D0B-4BE59C6D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5B5F-F66B-4ADD-8AA0-D7AF8A89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E77A-28CF-4300-863C-F63D36B8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443-9EA5-4E72-8CE1-42DF720D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B5CA-FAF1-4D1C-A8F0-223D1986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1E5B-06E0-41C6-B67B-0C43C21D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F414-99CD-42E9-90DA-CD3C9398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F41A-C6F1-46A8-A765-9F313222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EF61-B40D-4137-90F9-87CD1ED2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E3F-C93D-4AFF-BE38-C0565B84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B25-4598-4B50-9329-C900B589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BD1-2388-4334-A4D6-B27C71B1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53D-A7CF-4B73-8B64-3F5C7AF2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572-CDC1-4693-AAFA-8876CA04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8FB-DA4A-4EF0-BC55-471F084C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60E-2357-4044-AF23-62140FD0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380E-7236-42E5-93A3-145A435CA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E415-E46E-4B99-9655-BADA0C5FC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POTESIS EN UN ESTUD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EQUISITOS DE LA HIPÓTE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hipótesis se refiere a variables y unidades de análi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 referirse a un solo ámbito de la re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s conceptos de las hipótesis deben ser claros y precis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s conceptos deben contar con realidades o referentes empíricos y observ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 el planteamiento se debe prever la técnica para probar la hipóte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el proceso de análisis estadístico Inferencial de los datos recolectados deben plantearse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Hipótesis Estadísticas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s se postulan cuando se trata de decidir si existen diferencias o no, para variables en dos muestras, o si los datos de la muestra son comparables a los datos del univer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HIPÓTESIS ESTADÍSTIC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. HIPOTESIS NUL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o hipótesis de no diferencia; Se refiere al planteamiento del supuesto de que el valor observado en una población, o en una muestra o una variable, no difiere del encontrado en una población, muestra o variable de interé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establece con el propósito expreso de ser rechazada. Cuando se efectúan pruebas estadísticas, suele asumirse la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in que se exprese de manera explíci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: “Los niños que nacen sin circular del cordón umbilical tienen las mismas posibilidades de desarrollar una conducta hiperactiva e irritable, que los que si la tien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o lo que se espera es que exista diferencia en el resultado,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rechazo de H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e concluirá que los datos disponibles no son compatibles con la hipótesis nu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no se rechaza H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se dirá que los datos no proporcionan evidencia suficiente que provoque el rech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HIPÓTESIS ESTADÍSTIC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2. HIPOTESIS ALTERN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Plantea  que los valores observados en el Universo, en la muestra o en una variable, no son equivalentes a los encontrados en otro Universo, muestra o variable de interés. Lo que significa que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xiste una verdadera diferencia en los val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valor encontrado puede ser mayor o menor al esper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: “Los niños que nacen con circular del cordón umbilical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ienen diferen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osibilidades de desarrollar una conducta hiperactiva e irritable, que los que no la tienen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a hipótesis es una suposición o una proposición que establece la existencia de una relación entre dos o más variables expresadas como hechos, fenómenos, factores o entidades, y que debe ser sometida a prueba para ser aceptada como válida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lit, López Cano, Rojas Soriano y Ladrón de Guevara entre otros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hipótesis constituye un puente o enlace entre la teoría y la investig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a hipótesis bien formulada sirve de directriz a la investigación, y luego de su comprobación, genera nuevos conocimientos que pasan a formar parte del saber hum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construcción de la hipótesis se apoya en un sistema de conocimientos organizados, formando un contexto teórico, comprobado mediante la verificación empírica, para explicar y predecir en lo posible los hechos o fenómenos si se comprueba la relación enunciad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IPO DE 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s hipótesis están íntimamente relacionadas con el problema, el marco teórico y el tipo de investigación que estos gener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- HIPOTESIS DE ASOCIACIÓN O COVARI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 cuando se establece una determinada correspondencia o correlación entre dos o más variables (hipótesis descriptiv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na modificación en la variable independiente, modifica la variable dependiente en forma directa o inver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a X                     Aument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a X                     Disminuye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minuye X                   Aument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minuye X                   Disminuye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Los alumnos que estudian durante dos o más horas diarias, tienen mayor rendimiento académico que los que estudian menos hor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Los estudiantes egresados de escuelas estatales obtienen índices académicos más bajos que los egresados de escuelas priv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3505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3886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267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46483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IPO DE 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2. HIPÓTESIS DE RELACIÓN DE PRODUC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ando el comportamiento o la modificación de una variable independiente influye o produce cambio en la variable depend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lementos lógic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 X produce cambio en 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 X influye en el comportamiento de 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El incremento de conocimientos del diabético sobre su enfermedad y tratamiento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luy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n el mejoramiento de las actividades de autocuid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La primera notificación sobre el diagnóstico de su enfermeda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gustia en el paciente diabé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IPO DE HIPO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3. HIPÓTESIS DE RELACIÓN CAUS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n las que permiten explicar y predecir los hechos y fenómenos con determinados márgenes de error, y se dan cuando se cumple con las siguientes condicio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)- El comportamiento o variación de una variable es el “efecto” del comportamiento o variación de otra variable “causa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)- La covariación indicada anteriormente, no es producto de factores extraños o aleatorios, por lo que la relación entre variables es real,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)- La variable “causa” ocurre antes que la variable “efect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Los niños que nacen con circular del cordón umbilical desarrollan una conducta hiperactiva e irri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El habito de fumar cigarrillos produce cánc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 investigación metódica y constante produce cono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GENERACIÓN DE HIPÓ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) LAS HIPÓTESIS INDUCTIVA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Se parte de la observación específica de hechos, fenómenos, tendencias o asociaciones. Posteriormente se utiliza ésta observación para dar una explicación tentativa y tempo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2) LA HIPÓTESIS DEDUCTIVA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Tienen como punto de partida leyes generales o teorías que se aplican a situaciones particulares. Mediante el razonamiento deductivo un investigador puede desarrollar expectativas científicas o hipótesis fundadas en principios teóricos gene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GENERACIÓN DE HIPÓTESI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ELEMENTOS ESTRUCTURALES DE LA HIPÓTES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A)- LA UNIDAD DE ANÁLISI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Individuos, familias, grupos, casas, institucione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B)- LAS VARIABL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características, propiedades o factores que presenta la unidad de análisis y pueden ser cualitativas o cuantit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)- LOS ELEMENTOS LÓGICO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Que relacionan las unidades de análisis con las variables y a estas entre s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s niños que nacen con circular del cordón umbilical desarrollan una conducta hiperactiva e irritabl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 unidad de análisis: Los ni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variables: I; circular del cordón, D; conducta hiperactiva e irrit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s elementos lógicos: desarrollan o no desarroll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RITERIOS PARA LA FORMULACIÓN DE HIPÓTESI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447920"/>
            <a:ext cx="17524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362320"/>
            <a:ext cx="2743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empre formular 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a afirm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276720"/>
            <a:ext cx="35053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n plantear la re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 dos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4191120"/>
            <a:ext cx="41911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n posibilitar la prue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 las relaciones expres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5105520"/>
            <a:ext cx="3657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ben ser de po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dictivo y explic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1337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RITERIOS PARA FORMULAR UNA HIPÓTE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El enunciado se expresa en forma positiva. Ej: esto provoca, produce, genera, etc., distinto a decir esto NO produce, NO genera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La relación de variables independientes. I; circular del cordón, con la variables dependiente. D; conducta hiperactiva e irritable. Está debidamente plante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 relación de variables planteada en la hipótesis sí puede ser sometida a la prueba de hipótesis: Las relaciones deben ser mensurables o potencialmente verificables. Ej: Un examen médico, clínico y de desarrollo Psicomotriz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La hipótesis debe ser capaz de explicar y predecir los hechos a encontrar en la relación de los hechos. Ej: Los niños con circular del cordón desarrollan una conducta hiperactiva e irritab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3:16:32Z</dcterms:created>
  <dc:creator>USO</dc:creator>
  <dc:description/>
  <dc:language>en-US</dc:language>
  <cp:lastModifiedBy>Gilda</cp:lastModifiedBy>
  <dcterms:modified xsi:type="dcterms:W3CDTF">2009-03-19T04:12:01Z</dcterms:modified>
  <cp:revision>42</cp:revision>
  <dc:subject/>
  <dc:title>MARCO TEÓRICO Y CONCEPTUAL ¿Cuál es la base teórica del problema?</dc:title>
</cp:coreProperties>
</file>