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EB5-0D7B-4C1B-B184-89D44019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C14-E8C3-4B72-AB5B-5820968A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738-C441-4483-9728-54B89606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939-45CD-4AC7-9B51-DDF7E91F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ED44-DFB8-4218-845F-8FE7B2F32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C187-DFDD-4912-8AD5-140892CB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7BBA-320A-4FA5-B0FD-268C30F1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1B07-A01B-420B-AFE0-06F907F1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E1D4-89A9-4AAF-B7AA-E5A49B19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B4DC-7185-4AE1-9A9E-15C34C76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99D9-9C84-4446-8B72-79EECBDA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939-93DD-41A7-A269-77776E4C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9C2B-F24E-43D9-8EAE-87E89956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39ED-6A63-4DF2-8CAE-2AE67C2E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294F-A687-4731-8ED4-409813B2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3AFA-81D5-4714-9DE7-0EC9C330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F094-E626-4793-A832-18619A93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4FF-4ABE-4FB9-9953-6EF059E1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5B2-54DE-4C1F-95C1-3F4D497D2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2FD-0CBE-484C-B533-81F6A639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728-FD22-4F86-BB48-8B97CD93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42D-41E0-488C-ACBA-DD316EBF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1CF-4F10-413B-889D-77AA4012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30DB-B908-4D60-AEF5-0D0E0CC5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C1EF-70A4-4729-93A9-185A8E62276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8AEC-CBAB-45FC-9176-B3AAF5E10A1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programascomputo.com.mx/" TargetMode="Externa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TALLER DE MEMORIA</a:t>
            </a:r>
            <a:br>
              <a:rPr sz="4400"/>
            </a:b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DERECHO INTERNACIO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91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FESOR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ALBERTO RIOSECO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GILDA CIC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cio de cada párrafo con una sangría de 5 espac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espacio entre párraf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o sólo por un lado de la pág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tilización de reglas gramaticales para separación de sílab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ayúscula en los títulos de las página prelimina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o de minúscula en los subtítulos, con excepción de la primera letra de la primera palab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que distingui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IBRO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Si se va a citar un libro deberá indic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nombre del autor con mayúscula, partiendo por los apelli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edición (excepto si es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ginación (si se trata de obras con más de un volumen deberá indicar el número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1 auto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PIEGEL, Murray R. Teoría y problemas de probabilidad y estadística. Madrid, McGraw- Hill, 1988.327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(2 autor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KOOG, Douglas A., WEST, Donald M. Química Analítica. 4 ed. Madrid, MacGraw- Hill, 1989.72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PÍTULO DE LIBRO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or ( es)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, (subrayado y seguido de dos puntos), autor (es) del libro con mayúscul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ítulo del libr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ción si la hubie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í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ginación del capítu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KATZ B., R. Institucional y marco legal vigente. En: Sandoval L.H.,PRENDEZ B, (Eds.). Contaminación atmosférica en Santiago: estado actual y soluciones. Santiago, Universidad de Chile y Comisión de Descontaminación de la Región Metropolitana, 1993. pp. 263-286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r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tesis, memoria y/o seminari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ción al grado que se op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ción patrocin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DAROS Cárcamo, Rodrigo Eduardo. Sismicidad y tectónica del extremo sur de Chile ( Magíster en Ciencias con mención en Geología). Santiago de Chile, Universidad de Chile, Facultad de Ciencias Físicas y matemáticas, 2003. 82 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TÍCULO DE REVIST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or (es)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l 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ítulo de la revista (subrayado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umen ( cuando la revista lo incluye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úmero entre parén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ginación precedida de dos punt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cha de publicación: indicar mes y añ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REYES Morales, Nira: Mito y realidades del modelo chileno.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ahoma"/>
              </a:rPr>
              <a:t>Le Monde Diplomatiqu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18(5):,200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GRESO, CONFERENCIA O REUN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mbre completo del congreso, conferencia, seminario o reun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de la conferencia, año y lugar del evento, entre parénte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ítul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y país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 o institución (es) que lo patrocin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la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úmero total de páginas si las hubi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PRESENTACIÓN DE LA MEMORI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SPECTOS FORM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INARIO Regional de política fiscal. (11º, Brasilia, Brasil, 1999). La política fiscal en América Latina: una selección de temas y experiencias de fines y comienzos de siglo. Santiago, Chile, Naciones Unidas, CEPAL, 1999. 451 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úmero de la le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mbre de la ley o del decreto, si lo tie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ítulo de la publicación en la que aparece oficialm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cha de public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ción si la hubi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y 18.403 CHILE. Drogas y estupefacientes. Manuel de antecedentes normativos para servicios de salud y colaboradores del SNSS. Ministerio de Salud, Santiago de Chile, agosto de 1985.15p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TERIAL CARTOGRÁFIC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MAPAS, CARTAS METEREOLÓGICAS, FOTOGRAFÍAS AÉ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  Tipo del material y autor, personal o instituc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ción (excepto la primer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cala, proyecciones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o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ño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ntidad de mapas, dimensiones, color ( si tiene esa característica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DESSERTIFICATION map of the world. FAO 197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EXTOS ELECTRÓNICOS, BASES DE DATOS Y PROGRAM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) Aut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) Títul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) Soporte en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Lugar de public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) Edi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) Dirección electrónica entre ángu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) Fecha de consulta entre corche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CICLOPEDIA sobre virus informáticos en pc´s [en línea] </a:t>
            </a:r>
            <a:r>
              <a:rPr b="0" lang="es-E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programascomputo.com.mx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[consulta: 06 de agosto de 1999]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REFERENCIAS BIBLOGRÁFICAS: ¿CÓMO CITAR RECURSOS ELECTRÓNICOS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rtíc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PECTOS FUNDAMENTALES DEL CUERPO DE LA MEMOR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TRODUCCIÓN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la presentación clara, breve y precisa del contenido de la memoria ( no debe tener conclusiones ni resultados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 elaborar la introducción debe tener en consideración los siguientes asp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s razones que motivaron la elección del te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fundamentos que lo sustent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s objetivos del trabaj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hipótesis present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a metodología utiliza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uede indicar someramente qué abordará en cada capítu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rtes de una Memori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RADEC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BLA DE CONTENI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ERPO DE LA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X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BLI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UERPO DE LA OBRA: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ella se describe detalladamente el problema de la investigación, el marco teórico, y la discusión de los resulta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cuerpo de la obra está constituido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Subcapítul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artes o secci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ES: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a parte importante de la tesis donde el autor emite juicios con relación a su hipótesis, la refuta o la comprueba en base a los resultados obteni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 conclusiones deben tener una redacción clara, concreta y directa, no un resumen de la investigac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 momento de redactar sus conclusiones usted deberá tener presente los siguientes aspect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ados obtenid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obación/refutación de la hipóte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lusión gener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ortación  al campo o disciplina al que pertenece su investig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NÁLISIS DEL CUERPO 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IBLIOGRAFÍ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ectos a considera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escriben con mayúscu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utores se ordenan alfabét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ando hay más de una referencia bibliográfica de un mismo autor, se ordenan cronológic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os o más referencias bibliográficas de un mismo autor y de un mismo año, se ordenan alfabéticamente por título y se diferencian con las letras a), b), c)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[ejemplo: 1997 a; 1997 b]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 presentación de la memoria en papel está sujeta al cumplimiento de las siguientes formalida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 presenta en papel blanco liso, tamaño carta 28 x21,5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 márgenes de las páginas s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izquierdo y superior 4 c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gen derecho e inferior 2.5 cm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 texto de la memoria se hará a espacio de 1.5 interlíne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pcionalmente se puede usar espacio simple en los siguientes cas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otas y citas textu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Párrafos de list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Bibliografí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Índices de ilustraciones y tabl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) Anex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n cuanto a la letra, las fuente que puede utilizar s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a) Arial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) 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l tamaño de la letra, en cualquier caso, deberá ser Nº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odrá utilizar tamaño reducido de letra sólo en los anexos,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pcionalmente podrá utilizar letra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cursiva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los siguientes cas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labras en idioma extranjer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a numerar ilustraciones y tabl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ASPECTOS FORMALES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E LA MEMORIA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nto a la paginación, podrá realizarla de dos maner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Números romanos en minúscula para el cuerpo preliminar del trabajo, comenzando por la página de portada de la memor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Números árabes para el tex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 cualquiera de los dos casos, en número se escribe en el ángulo inferior derecho de la página a 1.5 cm. al borde del pape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agramación del Texto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 diagramar el texto deberán seguirse las siguientes regl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cada capítulo en una nueva pági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 los títulos en la segunda línea a partir del margen superior de la página, centrado, escrito en mayúscula y neg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cio del texto después de dos espacios bajo el tít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3T16:35:01Z</dcterms:created>
  <dc:creator>bparada</dc:creator>
  <dc:description/>
  <dc:language>en-US</dc:language>
  <cp:lastModifiedBy>bparada</cp:lastModifiedBy>
  <dcterms:modified xsi:type="dcterms:W3CDTF">2009-03-31T19:23:02Z</dcterms:modified>
  <cp:revision>38</cp:revision>
  <dc:subject/>
  <dc:title>PRESENTACIÓN DE LA TESIS</dc:title>
</cp:coreProperties>
</file>