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608C-D8D2-4DE1-A8D9-566EF69C7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3455-B09A-4A1F-ADE0-1A79994D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552E-588D-41F0-94D7-1E2770C1C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B5AC-4108-42B3-BAF1-10DFCB52F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709C-4044-482B-B542-716C5B0E5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199D-45ED-4C92-8D7A-AF9A22EF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34EE-3776-4491-A134-82AB9F7D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1312-C1BE-4DE5-B7DB-DA392264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8ED9-10F0-4F3B-8F9E-564164FA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0B1F-5BCB-4BDF-9173-BA4B2C0C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792E-34FF-4FEA-BD55-F1270994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D603-A19D-453F-B105-AA70852D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F8AA-FA43-475A-8CF4-438707DF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6C5B-2590-4F89-BFEC-16D18EA1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8DB0-F754-4616-91FF-94696646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F1DA-EF97-4673-8EF1-EB93F3B2A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EEEE-155E-4B71-BEEC-38A55AAC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EC55-CD7F-4989-A48C-1114F316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A3A8-A903-4C27-9D5C-B69E76B5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8853-6671-4BFF-953F-9FF31FF8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3F18-6618-4225-95A5-9D05C605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A275-ACCC-40CF-8D00-D08CA3DA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D080-6BBF-46B7-9B3B-2EE09735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C808-7EB0-490D-A908-102BA994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628C-C91E-494C-B19A-73ACA7E6C6E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E271-9E8D-4F54-9B2F-B52C32EF17F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programascomputo.com.mx/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ALLER DE MEMORIA</a:t>
            </a:r>
            <a:br>
              <a:rPr sz="4400"/>
            </a:b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DERECHO INTERNACIONA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FESOR:  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ALBERTO RIOSEC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 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GILDA CIC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agramación del Tex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icio de cada párrafo con una sangría de 5 espac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 espacio entre párraf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o sólo por un lado de la pág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tilización de reglas gramaticales para separación de sílab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o de mayúscula en los títulos de las página prelimina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o de minúscula en los subtítulos, con excepción de la primera letra de la primera palabr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y que distingui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IBRO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Si se va a citar un libro deberá indica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nombre del autor con mayúscula, partiendo por los apelli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ítul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de la edición (excepto si es la primer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ginación (si se trata de obras con más de un volumen deberá indicar el número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1 auto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PIEGEL, Murray R. Teoría y problemas de probabilidad y estadística. Madrid, McGraw- Hill, 1988.327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2 autor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KOOG, Douglas A., WEST, Donald M. Química Analítica. 4 ed. Madrid, MacGraw- Hill, 1989.725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PÍTULO DE LIBR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utor ( es)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ítulo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, (subrayado y seguido de dos puntos), autor (es) del libro con mayúscul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ítulo del libr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ición si la hubier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í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ginación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KATZ B., R. Institucional y marco legal vigente. En: Sandoval L.H.,PRENDEZ B, (Eds.). Contaminación atmosférica en Santiago: estado actual y soluciones. Santiago, Universidad de Chile y Comisión de Descontaminación de la Región Metropolitana, 1993. pp. 263-286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SI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tor de la tesis, memoria y/o semina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ítulo de la tesis, memoria y/o semina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ción al grado que se op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itución patrocina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gin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DAROS Cárcamo, Rodrigo Eduardo. Sismicidad y tectónica del extremo sur de Chile ( Magíster en Ciencias con mención en Geología). Santiago de Chile, Universidad de Chile, Facultad de Ciencias Físicas y matemáticas, 2003. 82 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ÍCULO DE REVIST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or (es) del 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ítulo del 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ítulo de la revista (subrayado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lumen ( cuando la revista lo incluye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úmero entre parénte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inación precedida de dos pun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cha de publicación: indicar mes y añ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YES Morales, Nira: Mito y realidades del modelo chileno.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Le Monde Diplomatiqu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18(5):,200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GRESO, CONFERENCIA O REUN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mbre completo del congreso, conferencia, seminario o reun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de la conferencia, año y lugar del evento, entre paréntes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ítul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y país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 o institución (es) que lo patrocin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total de páginas si las hubier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PRESENTACIÓN DE LA MEMORIA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SPECTOS FORMA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MINARIO Regional de política fiscal. (11º, Brasilia, Brasil, 1999). La política fiscal en América Latina: una selección de temas y experiencias de fines y comienzos de siglo. Santiago, Chile, Naciones Unidas, CEPAL, 1999. 451 P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.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E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úmero de la le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mbre de la ley o del decreto, si lo tie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ítulo de la publicación en la que aparece oficialm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cha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ginación si la hubie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y 18.403 CHILE. Drogas y estupefacientes. Manuel de antecedentes normativos para servicios de salud y colaboradores del SNSS. Ministerio de Salud, Santiago de Chile, agosto de 1985.15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TERIAL CARTOGRÁFIC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MAPAS, CARTAS METEREOLÓGICAS, FOTOGRAFÍAS AÉRE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  Tipo del material y autor, personal o institucio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ción (excepto la primer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cala, proyecciones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tidad de mapas, dimensiones, color ( si tiene esa características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ESSERTIFICATION map of the world. FAO 197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XTOS ELECTRÓNICOS, BASES DE DATOS Y PROGRAM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Aut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) Títul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) Soporte en corche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) Lugar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) Edi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) Dirección electrónica entre ángul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) Fecha de consulta entre corche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CICLOPEDIA sobre virus informáticos en pc´s [en línea] </a:t>
            </a:r>
            <a:r>
              <a:rPr b="0" lang="es-E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programascomputo.com.m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[consulta: 06 de agosto de 1999]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PECTOS FUNDAMENTALES DEL CUERPO DE LA MEMORI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TRODUCCIÓN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la presentación clara, breve y precisa del contenido de la memoria ( no debe tener conclusiones ni resultado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 elaborar la introducción debe tener en consideración los siguientes aspect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s razones que motivaron la elección del te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s fundamentos que lo sustent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s objetivos del trabaj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 hipótesis present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 metodología utiliz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uede indicar someramente qué abordará en cada capít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artes de una Memori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A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DICATO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RADECIMIEN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BLA DE CONTENI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ERPO DE LA OB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EX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BLIOGRAF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CUERPO DE LA OBRA: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ella se describe detalladamente el problema de la investigación, el marco teórico, y la discusión de los result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cuerpo de la obra está constituido p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pítul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ubcapítul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artes o secci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CLUSIONES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a parte importante de la tesis donde el autor emite juicios con relación a su hipótesis, la refuta o la comprueba en base a los resultados obteni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s conclusiones deben tener una redacción clara, concreta y directa, no un resumen de la investig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 momento de redactar sus conclusiones usted deberá tener presente los siguientes aspect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ltados obteni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robación/refutación de la hipóte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lusión gener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ortación  al campo o disciplina al que pertenece su investig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IBLIOGRAFÍ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pectos a considera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s autores se escriben con mayúscul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s autores se ordenan alfabétic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ando hay más de una referencia bibliográfica de un mismo autor, se ordenan cronológic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 hay dos o más referencias bibliográficas de un mismo autor y de un mismo año, se ordenan alfabéticamente por título y se diferencian con las letras a), b), c)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[ejemplo: 1997 a; 1997 b]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presentación de la memoria en papel está sujeta al cumplimiento de las siguientes formalidad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 presenta en papel blanco liso, tamaño carta 28 x21,5 c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 márgenes de las páginas s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gen izquierdo y superior 4 c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gen derecho e inferior 2.5 cm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 texto de la memoria se hará a espacio de 1.5 interlínea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cepcionalmente se puede usar espacio simple en los siguientes cas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Notas y citas textu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Párrafos de list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) Bibliografí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) Índices de ilustraciones y tabl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) Anex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cuanto a la letra, las fuente que puede utilizar s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Arial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Times New Ro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tamaño de la letra, en cualquier caso, deberá ser Nº 1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odrá utilizar tamaño reducido de letra sólo en los anexos, ilustraciones y tabl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cepcionalmente podrá utilizar letra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cursiva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 los siguientes cas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labras en idioma extranjer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a numerar ilustraciones y tabl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 cuanto a la paginación, podrá realizarla de dos maner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Números romanos en minúscula para el cuerpo preliminar del trabajo, comenzando por la página de portada de la memor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Números árabes para el tex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 cualquiera de los dos casos, en número se escribe en el ángulo inferior derecho de la página a 1.5 cm. al borde del pape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agramación del Tex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a diagramar el texto deberán seguirse las siguientes regl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 cada capítulo en una nueva pági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 los títulos en la segunda línea a partir del margen superior de la página, centrado, escrito en mayúscula y negri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l texto después de dos espacios bajo el títu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3T16:35:01Z</dcterms:created>
  <dc:creator>bparada</dc:creator>
  <dc:description/>
  <dc:language>en-US</dc:language>
  <cp:lastModifiedBy>bparada</cp:lastModifiedBy>
  <dcterms:modified xsi:type="dcterms:W3CDTF">2009-03-31T19:23:02Z</dcterms:modified>
  <cp:revision>38</cp:revision>
  <dc:subject/>
  <dc:title>PRESENTACIÓN DE LA TESIS</dc:title>
</cp:coreProperties>
</file>