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25BB-FAF3-457C-9B8F-5BB587CEC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192B-AC34-4C4B-BE77-16FBE5A64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0555-89C2-43D7-8AAB-5CFF858C8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3E41-4051-4F7D-AC1E-80365E98D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10E3-61CE-4373-B339-4A1FD65BE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808B-33FD-499A-B95F-781B599C7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A6BB-A522-4F44-B30F-0132A0298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9F79-F6F4-4774-91F2-880E6F60C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B6E8-E04E-46FB-A537-655BCDE5E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97EF-98E5-47DC-BB6F-3FEB7CD6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5DD4-A39E-4FFF-AE2A-9E4F1231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AB14-1F91-4474-A8DB-B2ADF45E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1247A-183E-4E34-ACE6-9C83FD8E08AE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TRATADODE  LISBOA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898989"/>
                </a:solidFill>
                <a:latin typeface="Arial Black"/>
              </a:rPr>
              <a:t>Prof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898989"/>
                </a:solidFill>
                <a:latin typeface="Arial Black"/>
              </a:rPr>
              <a:t>Alberto Riosec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898989"/>
                </a:solidFill>
                <a:latin typeface="Arial Black"/>
              </a:rPr>
              <a:t>Con la colaboración de la Prof. Gilda Cic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42840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10.-  Derecho de la U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a) Primací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-Se elimina el artículo del TC y se adopta una Declaración: que dice que con arreglo a la jurisprudencia reiterada del Tribunal de Justic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-Los tratados 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-la legislación de la U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-priman sobre el derecho de los Estados miembros.  Jurisprudencia Costa-En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499680"/>
            <a:ext cx="8229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alibri"/>
              </a:rPr>
              <a:t>b) Mayoría cualificad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alibri"/>
              </a:rPr>
              <a:t>- Se establece como regla gener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alibri"/>
              </a:rPr>
              <a:t>-Se aplaza hasta el año 2014 la aplicación del sistema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alibri"/>
              </a:rPr>
              <a:t>- Además hay un periodo transitorio hasta el año 2017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alibri"/>
              </a:rPr>
              <a:t>La mayoría cualificada esta constituida por: 55% de los Estados miembros que representen el 65% de los habitantes de la U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alibri"/>
              </a:rPr>
              <a:t>c) Principio de Ioanin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alibri"/>
              </a:rPr>
              <a:t>-Un grupo de Estados que no alcanza a constituir minoría de bloque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alibri"/>
              </a:rPr>
              <a:t>-pueden pedir que se reexamine una propuesta dentro de un plazo razonab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428400"/>
            <a:ext cx="822960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11.-  Casos en que todavía se requiere la unanimida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- Han disminuido much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-Todavía continúa exigiéndose en casos excepcion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Los más importantes a  mi juicio s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Política exteri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Fiscal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Política so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Presupuesto de la U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Revisión de los trata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12.- Posibilidad de retir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-Por primera vez en la historia de la UE- se establece la posibilidad de retiro de un Estado miembro.  El tratado de Lisboa había sido rechazado por referéndum de Irlanda (cuya Constitución lo exigía).Un referéndum posterior recibió  la aprobación; y con la aprobación del Reino Unido, de Polonia y República Checa, se obtuvieron  las 27ratificaione, el 3 de Noviembre de 2009; y entró en vigor el 1 de Diciembre de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Santiago Diciembre 2009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Antecedentes</a:t>
            </a: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Calibri"/>
              </a:rPr>
              <a:t>Rechazo tratado constitución por: Francia  y Países Bajos (2005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Calibri"/>
              </a:rPr>
              <a:t>Se inicia periodo de reflexión: sin grandes avanc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Calibri"/>
              </a:rPr>
              <a:t>Consejo Europeo pide a Alemania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Calibri"/>
              </a:rPr>
              <a:t>Que prepare proyecto para solucionar el impasse ( Junio 2006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Declaración de Berlín: 27 de marzo de 2007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Expresa logros y desafí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Se refiere a la necesidad de dar a Europa fundamento renovado. 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Expresa la urgencia de reformas estructura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Consejo Europeo de Bruselas (21 y 22 de Junio de 2007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Bajo presidencia alemana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- Aprueba un texto con el nombre de mandato destinado a la Conferencia Intergubernamental (CIG): que contiene principios y normas que deberá aprobar esa CIG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Firma definitiva del Tratado: La CIG aprueba el tratado de reforma, de Lisboa el 13 de diciembre de 2007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Finalidades y principales principi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1.- Aumentar la eficacia y legitimidad democrática de la  UE., y la coherencia  de su  acción exteri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2.- Reemplaza el tratado constitución, pero conserva mas del 80% de sus norm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3.-No contiene normas constitucionales, lo que facilita su ratificació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alibri"/>
              </a:rPr>
              <a:t>Así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alibri"/>
              </a:rPr>
              <a:t>No utiliza el termino constitució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alibri"/>
              </a:rPr>
              <a:t>No emplea la expresión ministro sino Alto Representante de Asuntos Exteriores y Defens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alibri"/>
              </a:rPr>
              <a:t>Las expresiones ley y ley marco, se eliminan y se vuelven a llamar Reglamentos y Directiva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alibri"/>
              </a:rPr>
              <a:t>No figuran los símbolo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alibri"/>
              </a:rPr>
              <a:t>Desaparece la referencia a la primacía, pero se señala el papel de la jurisprudenci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alibri"/>
              </a:rPr>
              <a:t>No se incluye en el texto la Carta de Derechos Fundamentales, pero se afirma su carácter vinculante, a través de un protocol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428400"/>
            <a:ext cx="914400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alibri"/>
              </a:rPr>
              <a:t>4._ Abandona la idea de texto único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alibri"/>
              </a:rPr>
              <a:t>En cambio modifica tratado existent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alibri"/>
              </a:rPr>
              <a:t>Tratado UE. Maastricht 1992. Consolidad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alibri"/>
              </a:rPr>
              <a:t>Tratado de Paris 1957. Comunidad Económica Europea. Consolidad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alibri"/>
              </a:rPr>
              <a:t>-Pasa a ser tratado sobre el funcionamiento de la U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alibri"/>
              </a:rPr>
              <a:t>5.-  Institucion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alibri"/>
              </a:rPr>
              <a:t>a) Modificaciones para adaptación a nuevas condicione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alibri"/>
              </a:rPr>
              <a:t>(Globalización y 27 Estados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alibri"/>
              </a:rPr>
              <a:t>Y democratizació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alibri"/>
              </a:rPr>
              <a:t>Y mejoramiento de la proyección exterio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alibri"/>
              </a:rPr>
              <a:t>El Consejo Europeo pasa a ser Institución. –que se suma a las 4 clásicas (Parlamento- Consejo de ministros- Comisión- y Tribunal  de Justicia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Crea en el  Consejo Europe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-una presidencia personal y estable (2 años y medio renovable, y elección por mayoría cualificada) tiene la representación exterior de la UE en política exterior y de seguridad comú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Establece  un  Alto Representante de la UE para asuntos externos y política de seguridad  que tiene 3 funciones fundamenta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i.- Presidente del Consejo de Ministros del Exteri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ii.- Vice- Presidente de la Comis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iii.- Jefe del Servicio Exteri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alibri"/>
              </a:rPr>
              <a:t>6.-   Personalidad jurídica de la U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alibri"/>
              </a:rPr>
              <a:t>- Consagra esta personalidad que antes no tení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alibri"/>
              </a:rPr>
              <a:t>- Desaparece la Comunidad Europe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alibri"/>
              </a:rPr>
              <a:t>7.- Parlamento Europe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alibri"/>
              </a:rPr>
              <a:t>- Pasa a ser colegislador con el Consejo (de Ministro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alibri"/>
              </a:rPr>
              <a:t>- Además de funciones presupuestarias-políticas-consultiv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alibri"/>
              </a:rPr>
              <a:t>-máximo 750 parlamentarios: elegidos por 5 años  y por sufragio universal directo y secret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285840"/>
            <a:ext cx="822960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8.- Comisión Europ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Hasta  año 2014: 27 miembr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Después las 2/3 partes de los miembros de la U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9.-  Funciones de los Parlamentos naciona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- Los proyectos de resoluciones de las instituciones de la UE  deben ser enviado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- antes de su tramitación a los Parlamentos nacion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-los cuales tienen un plazo de 8 semanas para examinar el cumplimiento del principio de subsidiariedad en esos proyect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0T22:57:38Z</dcterms:created>
  <dc:creator>Alberto Rioseco</dc:creator>
  <dc:description/>
  <dc:language>en-US</dc:language>
  <cp:lastModifiedBy>Alberto Rioseco</cp:lastModifiedBy>
  <dcterms:modified xsi:type="dcterms:W3CDTF">2009-11-08T22:00:24Z</dcterms:modified>
  <cp:revision>27</cp:revision>
  <dc:subject/>
  <dc:title>TRATADODE  LISBOA</dc:title>
</cp:coreProperties>
</file>