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42A-CEE1-4D1B-9BAF-E64E1348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501-1F53-4121-BCC0-F792B97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B7E-045C-48FC-AF97-0413130B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BFC-4DDD-420A-8034-A0583C87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77F-2943-4DCE-A5E2-B7635BE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E15-2596-44C2-8945-BAEA02F2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9BB-C1A9-46F8-BB43-93216568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449-1D93-4001-85DA-08C8568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726-C5C8-48CE-96B3-4BE71E58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2D7-57D1-4E9A-8461-8A53E1C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ECB-B5BE-4ED2-9BE4-F296CC21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C04-2FC3-41A2-9DA7-307927D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89E-47B2-44CA-8192-7892695187A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TADODE  LISBO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Pro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Alberto Riose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Con la colaboración de la Prof. Gilda Cic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0.-  Derech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) Primac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Se elimina el artículo del TC y se adopta una Declaración: que dice que con arreglo a la jurisprudencia reiterada del Tribunal de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tratados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a legislación de la 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riman sobre el derecho de los Estados miembros.  Jurisprudencia Costa-E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b) Mayoría cualific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Se establece como regla gen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Se aplaza hasta el año 2014 la aplicación del sistem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hay un periodo transitorio hasta el año 201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mayoría cualificada esta constituida por: 55% de los Estados miembros que representen el 65% de los habitantes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c) Principio de Ioani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Un grupo de Estados que no alcanza a constituir minoría de bloque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pueden pedir que se reexamine una propuesta dentro de un plazo razon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1.-  Casos en que todavía se requiere la unanim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Han disminuido mu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Todavía continúa exigiéndose en casos excep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más importantes a  mi juicio 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s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supuest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visión de los tra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2.- Posibilidad de reti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or primera vez en la historia de la UE- se establece la posibilidad de retiro de un Estado miembro.  El tratado de Lisboa había sido rechazado por referéndum de Irlanda (cuya Constitución lo exigía).Un referéndum posterior recibió  la aprobación; y con la aprobación del Reino Unido, de Polonia y República Checa, se obtuvieron  las 27ratificaione, el 3 de Noviembre de 2009; y entró en vigor el 1 de Diciembre de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antiago Diciembre 2009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chazo tratado constitución por: Francia  y Países Bajos (200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Se inicia periodo de reflexión: sin grandes avan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nsejo Europeo pide a Alema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Que prepare proyecto para solucionar el impasse ( Junio 200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claración de Berlín: 27 de marzo de 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ogros y desafí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e refiere a la necesidad de dar a Europa fundamento renovado.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a urgencia de reformas estructu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ejo Europeo de Bruselas (21 y 22 de Junio de 200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Bajo presidencia alem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 Aprueba un texto con el nombre de mandato destinado a la Conferencia Intergubernamental (CIG): que contiene principios y normas que deberá aprobar esa CI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irma definitiva del Tratado: La CIG aprueba el tratado de reforma, de Lisboa el 13 de diciembre de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nalidades y principales prin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.- Aumentar la eficacia y legitimidad democrática de la  UE., y la coherencia  de su  acción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2.- Reemplaza el tratado constitución, pero conserva mas del 80% de sus n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3.-No contiene normas constitucionales, lo que facilita su ratifi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s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utiliza el termino constitu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emplea la expresión ministro sino Alto Representante de Asuntos Exteriores y Defens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Las expresiones ley y ley marco, se eliminan y se vuelven a llamar Reglamentos y Directiv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figuran los símbol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Desaparece la referencia a la primacía, pero se señala el papel de la jurispru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se incluye en el texto la Carta de Derechos Fundamentales, pero se afirma su carácter vinculante, a través de un protoco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4._ Abandona la idea de texto ún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n cambio modifica tratado existen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UE. Maastricht 1992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de Paris 1957. Comunidad Económica Europea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-Pasa a ser tratado sobre el funcionamiento de la U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5.-  Institu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) Modificaciones para adaptación a nuevas condicion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(Globalización y 27 Estado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democratiz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mejoramiento de la proyección exteri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l Consejo Europeo pasa a ser Institución. –que se suma a las 4 clásicas (Parlamento- Consejo de ministros- Comisión- y Tribunal  de Justic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 en el  Consejo Europ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una presidencia personal y estable (2 años y medio renovable, y elección por mayoría cualificada) tiene la representación exterior de la UE en política exterior y de seguridad comú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  un  Alto Representante de la UE para asuntos externos y política de seguridad  que tiene 3 funciones fundamen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.- Presidente del Consejo de Ministros del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.- Vice- Presidente de la Co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i.- Jefe del Servicio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6.-   Personalidad jurídica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Consagra esta personalidad que antes no ten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Desaparece la Comunidad Europ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7.- Parlamento Europ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Pasa a ser colegislador con el Consejo (de Ministr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de funciones presupuestarias-políticas-consultiv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máximo 750 parlamentarios: elegidos por 5 años  y por sufragio universal directo y secre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8.- Comisión Europ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Hasta  año 2014: 27 mi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spués las 2/3 partes de los miembros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9.-  Funciones de los Parlamentos nacion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Los proyectos de resoluciones de las instituciones de la UE  deben ser envi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antes de su tramitación a los Parlamentos 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cuales tienen un plazo de 8 semanas para examinar el cumplimiento del principio de subsidiariedad en esos proy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2:57:38Z</dcterms:created>
  <dc:creator>Alberto Rioseco</dc:creator>
  <dc:description/>
  <dc:language>en-US</dc:language>
  <cp:lastModifiedBy>Alberto Rioseco</cp:lastModifiedBy>
  <dcterms:modified xsi:type="dcterms:W3CDTF">2009-11-08T22:00:24Z</dcterms:modified>
  <cp:revision>27</cp:revision>
  <dc:subject/>
  <dc:title>TRATADODE  LISBOA</dc:title>
</cp:coreProperties>
</file>