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AB4-3BDB-44A5-AF28-36B2197F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797-A517-4534-B818-A9E37880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ED6-52CC-446C-B2D4-BE5CD1F9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AA8-9ACD-4D17-A585-AA544017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2A3-20FC-4F38-BDE4-7B584971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2D7-E918-48D8-8875-DC81C2A2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FF0-5DD6-4887-9774-11F6ACA0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FE8-8A4D-4627-A0AF-0FC4952E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2DE-0BE2-4A81-B686-AB308F33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BEF-8779-489E-AA05-714D407C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871-CAD9-4750-BD24-F26A4911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22A-6B6E-41F2-A3D9-FDA6D419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769B-9509-41C2-84D8-FFCC691BD0F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TRATADODE  LISBOA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Arial Black"/>
              </a:rPr>
              <a:t>Pro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Arial Black"/>
              </a:rPr>
              <a:t>Alberto Riosec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Arial Black"/>
              </a:rPr>
              <a:t>Con la colaboración de la Prof. Gilda Cic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0.-  Derecho de la 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) Primací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Se elimina el artículo del TC y se adopta una Declaración: que dice que con arreglo a la jurisprudencia reiterada del Tribunal de Justi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Los tratados 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la legislación de la 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priman sobre el derecho de los Estados miembros.  Jurisprudencia Costa-En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4996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b) Mayoría cualific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Se establece como regla gen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Se aplaza hasta el año 2014 la aplicación del sistem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Además hay un periodo transitorio hasta el año 2017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La mayoría cualificada esta constituida por: 55% de los Estados miembros que representen el 65% de los habitantes de la U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c) Principio de Ioanin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Un grupo de Estados que no alcanza a constituir minoría de bloque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pueden pedir que se reexamine una propuesta dentro de un plazo razon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2840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1.-  Casos en que todavía se requiere la unanimida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 Han disminuido mu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Todavía continúa exigiéndose en casos excepc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os más importantes a  mi juicio 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lítica ex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isc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lítica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resupuesto de la 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visión de los trat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2.- Posibilidad de retir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Por primera vez en la historia de la UE- se establece la posibilidad de retiro de un Estado miembro.  El tratado de Lisboa había sido rechazado por referéndum de Irlanda (cuya Constitución lo exigía).Un referéndum posterior recibió  la aprobación; y con la aprobación del Reino Unido, de Polonia y República Checa, se obtuvieron  las 27ratificaione, el 3 de Noviembre de 2009; y entró en vigor el 1 de Diciembre de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antiago Diciembre 2009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Antecedentes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Rechazo tratado constitución por: Francia  y Países Bajos (2005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Se inicia periodo de reflexión: sin grandes avanc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Consejo Europeo pide a Alema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Que prepare proyecto para solucionar el impasse ( Junio 2006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Declaración de Berlín: 27 de marzo de 200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xpresa logros y desafí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Se refiere a la necesidad de dar a Europa fundamento renovado.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xpresa la urgencia de reformas estructur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nsejo Europeo de Bruselas (21 y 22 de Junio de 2007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Bajo presidencia aleman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- Aprueba un texto con el nombre de mandato destinado a la Conferencia Intergubernamental (CIG): que contiene principios y normas que deberá aprobar esa CI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irma definitiva del Tratado: La CIG aprueba el tratado de reforma, de Lisboa el 13 de diciembre de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inalidades y principales princip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.- Aumentar la eficacia y legitimidad democrática de la  UE., y la coherencia  de su  acción ex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2.- Reemplaza el tratado constitución, pero conserva mas del 80% de sus nor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3.-No contiene normas constitucionales, lo que facilita su ratific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Así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utiliza el termino constitució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emplea la expresión ministro sino Alto Representante de Asuntos Exteriores y Defens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Las expresiones ley y ley marco, se eliminan y se vuelven a llamar Reglamentos y Directiv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figuran los símbol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Desaparece la referencia a la primacía, pero se señala el papel de la jurisprudenc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se incluye en el texto la Carta de Derechos Fundamentales, pero se afirma su carácter vinculante, a través de un protoco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4._ Abandona la idea de texto únic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En cambio modifica tratado existent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Tratado UE. Maastricht 1992. Consolid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Tratado de Paris 1957. Comunidad Económica Europea. Consolid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-Pasa a ser tratado sobre el funcionamiento de la U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5.-  Institucion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a) Modificaciones para adaptación a nuevas condicion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(Globalización y 27 Estado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Y democratizació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Y mejoramiento de la proyección exteri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El Consejo Europeo pasa a ser Institución. –que se suma a las 4 clásicas (Parlamento- Consejo de ministros- Comisión- y Tribunal  de Justici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rea en el  Consejo Europe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una presidencia personal y estable (2 años y medio renovable, y elección por mayoría cualificada) tiene la representación exterior de la UE en política exterior y de seguridad comú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ablece  un  Alto Representante de la UE para asuntos externos y política de seguridad  que tiene 3 funciones fundament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.- Presidente del Consejo de Ministros del Ex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i.- Vice- Presidente de la Comi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ii.- Jefe del Servicio Ex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6.-   Personalidad jurídica de la U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Consagra esta personalidad que antes no ten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Desaparece la Comunidad Europe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7.- Parlamento Europe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Pasa a ser colegislador con el Consejo (de Ministr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Además de funciones presupuestarias-políticas-consultiv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máximo 750 parlamentarios: elegidos por 5 años  y por sufragio universal directo y secre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8.- Comisión Europ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Hasta  año 2014: 27 miemb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spués las 2/3 partes de los miembros de la 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9.-  Funciones de los Parlamentos nacion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 Los proyectos de resoluciones de las instituciones de la UE  deben ser envi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 antes de su tramitación a los Parlamentos nac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los cuales tienen un plazo de 8 semanas para examinar el cumplimiento del principio de subsidiariedad en esos proyec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2:57:38Z</dcterms:created>
  <dc:creator>Alberto Rioseco</dc:creator>
  <dc:description/>
  <dc:language>en-US</dc:language>
  <cp:lastModifiedBy>Alberto Rioseco</cp:lastModifiedBy>
  <dcterms:modified xsi:type="dcterms:W3CDTF">2009-11-08T22:00:24Z</dcterms:modified>
  <cp:revision>27</cp:revision>
  <dc:subject/>
  <dc:title>TRATADODE  LISBOA</dc:title>
</cp:coreProperties>
</file>