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F2F4-DF3F-4A32-9FC9-D91251078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2E84-BD79-42C5-B53A-16A7CF76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03E0-83CB-4066-91E3-A030879CB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3193-907A-44EF-BD36-9B2B999C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7726-7400-4FFC-9142-ECBAE761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C8F0-53F8-4087-A908-1388486E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D94A-88DD-4F44-949A-BAB0AE81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EB64-0027-40B4-B62F-4166FE50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85A5-BAFE-4C86-AF78-6007DF52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DEDB-687E-4B4B-A51D-EED887D3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0C88-4CFE-491D-8DD3-DAFC46A9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A710-3F9F-430C-AC6F-F96B0D41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9AA2-6FEA-4BFA-A56C-3932018E943F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TRATADODE  LISBOA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Arial Black"/>
              </a:rPr>
              <a:t>Prof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Arial Black"/>
              </a:rPr>
              <a:t>Alberto Riosec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898989"/>
                </a:solidFill>
                <a:latin typeface="Arial Black"/>
              </a:rPr>
              <a:t>Con la colaboración de la Prof. Gilda Cic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42840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10.-  Derecho de la 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a) Primací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-Se elimina el artículo del TC y se adopta una Declaración: que dice que con arreglo a la jurisprudencia reiterada del Tribunal de Justi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-Los tratados 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-la legislación de la U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-priman sobre el derecho de los Estados miembros.  Jurisprudencia Costa-En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49968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b) Mayoría cualificad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- Se establece como regla gener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-Se aplaza hasta el año 2014 la aplicación del sistem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- Además hay un periodo transitorio hasta el año 2017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La mayoría cualificada esta constituida por: 55% de los Estados miembros que representen el 65% de los habitantes de la U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c) Principio de Ioanin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-Un grupo de Estados que no alcanza a constituir minoría de bloque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-pueden pedir que se reexamine una propuesta dentro de un plazo razon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428400"/>
            <a:ext cx="82296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11.-  Casos en que todavía se requiere la unanimida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- Han disminuido much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-Todavía continúa exigiéndose en casos excepcion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Los más importantes a  mi juicio s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Política exter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Fiscal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Política so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Presupuesto de la 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Revisión de los trata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12.- Posibilidad de retir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-Por primera vez en la historia de la UE- se establece la posibilidad de retiro de un Estado miembro.  El tratado de Lisboa había sido rechazado por referéndum de Irlanda (cuya Constitución lo exigía).Un referéndum posterior recibió  la aprobación; y con la aprobación del Reino Unido, de Polonia y República Checa, se obtuvieron  las 27ratificaione, el 3 de Noviembre de 2009; y entró en vigor el 1 de Diciembre de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Santiago Diciembre 2009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Antecedentes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Rechazo tratado constitución por: Francia  y Países Bajos (2005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Se inicia periodo de reflexión: sin grandes avanc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Consejo Europeo pide a Alemani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Que prepare proyecto para solucionar el impasse ( Junio 2006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Declaración de Berlín: 27 de marzo de 200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Expresa logros y desafí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Se refiere a la necesidad de dar a Europa fundamento renovado. 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Expresa la urgencia de reformas estructura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Consejo Europeo de Bruselas (21 y 22 de Junio de 2007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Bajo presidencia alemana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- Aprueba un texto con el nombre de mandato destinado a la Conferencia Intergubernamental (CIG): que contiene principios y normas que deberá aprobar esa CIG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Firma definitiva del Tratado: La CIG aprueba el tratado de reforma, de Lisboa el 13 de diciembre de 2007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Finalidades y principales principi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1.- Aumentar la eficacia y legitimidad democrática de la  UE., y la coherencia  de su  acción exter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2.- Reemplaza el tratado constitución, pero conserva mas del 80% de sus nor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3.-No contiene normas constitucionales, lo que facilita su ratific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Así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No utiliza el termino constitució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No emplea la expresión ministro sino Alto Representante de Asuntos Exteriores y Defens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Las expresiones ley y ley marco, se eliminan y se vuelven a llamar Reglamentos y Directiva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No figuran los símbolo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Desaparece la referencia a la primacía, pero se señala el papel de la jurisprudenci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No se incluye en el texto la Carta de Derechos Fundamentales, pero se afirma su carácter vinculante, a través de un protocol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428400"/>
            <a:ext cx="91440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4._ Abandona la idea de texto único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En cambio modifica tratado existent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Tratado UE. Maastricht 1992. Consolidad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Tratado de Paris 1957. Comunidad Económica Europea. Consolidad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-Pasa a ser tratado sobre el funcionamiento de la U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5.-  Institucion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a) Modificaciones para adaptación a nuevas condicione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(Globalización y 27 Estado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Y democratizació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Y mejoramiento de la proyección exterio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alibri"/>
              </a:rPr>
              <a:t>El Consejo Europeo pasa a ser Institución. –que se suma a las 4 clásicas (Parlamento- Consejo de ministros- Comisión- y Tribunal  de Justici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Crea en el  Consejo Europe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-una presidencia personal y estable (2 años y medio renovable, y elección por mayoría cualificada) tiene la representación exterior de la UE en política exterior y de seguridad comú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stablece  un  Alto Representante de la UE para asuntos externos y política de seguridad  que tiene 3 funciones fundament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i.- Presidente del Consejo de Ministros del Exter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ii.- Vice- Presidente de la Comis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iii.- Jefe del Servicio Exter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6.-   Personalidad jurídica de la U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- Consagra esta personalidad que antes no tení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- Desaparece la Comunidad Europe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7.- Parlamento Europe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- Pasa a ser colegislador con el Consejo (de Ministro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- Además de funciones presupuestarias-políticas-consultiv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-máximo 750 parlamentarios: elegidos por 5 años  y por sufragio universal directo y secret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85840"/>
            <a:ext cx="8229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8.- Comisión Europ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Hasta  año 2014: 27 miembr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Después las 2/3 partes de los miembros de la 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9.-  Funciones de los Parlamentos nacion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- Los proyectos de resoluciones de las instituciones de la UE  deben ser enviad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- antes de su tramitación a los Parlamentos nacion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-los cuales tienen un plazo de 8 semanas para examinar el cumplimiento del principio de subsidiariedad en esos proyect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22:57:38Z</dcterms:created>
  <dc:creator>Alberto Rioseco</dc:creator>
  <dc:description/>
  <dc:language>en-US</dc:language>
  <cp:lastModifiedBy>Alberto Rioseco</cp:lastModifiedBy>
  <dcterms:modified xsi:type="dcterms:W3CDTF">2009-11-08T22:00:24Z</dcterms:modified>
  <cp:revision>27</cp:revision>
  <dc:subject/>
  <dc:title>TRATADODE  LISBOA</dc:title>
</cp:coreProperties>
</file>