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6E2-888F-4AFD-B50B-DB8B4D16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14B-01AF-4D69-B455-2D0E9B54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117-CE1B-4C37-A1B2-432F47EA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9929-28EA-4140-B452-DE9F0D3B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A57F9-B68E-4EAF-9BF1-F60EF7C0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D5AFC-B07E-44F4-9CFE-6A772447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9950F-5B29-4A62-8BF9-D6C88ABF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B1249-5823-4CCC-9E91-6A1F1FBB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A0AA3-9079-4943-9659-2B0A837C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30083-AC79-4D8C-81AB-BD3BC308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602A1-6534-498B-BAA7-7ABBA81F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360-470A-4876-A78D-61F526B5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DBA61-0C7B-4D6A-B428-A334ECF0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073C5-B63D-4CC4-A9D1-0E6E040E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18E1A-4B2D-4A16-B377-EB0A19DE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A42DD-B840-484E-B6C3-02F817E8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D6FB1-FBA7-4A96-86F2-C7C72E62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817-48B9-45E2-94CE-347F0355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CAE-47BC-409B-947D-E4231A1A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195-CA8C-4633-B8B3-DE159697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0FA-E8C1-45EE-98BB-37F6B18D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98B-5F02-4DF7-B068-6967EF46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7D9-1416-496E-B024-139F67B7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781-E58A-4A1A-B5B4-0E0EB2F3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A000-1B6E-425A-858E-E3D34F01A145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2440-ABB8-4082-8BB5-448ECFC4C949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osmejoresdestinos.com/bandera_argentina.gif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www.fenaboja.com/fenaboja_hp_sp/img/bandera%2520de%2520bolivia.png&amp;imgrefurl=http://www.fenaboja.com/fenaboja_hp_sp/historia_y_geografia_de_bolivia_sp.htm&amp;h=300&amp;w=450&amp;sz=10&amp;hl=es&amp;start=2&amp;um=1&amp;tbnid=MXU3lxJTfI9pPM:&amp;tbnh=85&amp;tbnw=127&amp;prev=/images%3Fq%3Dbandera%2Bboliviana%26um%3D1%26hl%3Des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l/imgres?imgurl=http://usuarios.lycos.es/elfolklorcolombiano/images/mapas/bandera%2520de%2520colombia.png&amp;imgrefurl=http://usuarios.lycos.es/elfolklorcolombiano/FOLKLOR/El%2520Escudo.htm&amp;h=360&amp;w=540&amp;sz=2&amp;hl=es&amp;start=2&amp;um=1&amp;tbnid=wZWF_n20JNocBM:&amp;tbnh=88&amp;tbnw=132&amp;prev=/images%3Fq%3Dbandera%2Bcolombiana%26um%3D1%26hl%3Des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l/imgres?imgurl=http://eurosento.files.wordpress.com/2008/01/bandera_cubana_nueva.jpg&amp;imgrefurl=http://eurosento.wordpress.com/2008/01/22/%25C2%25BFelecciones-en-cuba-%25C2%25BFpero-esto-que-es/&amp;h=302&amp;w=602&amp;sz=51&amp;hl=es&amp;start=2&amp;um=1&amp;tbnid=v97flaik4gor5M:&amp;tbnh=68&amp;tbnw=135&amp;prev=/images%3Fq%3Dbandera%2Bcubana%26um%3D1%26hl%3Des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l/imgres?imgurl=http://usuarios.lycos.es/lockinghooks/350px-Bandera_de_Chile.png&amp;imgrefurl=http://usuarios.lycos.es/lockinghooks/index3.html&amp;h=234&amp;w=350&amp;sz=4&amp;hl=es&amp;start=2&amp;um=1&amp;tbnid=_0jhSpjvFGSTiM:&amp;tbnh=80&amp;tbnw=120&amp;prev=/images%3Fq%3Dbandera%2Bchilena%26um%3D1%26hl%3Des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l/imgres?imgurl=http://www.voltairenet.org/IMG/jpg/WEB_BANDERA-ECUADOR.jpg&amp;imgrefurl=http://www.voltairenet.org/article149101.html&amp;h=293&amp;w=390&amp;sz=11&amp;hl=es&amp;start=1&amp;um=1&amp;tbnid=ZwD1f-K9492SHM:&amp;tbnh=92&amp;tbnw=123&amp;prev=/images%3Fq%3Dbandera%2Becuatoriana%26um%3D1%26hl%3Des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l/imgres?imgurl=http://hoqueiempatins.files.wordpress.com/2007/06/bandera-espana.jpg&amp;imgrefurl=http://hoqueiempatins.wordpress.com/2007/06/05/espanha-prepara-mundial-montreux-2007/&amp;h=500&amp;w=750&amp;sz=21&amp;hl=es&amp;start=3&amp;um=1&amp;tbnid=-mOvImjZICAcuM:&amp;tbnh=94&amp;tbnw=141&amp;prev=/images%3Fq%3Dbandera%2Bespa%25C3%25B1ola%26um%3D1%26hl%3Des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l/imgres?imgurl=http://www.geocities.com/latinoamericalibertaria2002/BanderaMexicana&amp;imgrefurl=http://www.geocities.com/latinoamericalibertaria2002/&amp;h=209&amp;w=365&amp;sz=12&amp;hl=es&amp;start=9&amp;um=1&amp;tbnid=KiwsRh65jjGX4M:&amp;tbnh=69&amp;tbnw=121&amp;prev=/images%3Fq%3Dbandera%2Bmexicana%26um%3D1%26hl%3Des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l/imgres?imgurl=http://www.empacol.org/site/images/stories/bandera_pma.gif&amp;imgrefurl=http://www.empacol.org/site/index.php%3Foption%3Dcontent%26task%3Dview%26id%3D17%26Itemid%3D36&amp;h=256&amp;w=384&amp;sz=4&amp;hl=es&amp;start=1&amp;um=1&amp;tbnid=0hNKJLa5WkV1yM:&amp;tbnh=82&amp;tbnw=123&amp;prev=/images%3Fq%3Dbandera%2Bpaname%25C3%25B1a%26um%3D1%26hl%3Des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l/imgres?imgurl=http://wonderfulflowers.biz/catalogo/images/bandera-paraguay.png&amp;imgrefurl=http://www.wonderfulflowers.biz/catalogo/index.php%3FcPath%3D72&amp;h=300&amp;w=500&amp;sz=3&amp;hl=es&amp;start=1&amp;um=1&amp;tbnid=c3M8VTJswXC9OM:&amp;tbnh=78&amp;tbnw=130&amp;prev=/images%3Fq%3Dbandera%2Bparaguaya%26um%3D1%26hl%3Des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l/imgres?imgurl=http://www.derecho.usmp.edu.pe/itaest2003/itaest4/bandera%2520peru.jpg&amp;imgrefurl=http://angelitadiablitax100pre.spaces.live.com/blog/cns!ADBC3D8EC80DD8C0!246.entry&amp;h=298&amp;w=413&amp;sz=25&amp;hl=es&amp;start=3&amp;um=1&amp;tbnid=V0rn9Zk3MoEaCM:&amp;tbnh=90&amp;tbnw=125&amp;prev=/images%3Fq%3Dbandera%2Bperuana%26um%3D1%26hl%3Des" TargetMode="External"/><Relationship Id="rId22" Type="http://schemas.openxmlformats.org/officeDocument/2006/relationships/image" Target="../media/image11.jpeg"/><Relationship Id="rId23" Type="http://schemas.openxmlformats.org/officeDocument/2006/relationships/image" Target="../media/image12.jpeg"/><Relationship Id="rId24" Type="http://schemas.openxmlformats.org/officeDocument/2006/relationships/image" Target="../media/image13.jpeg"/><Relationship Id="rId2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885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e3e3ff"/>
                </a:solidFill>
                <a:latin typeface="Times New Roman"/>
              </a:rPr>
              <a:t>EL</a:t>
            </a:r>
            <a:br>
              <a:rPr sz="6600"/>
            </a:br>
            <a:r>
              <a:rPr b="1" i="1" lang="es-ES" sz="6600" spc="-1" strike="noStrike">
                <a:solidFill>
                  <a:srgbClr val="e3e3ff"/>
                </a:solidFill>
                <a:latin typeface="Times New Roman"/>
              </a:rPr>
              <a:t>CONVENIO ANDRÉS BELLO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066680" cy="688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304920"/>
            <a:ext cx="1143000" cy="765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304920"/>
            <a:ext cx="1066680" cy="71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38480" y="228600"/>
            <a:ext cx="106704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4120" y="30492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553080" y="304920"/>
            <a:ext cx="106704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848720" y="304920"/>
            <a:ext cx="1066680" cy="711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04920" y="5029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752480" y="5029200"/>
            <a:ext cx="1143000" cy="76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352680" y="5029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876920" y="5029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3"/>
          <a:stretch/>
        </p:blipFill>
        <p:spPr>
          <a:xfrm>
            <a:off x="6248520" y="5029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4"/>
          <a:stretch/>
        </p:blipFill>
        <p:spPr>
          <a:xfrm>
            <a:off x="7620120" y="5029200"/>
            <a:ext cx="1143000" cy="75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87304-FA66-43CD-AFC2-CF7E365292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asi 20 años después, con la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solución 12/95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ordó: “Encomendar al Convenio Andrés Bello pa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poner un programa conjunto con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organizaciones de Naciones Unidas, UNESCO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CEF y FAO, que permita promover y realiz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ciones para que los niños reciban educació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limentación y salud en los establecimien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colares.........” (Art. 2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En la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ltura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se promueve el establecimiento p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rte de cada país, de políticas que contemplen 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dios para a difusión de los valores culturales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sto de los países del Convenio, así como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ervación, revaloración, y difusión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anifestaciones culturales propias de la reg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897-32B5-492A-94A1-9FD550180F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cuanto a l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iencia y la tecnologí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, se plant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mo condición previa al establecimiento de l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olíticas antes mencionadas, lo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La fijación de una política “...que contemple (....)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os medios para el fortalecimient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fraestructura necesari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El desarrollo e intercambio de proyecto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vestigación en sus diversas secuencias científ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 la finalidad de obtener en un mediano plazo el u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generalizado de elementos tecnológicos propi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El desarrollo de proyectos encaminados a instaurar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quilibrio ecológico, mediante la conservación de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recursos naturales y la preservación del ambient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BA0-DAB7-4CAC-8EA4-7911F3AEE6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3e3ff"/>
                </a:solidFill>
                <a:latin typeface="Times New Roman"/>
              </a:rPr>
              <a:t>CARTA DE QUITO</a:t>
            </a:r>
            <a:br>
              <a:rPr sz="3200"/>
            </a:br>
            <a:r>
              <a:rPr b="0" lang="es-ES" sz="3200" spc="-1" strike="noStrike">
                <a:solidFill>
                  <a:srgbClr val="e3e3ff"/>
                </a:solidFill>
                <a:latin typeface="Times New Roman"/>
              </a:rPr>
              <a:t>Quito, 1978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1720" y="1679400"/>
            <a:ext cx="80805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principal aporte consistió 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echo de haber establecido los mecanismos y accio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permitieron la implementación de las políticas del C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unciadas en las Declaraciones anteriormente expuesta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medio de las siguientes medida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La adopción de la estructura orgánica del Conven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eación de los organismos descentralizados y de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isiones Asesora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eación del Fondo de Financiamien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dopción de la tabla de equivalencias de estudio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maria y secundaria de los países signatari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407-C636-4D09-929B-BFFD60DF2A6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98400" y="609120"/>
            <a:ext cx="77724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5.-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Reconocimiento por medio de normas leg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cada país del Convenio de estudios primario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 de enseñanza básica, realizados en cualquie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os países signatari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6.-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Inicio de la armonización de las políticas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desarrollo científico-tecnológ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estudio de tecnologías apropiadas a la realid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os países del Conveni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AA8-69BC-452B-A075-C75C20F4EF1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42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"/>
            <a:ext cx="853452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STRUCTURA D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VENIO ANDRÉS B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BJETIV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fortalecer el papel del Convenio Andrés Bello como mecan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 en el objetivo de la integración, éste se acompaña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rumentos organizacionales que pueden actuar directamente en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ción de dicho val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mente, el C.A.B. Se compone de las siguientes entidad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NIÓN DE MINISTROS DE EDUCACIÓN DE L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ES MIEMBROS DEL CONVENIO ANDRÉS BELLO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E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Reunión de Ministros de Educación de los Paí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embros, REMECAB, es la autoridad superior de la organización. 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 fijar la política del Organismo teniendo presente,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, las necesidades y las prioridades de las políticas nacionale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aíses miembros, los cambios que se observan en las rela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 en los campos de la educación, la ciencia y tecnología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ultura, énfasis en la integración region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B98-70E9-4AAB-84FC-35A86E37C87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ECRETARÍA EJECUTIVA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DEL CONVENIO ANDRÉS BEL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–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órgano administrativo y ejecutivo superior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. Su titular es el Secretario Ejecutivo, representante legal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 y su más alto funcionario administrativo. Es el respons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 la REMECAB del cumplimiento adecuado de las funcion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l CAB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sede está en Bogotá y goza del reconocimiento especial de 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ería jurídica de derecho internacional que ejerce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ación del CAB, de acuerdo con el Tratado suscrito entre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colombiano y la SECAB, conocido como Acuerdo de Se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CAB, firmado el 4 de septiembre de 197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830-4993-40DC-90D1-D9B493220E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LA COMISIÓN ASESORA PRINCIPAL –CAP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rgano técnico auxiliar de la REMECAB y está conformada por 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arías Nacionales, SENC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LAS SECRETARÍAS NACIONALES –SEN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peran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Ministerios de Educación de los países signatarios. Son 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rgadas de los asuntos relacionados con el Convenio en c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constituyen en el enlace entre los gobiernos de dichos países y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454-1026-4DFF-80ED-E005021E55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ENTIDADES ESPECIALIZADAS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 ent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izadas que tienen como objetivo contribuir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opósitos integracionistas del 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son las siguient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Instituto Internacional de Integración (III)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 a la formación de recursos humanos al m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o nivel. Su sede se ubica en la ciudad de La Paz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livia. www.iiicab.org.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Instituto Iberoamericano de Patrimonio Natural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(IPANC)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baja en el ámbito de la cul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iendo énfasis en las artes populares. Su sede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bica en la ciudad de Quito, Ecuador. (Con anterioridad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nominó Instituto Andino de Artes Popular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pan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5E9-CC3F-4ECD-9316-0EBCB69C45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Instituto de Transferencia de Tecn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piadas para Sectores Marginales (ITACAB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jora la calidad de vida de los sectores marginales a travé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desarrollo de soluciones integrales para la superación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obreza. Su sede su ubica en la ciudad de Lima, Per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www.itacab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A12-BE98-4105-9370-7474AD0D48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a importancia de la educación en 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C.A.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esta materia, se deben considerar los siguientes proyectos efectuados por el CAB a través del tiemp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1.-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LA ARMONIZACIÓN DE LOS SISTEMAS EDUCATIV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te es un programa emblemático en el área de educación, y es el que fundamentalmente le confiere carácter integracionista al proceso desarrollado por el 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38B-0484-4C71-8F79-789E4993B4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98400" y="3808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CLARACIÓN DE PUERTO ESPAÑ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inidad y Tobago, 31 Junio 19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us principales aportes al CAB fueron los siguien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ORI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Reunión del Consejo Interamericano cultural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rimer paso hacia la integración cultural”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RATADO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: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Se suscribió el 31 de enero de 19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menzó a regir el 24 de noviembre de 19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PAÍSES FUNDADORE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Bolivia, Chile, Colombia, Ecuador, Perú 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Venezue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NOMBRE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“Organización del Convenio Andrés Bello 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ntegración educativa, científica, tecnológica 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ultural. “En reconocimiento al insigne humanis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ericano”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PAÍSES MIEMBRO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: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(Argentina), Bolivia, Colombia, Cuba, Chile, Ecuad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paña, México, Panamá, Paraguay, 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República Dominicana y Venezue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4B8-6F62-47F6-BFB2-1FB7E14E5E5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Histori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La armonización de los sistemas educativos f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templada en el Capítulo IV del primitivo Convenio;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us artículos 21 a 25 expresaba:”reconocer los estudi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imarios o de enseñanza básica realizados en cualquiera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os países signatario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art. 24, contemplaba una disposición muy novedosa,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que, lamentablemente, fue eliminada en el texto del nuev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ratado. Dicho artículo, planteaba como necesario planific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educación y la investigación científica y tecnológica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onancia con las necesidades de la región y principal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nte las derivadas de la integración económica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íses signa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l Tratado de la Organización del CAB, artículo 2 letra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tituye un objetivo lograr un adecuado equilibrio en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ceso de desarrollo educativo, científico,tecnológico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ultu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D0E-BBC4-4F78-AF91-EBB6AC208E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educación, de acuerdo con su reglamento general, de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“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ener un contenido cultural” (Art. 5, letra A, Nº 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los inicios del CAB, en materia de educación esc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ministros establecieron un régimen de equivalencias 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conocen los certificados de estudios, tanto a nivel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ducación primaria o básica, como también media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cundaria. Este régimen de equivalencias fue incorpo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Anexo de la Resolución 03 de la XII REMECA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elebrada en Santiago de Chile en 198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steriormente, en el artículo 4º del Tratado-aprobado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1990- los Ministros de Educación se refirier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pecíficamente al reconocimiento de estudios al expres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B65-1C25-49A8-9206-EDACE5E332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04920"/>
            <a:ext cx="8610840" cy="34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“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Estados miembros reconocerán los estudios primarios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Enseñanza General Básica y de educación media 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cundaria, mediante tablas de equivalencia que permitan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tinuidad de los mismos o la obtención de los certific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rrespondientes a cursos, niveles, modalidades o grad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probados en cualquiera de ellos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lo señalara en el Informe de Evaluación, Fernández,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B en materia de reconocimiento de estudios ha sido pionero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o sólo en América sino en el mundo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546-7CCF-4298-B9FA-47FDFB8C59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LA ENSEÑANZA DE LA HISTORIA COMO ESTRATEGIA DE INTEGRACIÓ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l V Consejo Presidencial Andino, celebrado 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aracas, en mayo de 1991, recomendó a la SECAB 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aboración de un programa de “Enseñanza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Historia”, con el fin de lograr una mayor concienc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tegracionista entre nuestra pob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 año siguiente, la Conferencia Iberoamericana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inistros de Educación, reunida en Guadalupe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evilla en junio de 1992, y la XVI REMECAB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elebrada en agosto del mismo año en Santiago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hile, acordaron “la revisión de los programa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señanza y de los libros de textos correspondien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un mejor conocimiento y comprensión de los o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íses”, hecho que da paso a la aprobación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ye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1C5-6800-4AE0-B6BE-9E4F61B393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revisión de estos textos tenía como objetivo principal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veriguar la adecuación de éstos a “las exigencias de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ducación, para la paz, la comprensión internacional y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fensa de los derechos fundamentales de las personas, en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arco de la Resolución 74 de la UNESCO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 conclusió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la enseñanza de la historia debe enfocars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tonces, a la preservación y reforzamiento de los princip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ásicos del proceso integracionista, reforzando de est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respeto a la diferencia, el conocimiento de la histo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ún que nos une y la disposición a la construcción de 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esente y un futuro en comun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7F4-DDEB-4922-9CC9-ABDCAA51FE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98400" y="609120"/>
            <a:ext cx="77724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80880"/>
            <a:ext cx="8458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57200"/>
            <a:ext cx="8534520" cy="76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ENCUENTROS DE UNIVERSIDADES CAB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la actualidad, el CAB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la participación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es de educ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ior de Iberoamérica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reconocidos expertos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adémicos de la región, as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de univers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dagógicas, facultade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ción, institu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iores de pedagogí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s univers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das a los Doctor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 y a las Cátedra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ción CAB, realizó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o de 2008, en Quito,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uador, el I Encuentro de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versidades Andrés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ello por la Integ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A82-1BCD-4251-BFD6-B58802600CF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79640" y="1557360"/>
          <a:ext cx="5653080" cy="424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65308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F5F-9EE1-4182-AE14-88BC042271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58920" y="1341360"/>
          <a:ext cx="6408720" cy="480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341360"/>
                    <a:ext cx="640872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8A9-39EF-4F7C-881A-21AC903335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908000" y="1484280"/>
          <a:ext cx="5653440" cy="424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484280"/>
                    <a:ext cx="565344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8B3-CE70-4E4F-A808-9E6B87AB96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65280" y="1413000"/>
          <a:ext cx="6607080" cy="4956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1413000"/>
                    <a:ext cx="660708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073-52F5-4ADB-8C55-0B4EEB0424E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28600"/>
            <a:ext cx="830592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DHESION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Panamá en 1980 y España en 1982 suscribe un Protocol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dhesión.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ngresa como miembro pleno en 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uba adhiere en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éxico adhiere en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rgentina se encuentra en proceso de adhesión desde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OBJETIVO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     1.-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timular el conocimiento recíproco y la fraternidad entre el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Contribuir al logro de un adecuado equilibrio en el proceso d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sarrollo educativo, científico, tecnológico y cultur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Realizar esfuerzos conjuntos a favor de la educación, la cienci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tecnología, y la cultura para lograr el desarrollo integral de s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plicar la ciencia y la tecnología a la elevación del nivel de vi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sus pueblos, según Resolución Nº 05/90 (Art. 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contribución al proceso de integración fue fortalecida por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uerdo de Cartagena dado el retroceso que se produjo en la déca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1980, con motivo del problema que generó la deuda externa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érica Lati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586-D0F2-4D0C-A309-84B991BBB00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LA IMPORTANCIA DE LA CULTURA EN  EL C.A.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1.-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OBJETI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El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Área de Cultura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ha emprendido la tarea de genera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cenarios de reflexión y debate donde la temática cent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bedezca a la calidad de la formación o ejercicio pedagóg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que las comunidades reciben respecto de la gestión cultu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PROYECT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En este punto, especial mención merece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1.- Premio CAB Somos Patrimonio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Este premio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nternacional qu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n la actualidad cuenta con VI convocatorias realizadas y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ás de 130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xperiencias registradas de toda la región, es una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trategia que el CAB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esarrolla desde el año 1996, con la intención de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dentificar, valorar y difundi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 patrimonio natural y cultural de los países miembros,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n especial énfasi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n las experiencias comunitarias de apropiación social del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patrimonio, como estrategia de desarroll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5BC-64C1-45CD-B668-D23D19ABF0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 Las industrias culturales en sus dimensiones económic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ocial: 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jemplo de éstos son telenovelas, géneros music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literatu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.- Fortalecer los procesos de desarrollo social local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ravés de la 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de manera que la cultura sea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ncipal motor del desarrollo soc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579-A972-4919-BC3B-05BD3F92CC7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CONDECOR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condecoración “Secretaría Ejecutiva del Convenio Andrés Bello” en su categoría  máxima de Honor al Mérito, le fue conferida a la Presidenta Michelle Bachelet, el 18 de abril de 2007, en su visita oficial a  Colombia, con motivo de la 20º Feria Internacional del Libro de Bogotá, donde Chile figuró como invitado de hon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condecoración le fue entregada por la Ministra de Educación de Paraguay, en su  calidad de Presidenta de la REMECA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ex Presidente Eduardo Frei la recibió en 199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oy día  Chile preside la Reunión de Ministros de Educación (desde 200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91D-9EE0-4EA3-9C07-2030C0EE26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urante la presidencia de Chile en el CAB, la ministra Sra. Mónica Jiménez debió afrontar una crisis financiera de la Secretaría Ejecut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Ministros sostienen que de la crisis de debilidad se debe pasar a una crisis de oportun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SECAB no puede ser un ente burocrático sino un agente de acción, de aporte a la política en educación, cultura y ciencia y tecnología (…) No hay otro espacio como este en la región para propiciar la integración en lo soci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seminario que organiza el Ministerio de Educación de Chile (18 Noviembre) podrá dar la pauta a seguir para el renacer del Conven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22200" y="398520"/>
            <a:ext cx="484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risis del Conven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C0B-4944-4527-A872-3FD6D09BDF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LARACIÓN DE L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ima, 05 Febrero 197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tre sus aportes cabe menciona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RCO DOCTRINARI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filosofía que inspiró este fenómen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ntegración fue la Declaración de Lima de 5 d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ebrero de 1971, que contiene “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l Planteamiento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Doctrinario Común Sobre Política Cultura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ducacional y Tecnológica de los países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signatarios del Convenio Andrés Bello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su Considerando 1º estableció el principio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cual radica la filosofía del CAB “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la conquis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y la afirmación de la independencia cultural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los países de la región y la integración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pueblos para lograr su bienestar material y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spiritual”,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objetivo fundamental del Conve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TRIBUCIÓN A LAS RR E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ste punto destacan, tanto su ampliación,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asimismo, los vínculos de coo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 otros procesos de integración, como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RCOS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F67-CF5C-4D3B-BD88-55288762D4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EA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1.- Educación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Se pone énfasis en la importancia de la formulación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líticas educativas como parte de un proces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ransformación integral de las estructuras socio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conómicas que tengan como finalidad la particip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tiva de la población  y la eliminación de estructura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der que coarten el desarrollo y la libertad individ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 Cultura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Se establece como prioridad el fomento de la capac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readora de la población y la importancia en este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a cooperación nacional como regional, idea que sig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iendo una aspir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ste punto, la Declaración de Lima, enfatiza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mportancia que se debe dar a una política de “creació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provechamiento y asimilación selectiva de los bie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a cultura”, de manera que éstos queden al servicio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valores y tradiciones de nuestra pob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tinoamericana y que, a su vez, hagan de nexo entre és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valores y los avances del conocimien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7A2-61F1-4AC8-A924-D291345FD9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533520"/>
            <a:ext cx="86104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.- Ciencia y tecnología: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opone que la orient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as políticas respectivas a estas áreas se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strumentos a disposición del desarrollo económic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ocial y cultural de los paí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INCIPAL ENFASI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siste en la preocupación por el hombre de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ubregión Andina, idea que fue explícitamente reite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Declaración de Quit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de la X REMECAB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énfasis debe ser puesto en la promoción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sarrollo humano, concepto que se ha manteni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igente hasta a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25A-1B4A-420F-A071-EC4F7CB0D0F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762120"/>
            <a:ext cx="816948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SENSO DE CARA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racas, 197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APORT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tre ellos cabe mencionar los sigui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e se refirió a la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olítica Educacional del Áre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dina”,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fatizando el concepto de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prender a Ser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”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aciones Uni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e supone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un desarrollo correlativo de la capacida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rítica y creativa, conceptos plenamente vigentes en l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formas educativas implementadas por los paí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tinoamerica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e plantea la necesidad de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ar un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rácter social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ceso educativo, en el sentido de que es la sociedad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conjunto la que debe involucrarse en éste, como un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era de expandir las posibilidades de desarrollo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ucandos. Hoy día su vigencia tiene mucha importanc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6C5-9B64-4243-BE1D-8294136867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al como se planteara en dicha ocasión “...t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orma educacional debe inspirarse en el concep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“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Educación Permane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”, lo cual significa qu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es escuela tradicionalmente concebida, el ún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aislado lugar en que el hombre debe y pue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ducarse, sino que han de proporcionársele nuev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diversificadas posibilidades educativas,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anera que la sociedad en su conjunto sea u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ran escuela durante toda la vida del ser humano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A0A-F145-4EED-AE9B-DED57896F95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228600"/>
            <a:ext cx="853452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LARACIÓN DE BOGO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ogotá, 197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APORT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tre ellos cabe mencionar los sigui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Fijaron las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rientaciones generales para el desarroll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accione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oritarias del Convenio que sirve de marc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ferencia para el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mplimiento de sus tare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dicho documento se ratificó el concepto de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ducac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erman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en las áreas del CAB y, por primera vez, se ha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erencia a la juventud, en el sentido que las políticas y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cionar del CAB deben dirigirse fundamentalmente hacia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blación joven de la región con el fin de despertar en e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tes los valores e ideales indispensables para el logro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ta integracionista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plantea la necesidad de seguir “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desarrollo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ucación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con criterio de atención intersectori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siderando aspectos de salud y nutrición, garantizando de 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era el principio de igualdad de oportunidades.....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9DD-FC60-4645-B018-118BE19A78E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08:19:56Z</dcterms:created>
  <dc:creator>Iris Vittini</dc:creator>
  <dc:description/>
  <dc:language>en-US</dc:language>
  <cp:lastModifiedBy>WinuE</cp:lastModifiedBy>
  <dcterms:modified xsi:type="dcterms:W3CDTF">2010-10-20T18:46:49Z</dcterms:modified>
  <cp:revision>53</cp:revision>
  <dc:subject/>
  <dc:title>MERCOSUR</dc:title>
</cp:coreProperties>
</file>