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3E8-008E-46CA-A37F-DA8DFA3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C28-B613-4729-9648-C333D021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719-397A-4C2A-88BF-A64BFE6F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50A-A8FD-4A9D-B897-7EC19141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E288-0761-4C43-895B-D1D89F15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9316B-F8AA-4A45-980F-B8A13E8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4FA7A-6E57-4A0A-8CD0-69D8437D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9B6D9-8B11-492B-AD52-587DCDB4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E831-DF22-4245-A02B-4D25E5A2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9D37-DE10-47F2-9029-192EC37B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E8CE0-6FA9-48DB-A643-F61DBBE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043-577D-4D48-8712-128C7EB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6418F-F262-4A62-81E2-C5FECCA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61356-711D-46A9-9AC3-5408622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6A683-84B9-4B9F-BC00-E45C1E4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1A95-0ED4-46BD-9276-71BEBED2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AB85D-E5F9-46C5-855A-2DC21AA9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513-7435-4BC2-B1B9-6F0E028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31E-4D88-4EAD-AD8A-ADCF837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626-E2AE-469E-8C77-5D3031AB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4DD-318D-41AA-894B-9367C642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F62-E9FC-4B81-97B4-3292BCC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9CD-5743-47C1-83C0-E870F0C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C9B-FCAF-4725-BC54-7B02D68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2E4-D165-4F62-9B48-C6AC898F6AA2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6D21-DBAF-47DE-BAC0-DE6F18586EAE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6600"/>
            </a:br>
            <a:r>
              <a:rPr b="1" i="1" lang="es-ES" sz="66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04920"/>
            <a:ext cx="114300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2286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30492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53080" y="30492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48720" y="304920"/>
            <a:ext cx="1066680" cy="71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4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752480" y="502920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8769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6248520" y="5029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7620120" y="5029200"/>
            <a:ext cx="1143000" cy="7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F1A7-541D-43F9-9E47-2013AEE1A3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169-4410-44FE-8234-CD8AAF8D1B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C42-A0BB-4156-8392-A28A9F6533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C42-EED7-4E27-B872-4B75BF8A73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69D-B11A-47A4-9B5F-86B02402A7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180-6862-4061-9E1D-0D7EAA5260E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EC1-A9B0-4571-9E61-8B84519A99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801-0FFF-4223-B3DC-3FEF8F6E2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(Con anterioridad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nominó Instituto Andino de Artes Popular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891-5EE1-4E31-8012-4D50B4685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484-3A67-4595-926E-6E0A21689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D28-2C63-4A83-9D53-BD50EA693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inidad y Tobago, 31 Junio 19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s principales aportes al CAB fueron los siguien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unión del Consejo Interamericano cultural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imer paso hacia la integración cultural”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Bolivia, Chile, Colombia, Ecuador, Perú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“Organización del Convenio Andrés Bello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ultural. “En reconocimiento al insigne humanis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ericano”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: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(Argentina), Bolivia, Colombia, Cuba, Chile, Ecu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República Dominicana y Venezu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471-0C39-40B6-98BC-07D0C25CB69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591-ABE5-49F8-91FE-2034E4E495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475-3675-4E68-9CA0-7DF3D77F22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36D-08DB-4D62-8E69-325624CCDE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B49-90D4-44B9-A8B5-28361A26D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4CE-4245-4D2E-B950-5F359F7C73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57200"/>
            <a:ext cx="8534520" cy="76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 de 2008, en Quit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dor, el I Encuentro de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versidades Andrés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ello por la Integ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396-606C-41CF-B457-B0A4FB36E7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9640" y="1557360"/>
          <a:ext cx="565308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653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F80-C31B-4259-B0F6-215AD3029A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58920" y="1341360"/>
          <a:ext cx="6408720" cy="480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900-DC90-4200-83C6-B1150DF46E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1484280"/>
          <a:ext cx="5653440" cy="424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84280"/>
                    <a:ext cx="56534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7BA-1A3C-4440-9D02-6026020564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65280" y="1413000"/>
          <a:ext cx="6607080" cy="495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1413000"/>
                    <a:ext cx="660708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E5B-D6C8-4E75-91D1-5B9A675DE4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28600"/>
            <a:ext cx="830592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Panamá en 1980 y España en 1982 suscribe un Protoco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dhesión.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gresa como miembro pleno en 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ba adhiere en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rgentina se encuentra en proceso de adhesión des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0CB-022A-4572-B328-29386F890C1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ás de 1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que el CA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dentificar, valorar y difund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 especial énfas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atrimonio, como 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35D-E052-4041-AE92-126561D86B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5A6-C51C-4599-9E62-6B6B59515A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Andrés Bello” en su categoría  máxima de Honor al Mérito, le fue conferida a la Presidenta Michelle Bachelet, el 18 de abril de 2007, en su visita oficial a  Colombia, con motivo de la 20º Feria Internacional del Libro de Bogotá, donde Chile figuró como invitado de ho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Educación de Paraguay, en su  calidad de Presidenta de la REMECA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ex Presidente Eduardo Frei la recibió en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oy día  Chile preside la Reunión de Ministros de Educación (desde 200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15F-90D1-400E-8399-AED531ABFC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nte la presidencia de Chile en el CAB, la ministra Sra. Mónica Jiménez debió afrontar una crisis financiera de la Secretaría Ejecu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inistros sostienen que de la crisis de debilidad se debe pasar a una crisis de oportun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SECAB no puede ser un ente burocrático sino un agente de acción, de aporte a la política en educación, cultura y ciencia y tecnología (…) No hay otro espacio como este en la región para propiciar la integración en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seminario que organiza el Ministerio de Educación de Chile (18 Noviembre) podrá dar la pauta a seguir para el renacer del Conve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2200" y="39852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risis del Conven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86C-4454-4F3D-A3F7-A8D981A14A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C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FF4-5315-464C-B963-BA17BBE534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A5D-19B7-4543-8923-190047F584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709-C0DF-4829-8963-536D4FC2CD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Hoy día su vigencia tiene mucha importa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4F7-3552-43BB-BBBB-7DC6DF43CF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CDE-0F9D-4F14-8FB6-02A013BD4A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A51-4370-46E2-8B02-5941064696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WinuE</cp:lastModifiedBy>
  <dcterms:modified xsi:type="dcterms:W3CDTF">2010-10-20T18:46:49Z</dcterms:modified>
  <cp:revision>53</cp:revision>
  <dc:subject/>
  <dc:title>MERCOSUR</dc:title>
</cp:coreProperties>
</file>